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EBEB-88D4-45AB-8166-222DE8D9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842-9F7A-435C-B0F7-A3B195FB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4846-6CC7-4183-A0D0-64992DBB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7FD-0497-453A-8E58-EDA1D61E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7A41-4C30-4D2B-AEE2-5B162AA8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0C4A-922C-4CF8-9210-37C72042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CEE1-39D8-4FCC-B16B-67D5CE36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AE48-88F8-4E76-A262-BA41766E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DA93-BA6A-400B-8628-D568CAE6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E56E-CBB7-4B49-97A1-8AF5CA5E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1C66-2899-4164-BB46-88DE8DAB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C5DD-A374-429B-B62C-3E235382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5A7B-F8E4-43CF-9D81-C2385742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C78E-B3BD-4D0D-9892-9942F656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F53D-C31C-46EF-A64D-A0B1E4A8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B98F-5D7F-462A-A4D5-5B8E1AA5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9A34-B23F-4AD8-A465-D1E8095E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620B-A869-40C2-A33E-04877A0A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210B-EBC9-4CB2-B1B8-3634353D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03C3-A048-437B-BEA7-52F4CEF1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235E-21CC-476D-B68A-DD22037B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5DC9-F8B7-4836-B3B8-C2B3239E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9A2E-B15A-4153-9277-0DE086A8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16ED-57CD-40E3-BD38-01DD605C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93F8-36FF-40E4-B52A-A390322F7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FF3A-13E7-4448-8F29-FB4B87F60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7840" y="457200"/>
            <a:ext cx="858528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6699"/>
                </a:solidFill>
                <a:latin typeface="Arial"/>
              </a:rPr>
              <a:t>Opener:  Multiply the following fraction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Arial"/>
              </a:rPr>
              <a:t>1)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 Rounded MT Bold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371600" y="1447920"/>
          <a:ext cx="85572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8557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371600" y="9907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447920" y="3276720"/>
          <a:ext cx="95868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3276720"/>
                    <a:ext cx="9586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152800" y="973080"/>
            <a:ext cx="1079280" cy="1384200"/>
          </a:xfrm>
          <a:custGeom>
            <a:avLst/>
            <a:gdLst/>
            <a:ahLst/>
            <a:rect l="l" t="t" r="r" b="b"/>
            <a:pathLst>
              <a:path w="3002" h="3845">
                <a:moveTo>
                  <a:pt x="5978" y="2952"/>
                </a:moveTo>
                <a:cubicBezTo>
                  <a:pt x="6002" y="3092"/>
                  <a:pt x="6010" y="3133"/>
                  <a:pt x="6003" y="3225"/>
                </a:cubicBezTo>
                <a:cubicBezTo>
                  <a:pt x="6047" y="3092"/>
                  <a:pt x="6031" y="2863"/>
                  <a:pt x="6127" y="2753"/>
                </a:cubicBezTo>
                <a:cubicBezTo>
                  <a:pt x="6270" y="2590"/>
                  <a:pt x="6389" y="2799"/>
                  <a:pt x="6449" y="2902"/>
                </a:cubicBezTo>
                <a:cubicBezTo>
                  <a:pt x="6493" y="2978"/>
                  <a:pt x="6530" y="3045"/>
                  <a:pt x="6548" y="3125"/>
                </a:cubicBezTo>
              </a:path>
              <a:path w="3002" h="3845">
                <a:moveTo>
                  <a:pt x="6772" y="2704"/>
                </a:moveTo>
                <a:cubicBezTo>
                  <a:pt x="6832" y="2858"/>
                  <a:pt x="6908" y="2976"/>
                  <a:pt x="7020" y="3101"/>
                </a:cubicBezTo>
              </a:path>
              <a:path w="3002" h="3845">
                <a:moveTo>
                  <a:pt x="7069" y="2704"/>
                </a:moveTo>
                <a:cubicBezTo>
                  <a:pt x="6987" y="2868"/>
                  <a:pt x="6908" y="3028"/>
                  <a:pt x="6846" y="3200"/>
                </a:cubicBezTo>
              </a:path>
              <a:path w="3002" h="3845">
                <a:moveTo>
                  <a:pt x="7417" y="2877"/>
                </a:moveTo>
                <a:cubicBezTo>
                  <a:pt x="7417" y="2968"/>
                  <a:pt x="7417" y="2976"/>
                  <a:pt x="7417" y="3026"/>
                </a:cubicBezTo>
                <a:cubicBezTo>
                  <a:pt x="7443" y="2926"/>
                  <a:pt x="7458" y="2669"/>
                  <a:pt x="7640" y="2753"/>
                </a:cubicBezTo>
                <a:cubicBezTo>
                  <a:pt x="7837" y="2843"/>
                  <a:pt x="7789" y="3057"/>
                  <a:pt x="7764" y="3225"/>
                </a:cubicBezTo>
              </a:path>
              <a:path w="3002" h="3845">
                <a:moveTo>
                  <a:pt x="6548" y="5358"/>
                </a:moveTo>
                <a:cubicBezTo>
                  <a:pt x="6639" y="5340"/>
                  <a:pt x="6704" y="5333"/>
                  <a:pt x="6796" y="5333"/>
                </a:cubicBezTo>
              </a:path>
              <a:path w="3002" h="3845">
                <a:moveTo>
                  <a:pt x="6747" y="5705"/>
                </a:moveTo>
                <a:cubicBezTo>
                  <a:pt x="6786" y="5643"/>
                  <a:pt x="6809" y="5620"/>
                  <a:pt x="6871" y="5581"/>
                </a:cubicBezTo>
              </a:path>
              <a:path w="3002" h="3845">
                <a:moveTo>
                  <a:pt x="8161" y="4415"/>
                </a:moveTo>
                <a:cubicBezTo>
                  <a:pt x="7958" y="4459"/>
                  <a:pt x="7882" y="4569"/>
                  <a:pt x="7764" y="4738"/>
                </a:cubicBezTo>
                <a:cubicBezTo>
                  <a:pt x="7911" y="4836"/>
                  <a:pt x="8152" y="4798"/>
                  <a:pt x="8210" y="4986"/>
                </a:cubicBezTo>
                <a:cubicBezTo>
                  <a:pt x="8202" y="5019"/>
                  <a:pt x="8194" y="5052"/>
                  <a:pt x="8186" y="5085"/>
                </a:cubicBezTo>
                <a:cubicBezTo>
                  <a:pt x="7951" y="5007"/>
                  <a:pt x="8033" y="4780"/>
                  <a:pt x="8086" y="4564"/>
                </a:cubicBezTo>
                <a:cubicBezTo>
                  <a:pt x="8125" y="4447"/>
                  <a:pt x="8126" y="4428"/>
                  <a:pt x="8161" y="4366"/>
                </a:cubicBezTo>
              </a:path>
              <a:path w="3002" h="3845">
                <a:moveTo>
                  <a:pt x="7838" y="5259"/>
                </a:moveTo>
                <a:cubicBezTo>
                  <a:pt x="7961" y="5197"/>
                  <a:pt x="8167" y="5166"/>
                  <a:pt x="8310" y="5135"/>
                </a:cubicBezTo>
                <a:cubicBezTo>
                  <a:pt x="8443" y="5113"/>
                  <a:pt x="8477" y="5108"/>
                  <a:pt x="8558" y="5085"/>
                </a:cubicBezTo>
              </a:path>
              <a:path w="3002" h="3845">
                <a:moveTo>
                  <a:pt x="7863" y="5606"/>
                </a:moveTo>
                <a:cubicBezTo>
                  <a:pt x="7895" y="5787"/>
                  <a:pt x="7898" y="5980"/>
                  <a:pt x="7938" y="6152"/>
                </a:cubicBezTo>
              </a:path>
              <a:path w="3002" h="3845">
                <a:moveTo>
                  <a:pt x="8409" y="5457"/>
                </a:moveTo>
                <a:cubicBezTo>
                  <a:pt x="8333" y="5502"/>
                  <a:pt x="8186" y="5560"/>
                  <a:pt x="8136" y="5631"/>
                </a:cubicBezTo>
                <a:cubicBezTo>
                  <a:pt x="8116" y="5659"/>
                  <a:pt x="8178" y="5823"/>
                  <a:pt x="8186" y="5854"/>
                </a:cubicBezTo>
                <a:cubicBezTo>
                  <a:pt x="8260" y="5794"/>
                  <a:pt x="8433" y="5642"/>
                  <a:pt x="8533" y="5730"/>
                </a:cubicBezTo>
                <a:cubicBezTo>
                  <a:pt x="8754" y="5924"/>
                  <a:pt x="8400" y="6112"/>
                  <a:pt x="8285" y="6176"/>
                </a:cubicBezTo>
              </a:path>
              <a:path w="3002" h="3845">
                <a:moveTo>
                  <a:pt x="8458" y="4093"/>
                </a:moveTo>
                <a:cubicBezTo>
                  <a:pt x="8366" y="4050"/>
                  <a:pt x="8322" y="4048"/>
                  <a:pt x="8235" y="4043"/>
                </a:cubicBezTo>
                <a:cubicBezTo>
                  <a:pt x="8123" y="4037"/>
                  <a:pt x="7995" y="4062"/>
                  <a:pt x="7888" y="4093"/>
                </a:cubicBezTo>
                <a:cubicBezTo>
                  <a:pt x="7785" y="4123"/>
                  <a:pt x="7739" y="4168"/>
                  <a:pt x="7665" y="4242"/>
                </a:cubicBezTo>
                <a:cubicBezTo>
                  <a:pt x="7587" y="4320"/>
                  <a:pt x="7541" y="4344"/>
                  <a:pt x="7491" y="4440"/>
                </a:cubicBezTo>
                <a:cubicBezTo>
                  <a:pt x="7430" y="4558"/>
                  <a:pt x="7440" y="4658"/>
                  <a:pt x="7417" y="4787"/>
                </a:cubicBezTo>
                <a:cubicBezTo>
                  <a:pt x="7397" y="4902"/>
                  <a:pt x="7417" y="5013"/>
                  <a:pt x="7417" y="5135"/>
                </a:cubicBezTo>
                <a:cubicBezTo>
                  <a:pt x="7417" y="5246"/>
                  <a:pt x="7435" y="5348"/>
                  <a:pt x="7441" y="5457"/>
                </a:cubicBezTo>
                <a:cubicBezTo>
                  <a:pt x="7448" y="5577"/>
                  <a:pt x="7464" y="5637"/>
                  <a:pt x="7491" y="5755"/>
                </a:cubicBezTo>
                <a:cubicBezTo>
                  <a:pt x="7519" y="5880"/>
                  <a:pt x="7559" y="6003"/>
                  <a:pt x="7590" y="6127"/>
                </a:cubicBezTo>
                <a:cubicBezTo>
                  <a:pt x="7606" y="6191"/>
                  <a:pt x="7635" y="6319"/>
                  <a:pt x="7665" y="6375"/>
                </a:cubicBezTo>
                <a:cubicBezTo>
                  <a:pt x="7699" y="6439"/>
                  <a:pt x="7781" y="6481"/>
                  <a:pt x="7838" y="6499"/>
                </a:cubicBezTo>
                <a:cubicBezTo>
                  <a:pt x="7924" y="6527"/>
                  <a:pt x="7997" y="6508"/>
                  <a:pt x="8086" y="6524"/>
                </a:cubicBezTo>
                <a:cubicBezTo>
                  <a:pt x="8159" y="6537"/>
                  <a:pt x="8211" y="6546"/>
                  <a:pt x="8285" y="6548"/>
                </a:cubicBezTo>
                <a:cubicBezTo>
                  <a:pt x="8389" y="6551"/>
                  <a:pt x="8482" y="6534"/>
                  <a:pt x="8582" y="6524"/>
                </a:cubicBezTo>
                <a:cubicBezTo>
                  <a:pt x="8658" y="6516"/>
                  <a:pt x="8708" y="6505"/>
                  <a:pt x="8781" y="6474"/>
                </a:cubicBezTo>
                <a:cubicBezTo>
                  <a:pt x="8896" y="6425"/>
                  <a:pt x="8855" y="6425"/>
                  <a:pt x="8905" y="6325"/>
                </a:cubicBezTo>
                <a:cubicBezTo>
                  <a:pt x="8965" y="6205"/>
                  <a:pt x="8969" y="6062"/>
                  <a:pt x="8979" y="5928"/>
                </a:cubicBezTo>
                <a:cubicBezTo>
                  <a:pt x="8997" y="5680"/>
                  <a:pt x="8974" y="5428"/>
                  <a:pt x="8954" y="5184"/>
                </a:cubicBezTo>
                <a:cubicBezTo>
                  <a:pt x="8945" y="5082"/>
                  <a:pt x="8933" y="4989"/>
                  <a:pt x="8930" y="4887"/>
                </a:cubicBezTo>
                <a:cubicBezTo>
                  <a:pt x="8927" y="4777"/>
                  <a:pt x="8892" y="4672"/>
                  <a:pt x="8880" y="4564"/>
                </a:cubicBezTo>
                <a:cubicBezTo>
                  <a:pt x="8868" y="4456"/>
                  <a:pt x="8854" y="4355"/>
                  <a:pt x="8781" y="4266"/>
                </a:cubicBezTo>
                <a:cubicBezTo>
                  <a:pt x="8730" y="4203"/>
                  <a:pt x="8711" y="4180"/>
                  <a:pt x="8632" y="4167"/>
                </a:cubicBezTo>
                <a:cubicBezTo>
                  <a:pt x="8564" y="4156"/>
                  <a:pt x="8509" y="4161"/>
                  <a:pt x="8434" y="41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78000" y="1152360"/>
            <a:ext cx="671400" cy="204840"/>
          </a:xfrm>
          <a:custGeom>
            <a:avLst/>
            <a:gdLst/>
            <a:ahLst/>
            <a:rect l="l" t="t" r="r" b="b"/>
            <a:pathLst>
              <a:path w="1862" h="571">
                <a:moveTo>
                  <a:pt x="6052" y="3398"/>
                </a:moveTo>
                <a:cubicBezTo>
                  <a:pt x="6507" y="3323"/>
                  <a:pt x="6979" y="3235"/>
                  <a:pt x="7441" y="3200"/>
                </a:cubicBezTo>
                <a:cubicBezTo>
                  <a:pt x="7593" y="3188"/>
                  <a:pt x="7758" y="3200"/>
                  <a:pt x="7913" y="3200"/>
                </a:cubicBezTo>
              </a:path>
              <a:path w="1862" h="571">
                <a:moveTo>
                  <a:pt x="6747" y="3621"/>
                </a:moveTo>
                <a:cubicBezTo>
                  <a:pt x="6677" y="3483"/>
                  <a:pt x="6601" y="3397"/>
                  <a:pt x="6424" y="3473"/>
                </a:cubicBezTo>
                <a:cubicBezTo>
                  <a:pt x="6254" y="3546"/>
                  <a:pt x="6226" y="3621"/>
                  <a:pt x="6226" y="3770"/>
                </a:cubicBezTo>
                <a:cubicBezTo>
                  <a:pt x="6380" y="3745"/>
                  <a:pt x="6435" y="3735"/>
                  <a:pt x="6524" y="3671"/>
                </a:cubicBezTo>
              </a:path>
              <a:path w="1862" h="571">
                <a:moveTo>
                  <a:pt x="6648" y="3274"/>
                </a:moveTo>
                <a:cubicBezTo>
                  <a:pt x="6678" y="3419"/>
                  <a:pt x="6708" y="3550"/>
                  <a:pt x="6722" y="3696"/>
                </a:cubicBezTo>
              </a:path>
              <a:path w="1862" h="571">
                <a:moveTo>
                  <a:pt x="6970" y="3448"/>
                </a:moveTo>
                <a:cubicBezTo>
                  <a:pt x="7028" y="3506"/>
                  <a:pt x="7086" y="3563"/>
                  <a:pt x="7144" y="3621"/>
                </a:cubicBezTo>
              </a:path>
              <a:path w="1862" h="571">
                <a:moveTo>
                  <a:pt x="7193" y="3398"/>
                </a:moveTo>
                <a:cubicBezTo>
                  <a:pt x="7137" y="3497"/>
                  <a:pt x="7082" y="3603"/>
                  <a:pt x="7020" y="3696"/>
                </a:cubicBezTo>
              </a:path>
              <a:path w="1862" h="571">
                <a:moveTo>
                  <a:pt x="7838" y="3572"/>
                </a:moveTo>
                <a:cubicBezTo>
                  <a:pt x="7801" y="3479"/>
                  <a:pt x="7741" y="3455"/>
                  <a:pt x="7640" y="3497"/>
                </a:cubicBezTo>
                <a:cubicBezTo>
                  <a:pt x="7517" y="3548"/>
                  <a:pt x="7533" y="3619"/>
                  <a:pt x="7541" y="3721"/>
                </a:cubicBezTo>
                <a:cubicBezTo>
                  <a:pt x="7729" y="3694"/>
                  <a:pt x="7711" y="3672"/>
                  <a:pt x="7838" y="3522"/>
                </a:cubicBezTo>
              </a:path>
              <a:path w="1862" h="571">
                <a:moveTo>
                  <a:pt x="7764" y="3249"/>
                </a:moveTo>
                <a:cubicBezTo>
                  <a:pt x="7821" y="3387"/>
                  <a:pt x="7865" y="3529"/>
                  <a:pt x="7913" y="3671"/>
                </a:cubicBezTo>
              </a:path>
              <a:path w="1862" h="571">
                <a:moveTo>
                  <a:pt x="6747" y="3597"/>
                </a:moveTo>
                <a:cubicBezTo>
                  <a:pt x="6692" y="3650"/>
                  <a:pt x="6651" y="3684"/>
                  <a:pt x="6598" y="37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60680" y="3394080"/>
            <a:ext cx="1554120" cy="874800"/>
          </a:xfrm>
          <a:custGeom>
            <a:avLst/>
            <a:gdLst/>
            <a:ahLst/>
            <a:rect l="l" t="t" r="r" b="b"/>
            <a:pathLst>
              <a:path w="4317" h="2432">
                <a:moveTo>
                  <a:pt x="5829" y="11137"/>
                </a:moveTo>
                <a:cubicBezTo>
                  <a:pt x="6030" y="11118"/>
                  <a:pt x="6219" y="11158"/>
                  <a:pt x="6424" y="11162"/>
                </a:cubicBezTo>
                <a:cubicBezTo>
                  <a:pt x="6532" y="11164"/>
                  <a:pt x="6639" y="11162"/>
                  <a:pt x="6747" y="11162"/>
                </a:cubicBezTo>
              </a:path>
              <a:path w="4317" h="2432">
                <a:moveTo>
                  <a:pt x="6176" y="11311"/>
                </a:moveTo>
                <a:cubicBezTo>
                  <a:pt x="6149" y="11434"/>
                  <a:pt x="6133" y="11556"/>
                  <a:pt x="6127" y="11683"/>
                </a:cubicBezTo>
                <a:cubicBezTo>
                  <a:pt x="6124" y="11752"/>
                  <a:pt x="6136" y="11801"/>
                  <a:pt x="6102" y="11857"/>
                </a:cubicBezTo>
              </a:path>
              <a:path w="4317" h="2432">
                <a:moveTo>
                  <a:pt x="7193" y="10889"/>
                </a:moveTo>
                <a:cubicBezTo>
                  <a:pt x="7268" y="10889"/>
                  <a:pt x="7342" y="10889"/>
                  <a:pt x="7417" y="10889"/>
                </a:cubicBezTo>
              </a:path>
              <a:path w="4317" h="2432">
                <a:moveTo>
                  <a:pt x="7193" y="11137"/>
                </a:moveTo>
                <a:cubicBezTo>
                  <a:pt x="7272" y="11129"/>
                  <a:pt x="7341" y="11111"/>
                  <a:pt x="7417" y="11088"/>
                </a:cubicBezTo>
              </a:path>
              <a:path w="4317" h="2432">
                <a:moveTo>
                  <a:pt x="8359" y="9748"/>
                </a:moveTo>
                <a:cubicBezTo>
                  <a:pt x="8350" y="9948"/>
                  <a:pt x="8334" y="10144"/>
                  <a:pt x="8334" y="10344"/>
                </a:cubicBezTo>
                <a:cubicBezTo>
                  <a:pt x="8334" y="10360"/>
                  <a:pt x="8334" y="10377"/>
                  <a:pt x="8334" y="10393"/>
                </a:cubicBezTo>
              </a:path>
              <a:path w="4317" h="2432">
                <a:moveTo>
                  <a:pt x="8905" y="9426"/>
                </a:moveTo>
                <a:cubicBezTo>
                  <a:pt x="8829" y="9519"/>
                  <a:pt x="8783" y="9568"/>
                  <a:pt x="8657" y="9575"/>
                </a:cubicBezTo>
                <a:cubicBezTo>
                  <a:pt x="8513" y="9583"/>
                  <a:pt x="8558" y="9818"/>
                  <a:pt x="8558" y="9922"/>
                </a:cubicBezTo>
                <a:cubicBezTo>
                  <a:pt x="8649" y="9870"/>
                  <a:pt x="8878" y="9713"/>
                  <a:pt x="8930" y="9897"/>
                </a:cubicBezTo>
                <a:cubicBezTo>
                  <a:pt x="8998" y="10138"/>
                  <a:pt x="8791" y="10228"/>
                  <a:pt x="8607" y="10244"/>
                </a:cubicBezTo>
                <a:cubicBezTo>
                  <a:pt x="8582" y="10244"/>
                  <a:pt x="8558" y="10244"/>
                  <a:pt x="8533" y="10244"/>
                </a:cubicBezTo>
              </a:path>
              <a:path w="4317" h="2432">
                <a:moveTo>
                  <a:pt x="7813" y="10740"/>
                </a:moveTo>
                <a:cubicBezTo>
                  <a:pt x="8114" y="10655"/>
                  <a:pt x="8418" y="10589"/>
                  <a:pt x="8731" y="10567"/>
                </a:cubicBezTo>
                <a:cubicBezTo>
                  <a:pt x="8849" y="10567"/>
                  <a:pt x="8871" y="10581"/>
                  <a:pt x="8930" y="10542"/>
                </a:cubicBezTo>
              </a:path>
              <a:path w="4317" h="2432">
                <a:moveTo>
                  <a:pt x="8260" y="11013"/>
                </a:moveTo>
                <a:cubicBezTo>
                  <a:pt x="8283" y="11077"/>
                  <a:pt x="8302" y="11122"/>
                  <a:pt x="8310" y="11187"/>
                </a:cubicBezTo>
                <a:cubicBezTo>
                  <a:pt x="8260" y="11037"/>
                  <a:pt x="8326" y="11011"/>
                  <a:pt x="8458" y="10939"/>
                </a:cubicBezTo>
                <a:cubicBezTo>
                  <a:pt x="8533" y="10898"/>
                  <a:pt x="8602" y="10880"/>
                  <a:pt x="8682" y="10864"/>
                </a:cubicBezTo>
                <a:cubicBezTo>
                  <a:pt x="8731" y="11069"/>
                  <a:pt x="8570" y="11344"/>
                  <a:pt x="8533" y="11559"/>
                </a:cubicBezTo>
                <a:cubicBezTo>
                  <a:pt x="8522" y="11623"/>
                  <a:pt x="8533" y="11713"/>
                  <a:pt x="8533" y="11782"/>
                </a:cubicBezTo>
              </a:path>
              <a:path w="4317" h="2432">
                <a:moveTo>
                  <a:pt x="4614" y="10170"/>
                </a:moveTo>
                <a:lnTo>
                  <a:pt x="4614" y="10170"/>
                </a:lnTo>
              </a:path>
              <a:path w="4317" h="2432">
                <a:moveTo>
                  <a:pt x="5531" y="11261"/>
                </a:moveTo>
                <a:cubicBezTo>
                  <a:pt x="5523" y="11253"/>
                  <a:pt x="5515" y="11245"/>
                  <a:pt x="5507" y="11237"/>
                </a:cubicBezTo>
                <a:cubicBezTo>
                  <a:pt x="5588" y="11165"/>
                  <a:pt x="5629" y="11173"/>
                  <a:pt x="5730" y="11137"/>
                </a:cubicBezTo>
                <a:cubicBezTo>
                  <a:pt x="5788" y="11116"/>
                  <a:pt x="5844" y="11074"/>
                  <a:pt x="5904" y="11063"/>
                </a:cubicBezTo>
                <a:cubicBezTo>
                  <a:pt x="5962" y="11063"/>
                  <a:pt x="5987" y="11063"/>
                  <a:pt x="6028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73680" y="2938320"/>
            <a:ext cx="1260360" cy="1490760"/>
          </a:xfrm>
          <a:custGeom>
            <a:avLst/>
            <a:gdLst/>
            <a:ahLst/>
            <a:rect l="l" t="t" r="r" b="b"/>
            <a:pathLst>
              <a:path w="3499" h="4143">
                <a:moveTo>
                  <a:pt x="12526" y="10195"/>
                </a:moveTo>
                <a:cubicBezTo>
                  <a:pt x="12435" y="10418"/>
                  <a:pt x="12422" y="10710"/>
                  <a:pt x="12378" y="10964"/>
                </a:cubicBezTo>
                <a:cubicBezTo>
                  <a:pt x="12370" y="11005"/>
                  <a:pt x="12361" y="11047"/>
                  <a:pt x="12353" y="11088"/>
                </a:cubicBezTo>
              </a:path>
              <a:path w="3499" h="4143">
                <a:moveTo>
                  <a:pt x="12973" y="10195"/>
                </a:moveTo>
                <a:cubicBezTo>
                  <a:pt x="12920" y="10241"/>
                  <a:pt x="12834" y="10233"/>
                  <a:pt x="12799" y="10294"/>
                </a:cubicBezTo>
                <a:cubicBezTo>
                  <a:pt x="12761" y="10360"/>
                  <a:pt x="12757" y="10468"/>
                  <a:pt x="12750" y="10542"/>
                </a:cubicBezTo>
                <a:cubicBezTo>
                  <a:pt x="12886" y="10430"/>
                  <a:pt x="13168" y="10301"/>
                  <a:pt x="13122" y="10641"/>
                </a:cubicBezTo>
                <a:cubicBezTo>
                  <a:pt x="13079" y="10959"/>
                  <a:pt x="12779" y="10935"/>
                  <a:pt x="12576" y="10864"/>
                </a:cubicBezTo>
              </a:path>
              <a:path w="3499" h="4143">
                <a:moveTo>
                  <a:pt x="12080" y="11361"/>
                </a:moveTo>
                <a:cubicBezTo>
                  <a:pt x="11994" y="11067"/>
                  <a:pt x="12023" y="10797"/>
                  <a:pt x="12005" y="10492"/>
                </a:cubicBezTo>
                <a:cubicBezTo>
                  <a:pt x="12002" y="10442"/>
                  <a:pt x="11920" y="10140"/>
                  <a:pt x="12005" y="10096"/>
                </a:cubicBezTo>
                <a:cubicBezTo>
                  <a:pt x="12360" y="9914"/>
                  <a:pt x="12953" y="9851"/>
                  <a:pt x="13345" y="9798"/>
                </a:cubicBezTo>
                <a:cubicBezTo>
                  <a:pt x="13517" y="9775"/>
                  <a:pt x="13736" y="9766"/>
                  <a:pt x="13915" y="9748"/>
                </a:cubicBezTo>
              </a:path>
              <a:path w="3499" h="4143">
                <a:moveTo>
                  <a:pt x="11038" y="10368"/>
                </a:moveTo>
                <a:cubicBezTo>
                  <a:pt x="11079" y="10449"/>
                  <a:pt x="11095" y="10462"/>
                  <a:pt x="11088" y="10517"/>
                </a:cubicBezTo>
                <a:cubicBezTo>
                  <a:pt x="11061" y="10329"/>
                  <a:pt x="11116" y="10369"/>
                  <a:pt x="11286" y="10319"/>
                </a:cubicBezTo>
                <a:cubicBezTo>
                  <a:pt x="11355" y="10299"/>
                  <a:pt x="11390" y="10294"/>
                  <a:pt x="11460" y="10294"/>
                </a:cubicBezTo>
                <a:cubicBezTo>
                  <a:pt x="11460" y="10596"/>
                  <a:pt x="11437" y="10887"/>
                  <a:pt x="11410" y="11187"/>
                </a:cubicBezTo>
                <a:cubicBezTo>
                  <a:pt x="11410" y="11204"/>
                  <a:pt x="11410" y="11220"/>
                  <a:pt x="11410" y="11237"/>
                </a:cubicBezTo>
              </a:path>
              <a:path w="3499" h="4143">
                <a:moveTo>
                  <a:pt x="12799" y="9327"/>
                </a:moveTo>
                <a:cubicBezTo>
                  <a:pt x="12799" y="9247"/>
                  <a:pt x="12768" y="9373"/>
                  <a:pt x="12799" y="9203"/>
                </a:cubicBezTo>
                <a:cubicBezTo>
                  <a:pt x="12989" y="9131"/>
                  <a:pt x="12953" y="9369"/>
                  <a:pt x="12923" y="9500"/>
                </a:cubicBezTo>
                <a:cubicBezTo>
                  <a:pt x="12871" y="9728"/>
                  <a:pt x="12783" y="9772"/>
                  <a:pt x="12601" y="9872"/>
                </a:cubicBezTo>
                <a:cubicBezTo>
                  <a:pt x="12591" y="9729"/>
                  <a:pt x="12646" y="9546"/>
                  <a:pt x="12849" y="9599"/>
                </a:cubicBezTo>
                <a:cubicBezTo>
                  <a:pt x="12895" y="9646"/>
                  <a:pt x="12907" y="9660"/>
                  <a:pt x="12948" y="9674"/>
                </a:cubicBezTo>
              </a:path>
              <a:path w="3499" h="4143">
                <a:moveTo>
                  <a:pt x="12601" y="11137"/>
                </a:moveTo>
                <a:cubicBezTo>
                  <a:pt x="12543" y="11281"/>
                  <a:pt x="12533" y="11456"/>
                  <a:pt x="12477" y="11609"/>
                </a:cubicBezTo>
              </a:path>
              <a:path w="3499" h="4143">
                <a:moveTo>
                  <a:pt x="12799" y="11187"/>
                </a:moveTo>
                <a:cubicBezTo>
                  <a:pt x="12772" y="11280"/>
                  <a:pt x="12745" y="11330"/>
                  <a:pt x="12725" y="11410"/>
                </a:cubicBezTo>
                <a:cubicBezTo>
                  <a:pt x="12809" y="11393"/>
                  <a:pt x="12891" y="11342"/>
                  <a:pt x="12973" y="11311"/>
                </a:cubicBezTo>
              </a:path>
              <a:path w="3499" h="4143">
                <a:moveTo>
                  <a:pt x="13047" y="10864"/>
                </a:moveTo>
                <a:cubicBezTo>
                  <a:pt x="13014" y="11095"/>
                  <a:pt x="12985" y="11326"/>
                  <a:pt x="12973" y="11559"/>
                </a:cubicBezTo>
              </a:path>
              <a:path w="3499" h="4143">
                <a:moveTo>
                  <a:pt x="12055" y="11832"/>
                </a:moveTo>
                <a:cubicBezTo>
                  <a:pt x="12377" y="11758"/>
                  <a:pt x="12696" y="11689"/>
                  <a:pt x="13022" y="11633"/>
                </a:cubicBezTo>
                <a:cubicBezTo>
                  <a:pt x="13130" y="11616"/>
                  <a:pt x="13137" y="11608"/>
                  <a:pt x="13196" y="11609"/>
                </a:cubicBezTo>
              </a:path>
              <a:path w="3499" h="4143">
                <a:moveTo>
                  <a:pt x="12055" y="11509"/>
                </a:moveTo>
                <a:cubicBezTo>
                  <a:pt x="12121" y="11498"/>
                  <a:pt x="12189" y="11477"/>
                  <a:pt x="12254" y="11460"/>
                </a:cubicBezTo>
              </a:path>
              <a:path w="3499" h="4143">
                <a:moveTo>
                  <a:pt x="13022" y="11857"/>
                </a:moveTo>
                <a:cubicBezTo>
                  <a:pt x="13012" y="12007"/>
                  <a:pt x="12998" y="12152"/>
                  <a:pt x="12998" y="12303"/>
                </a:cubicBezTo>
              </a:path>
              <a:path w="3499" h="4143">
                <a:moveTo>
                  <a:pt x="13469" y="8582"/>
                </a:moveTo>
                <a:cubicBezTo>
                  <a:pt x="13463" y="8716"/>
                  <a:pt x="13451" y="8846"/>
                  <a:pt x="13444" y="8979"/>
                </a:cubicBezTo>
              </a:path>
              <a:path w="3499" h="4143">
                <a:moveTo>
                  <a:pt x="13370" y="9128"/>
                </a:moveTo>
                <a:cubicBezTo>
                  <a:pt x="13507" y="9056"/>
                  <a:pt x="13616" y="9015"/>
                  <a:pt x="13767" y="8979"/>
                </a:cubicBezTo>
              </a:path>
              <a:path w="3499" h="4143">
                <a:moveTo>
                  <a:pt x="13469" y="9302"/>
                </a:moveTo>
                <a:cubicBezTo>
                  <a:pt x="13527" y="9263"/>
                  <a:pt x="13580" y="9224"/>
                  <a:pt x="13643" y="9203"/>
                </a:cubicBezTo>
                <a:cubicBezTo>
                  <a:pt x="13670" y="9373"/>
                  <a:pt x="13645" y="9485"/>
                  <a:pt x="13618" y="9649"/>
                </a:cubicBezTo>
                <a:cubicBezTo>
                  <a:pt x="13618" y="9666"/>
                  <a:pt x="13618" y="9682"/>
                  <a:pt x="13618" y="9699"/>
                </a:cubicBezTo>
              </a:path>
              <a:path w="3499" h="4143">
                <a:moveTo>
                  <a:pt x="13940" y="8310"/>
                </a:moveTo>
                <a:cubicBezTo>
                  <a:pt x="13846" y="8236"/>
                  <a:pt x="13743" y="8199"/>
                  <a:pt x="13618" y="8186"/>
                </a:cubicBezTo>
                <a:cubicBezTo>
                  <a:pt x="13457" y="8169"/>
                  <a:pt x="13302" y="8205"/>
                  <a:pt x="13146" y="8235"/>
                </a:cubicBezTo>
                <a:cubicBezTo>
                  <a:pt x="12969" y="8269"/>
                  <a:pt x="12836" y="8359"/>
                  <a:pt x="12675" y="8434"/>
                </a:cubicBezTo>
                <a:cubicBezTo>
                  <a:pt x="12515" y="8508"/>
                  <a:pt x="12405" y="8606"/>
                  <a:pt x="12303" y="8756"/>
                </a:cubicBezTo>
                <a:cubicBezTo>
                  <a:pt x="12204" y="8900"/>
                  <a:pt x="12110" y="9047"/>
                  <a:pt x="12030" y="9203"/>
                </a:cubicBezTo>
                <a:cubicBezTo>
                  <a:pt x="11967" y="9327"/>
                  <a:pt x="11933" y="9458"/>
                  <a:pt x="11956" y="9599"/>
                </a:cubicBezTo>
                <a:cubicBezTo>
                  <a:pt x="11973" y="9707"/>
                  <a:pt x="12059" y="9914"/>
                  <a:pt x="12129" y="9996"/>
                </a:cubicBezTo>
                <a:cubicBezTo>
                  <a:pt x="12213" y="10095"/>
                  <a:pt x="12360" y="10116"/>
                  <a:pt x="12477" y="10145"/>
                </a:cubicBezTo>
                <a:cubicBezTo>
                  <a:pt x="12608" y="10178"/>
                  <a:pt x="12762" y="10184"/>
                  <a:pt x="12898" y="10170"/>
                </a:cubicBezTo>
                <a:cubicBezTo>
                  <a:pt x="13048" y="10155"/>
                  <a:pt x="13198" y="10109"/>
                  <a:pt x="13345" y="10096"/>
                </a:cubicBezTo>
                <a:cubicBezTo>
                  <a:pt x="13493" y="10083"/>
                  <a:pt x="13619" y="10076"/>
                  <a:pt x="13767" y="10046"/>
                </a:cubicBezTo>
                <a:cubicBezTo>
                  <a:pt x="13919" y="10015"/>
                  <a:pt x="14109" y="9965"/>
                  <a:pt x="14238" y="9872"/>
                </a:cubicBezTo>
                <a:cubicBezTo>
                  <a:pt x="14361" y="9783"/>
                  <a:pt x="14428" y="9562"/>
                  <a:pt x="14486" y="9426"/>
                </a:cubicBezTo>
                <a:cubicBezTo>
                  <a:pt x="14559" y="9253"/>
                  <a:pt x="14545" y="9086"/>
                  <a:pt x="14511" y="8905"/>
                </a:cubicBezTo>
                <a:cubicBezTo>
                  <a:pt x="14487" y="8780"/>
                  <a:pt x="14487" y="8652"/>
                  <a:pt x="14436" y="8533"/>
                </a:cubicBezTo>
                <a:cubicBezTo>
                  <a:pt x="14408" y="8466"/>
                  <a:pt x="14349" y="8322"/>
                  <a:pt x="14288" y="8285"/>
                </a:cubicBezTo>
                <a:cubicBezTo>
                  <a:pt x="14236" y="8253"/>
                  <a:pt x="14149" y="8230"/>
                  <a:pt x="14089" y="8210"/>
                </a:cubicBezTo>
                <a:cubicBezTo>
                  <a:pt x="13961" y="8168"/>
                  <a:pt x="13851" y="8161"/>
                  <a:pt x="13717" y="8161"/>
                </a:cubicBezTo>
                <a:cubicBezTo>
                  <a:pt x="13643" y="8161"/>
                  <a:pt x="13618" y="8161"/>
                  <a:pt x="13568" y="8161"/>
                </a:cubicBezTo>
              </a:path>
              <a:path w="3499" h="4143">
                <a:moveTo>
                  <a:pt x="12849" y="9525"/>
                </a:moveTo>
                <a:lnTo>
                  <a:pt x="12849" y="9525"/>
                </a:lnTo>
              </a:path>
              <a:path w="3499" h="4143">
                <a:moveTo>
                  <a:pt x="12923" y="9699"/>
                </a:moveTo>
                <a:cubicBezTo>
                  <a:pt x="12963" y="9769"/>
                  <a:pt x="13013" y="9850"/>
                  <a:pt x="13072" y="9897"/>
                </a:cubicBezTo>
                <a:cubicBezTo>
                  <a:pt x="13111" y="9928"/>
                  <a:pt x="13175" y="9930"/>
                  <a:pt x="13221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4680" y="4956120"/>
            <a:ext cx="1295280" cy="652680"/>
          </a:xfrm>
          <a:custGeom>
            <a:avLst/>
            <a:gdLst/>
            <a:ahLst/>
            <a:rect l="l" t="t" r="r" b="b"/>
            <a:pathLst>
              <a:path w="3598" h="1811">
                <a:moveTo>
                  <a:pt x="2232" y="13816"/>
                </a:moveTo>
                <a:cubicBezTo>
                  <a:pt x="2104" y="13767"/>
                  <a:pt x="1976" y="13777"/>
                  <a:pt x="1910" y="13940"/>
                </a:cubicBezTo>
                <a:cubicBezTo>
                  <a:pt x="1793" y="14226"/>
                  <a:pt x="2016" y="14209"/>
                  <a:pt x="2158" y="14362"/>
                </a:cubicBezTo>
                <a:cubicBezTo>
                  <a:pt x="2253" y="14464"/>
                  <a:pt x="2115" y="14697"/>
                  <a:pt x="2009" y="14734"/>
                </a:cubicBezTo>
                <a:cubicBezTo>
                  <a:pt x="2001" y="14726"/>
                  <a:pt x="1992" y="14717"/>
                  <a:pt x="1984" y="14709"/>
                </a:cubicBezTo>
                <a:cubicBezTo>
                  <a:pt x="1973" y="14441"/>
                  <a:pt x="2048" y="14336"/>
                  <a:pt x="2183" y="14114"/>
                </a:cubicBezTo>
                <a:cubicBezTo>
                  <a:pt x="2257" y="13992"/>
                  <a:pt x="2257" y="14009"/>
                  <a:pt x="2158" y="13965"/>
                </a:cubicBezTo>
              </a:path>
              <a:path w="3598" h="1811">
                <a:moveTo>
                  <a:pt x="1513" y="14908"/>
                </a:moveTo>
                <a:cubicBezTo>
                  <a:pt x="1726" y="14851"/>
                  <a:pt x="1941" y="14846"/>
                  <a:pt x="2158" y="14808"/>
                </a:cubicBezTo>
                <a:cubicBezTo>
                  <a:pt x="2304" y="14783"/>
                  <a:pt x="2465" y="14752"/>
                  <a:pt x="2604" y="14709"/>
                </a:cubicBezTo>
              </a:path>
              <a:path w="3598" h="1811">
                <a:moveTo>
                  <a:pt x="2084" y="14957"/>
                </a:moveTo>
                <a:cubicBezTo>
                  <a:pt x="2115" y="15162"/>
                  <a:pt x="2108" y="15368"/>
                  <a:pt x="2108" y="15577"/>
                </a:cubicBezTo>
              </a:path>
              <a:path w="3598" h="1811">
                <a:moveTo>
                  <a:pt x="3919" y="14114"/>
                </a:moveTo>
                <a:cubicBezTo>
                  <a:pt x="3919" y="14321"/>
                  <a:pt x="3919" y="14527"/>
                  <a:pt x="3919" y="14734"/>
                </a:cubicBezTo>
              </a:path>
              <a:path w="3598" h="1811">
                <a:moveTo>
                  <a:pt x="4390" y="14039"/>
                </a:moveTo>
                <a:cubicBezTo>
                  <a:pt x="4510" y="13997"/>
                  <a:pt x="4569" y="13968"/>
                  <a:pt x="4688" y="13990"/>
                </a:cubicBezTo>
                <a:cubicBezTo>
                  <a:pt x="4700" y="14188"/>
                  <a:pt x="4605" y="14354"/>
                  <a:pt x="4465" y="14511"/>
                </a:cubicBezTo>
                <a:cubicBezTo>
                  <a:pt x="4448" y="14519"/>
                  <a:pt x="4432" y="14528"/>
                  <a:pt x="4415" y="14536"/>
                </a:cubicBezTo>
                <a:cubicBezTo>
                  <a:pt x="4558" y="14525"/>
                  <a:pt x="4694" y="14478"/>
                  <a:pt x="4837" y="14461"/>
                </a:cubicBezTo>
                <a:cubicBezTo>
                  <a:pt x="4862" y="14461"/>
                  <a:pt x="4886" y="14461"/>
                  <a:pt x="4911" y="14461"/>
                </a:cubicBezTo>
              </a:path>
              <a:path w="3598" h="1811">
                <a:moveTo>
                  <a:pt x="3299" y="15007"/>
                </a:moveTo>
                <a:cubicBezTo>
                  <a:pt x="3568" y="14903"/>
                  <a:pt x="3832" y="14939"/>
                  <a:pt x="4118" y="14908"/>
                </a:cubicBezTo>
                <a:cubicBezTo>
                  <a:pt x="4455" y="14872"/>
                  <a:pt x="4779" y="14778"/>
                  <a:pt x="5110" y="14709"/>
                </a:cubicBezTo>
              </a:path>
              <a:path w="3598" h="1811">
                <a:moveTo>
                  <a:pt x="4366" y="14982"/>
                </a:moveTo>
                <a:cubicBezTo>
                  <a:pt x="4375" y="15152"/>
                  <a:pt x="4396" y="15313"/>
                  <a:pt x="4440" y="154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6640" y="4983120"/>
            <a:ext cx="634680" cy="696960"/>
          </a:xfrm>
          <a:custGeom>
            <a:avLst/>
            <a:gdLst/>
            <a:ahLst/>
            <a:rect l="l" t="t" r="r" b="b"/>
            <a:pathLst>
              <a:path w="1762" h="1936">
                <a:moveTo>
                  <a:pt x="6697" y="13990"/>
                </a:moveTo>
                <a:cubicBezTo>
                  <a:pt x="6771" y="13960"/>
                  <a:pt x="6932" y="13882"/>
                  <a:pt x="6896" y="14039"/>
                </a:cubicBezTo>
                <a:cubicBezTo>
                  <a:pt x="6856" y="14139"/>
                  <a:pt x="6851" y="14157"/>
                  <a:pt x="6821" y="14213"/>
                </a:cubicBezTo>
                <a:cubicBezTo>
                  <a:pt x="6974" y="14240"/>
                  <a:pt x="7090" y="14341"/>
                  <a:pt x="6896" y="14486"/>
                </a:cubicBezTo>
                <a:cubicBezTo>
                  <a:pt x="6752" y="14593"/>
                  <a:pt x="6680" y="14495"/>
                  <a:pt x="6573" y="14412"/>
                </a:cubicBezTo>
              </a:path>
              <a:path w="1762" h="1936">
                <a:moveTo>
                  <a:pt x="7466" y="14015"/>
                </a:moveTo>
                <a:cubicBezTo>
                  <a:pt x="7442" y="13918"/>
                  <a:pt x="7360" y="13841"/>
                  <a:pt x="7243" y="13841"/>
                </a:cubicBezTo>
                <a:cubicBezTo>
                  <a:pt x="7024" y="13841"/>
                  <a:pt x="7029" y="14027"/>
                  <a:pt x="7020" y="14188"/>
                </a:cubicBezTo>
                <a:cubicBezTo>
                  <a:pt x="7199" y="14176"/>
                  <a:pt x="7244" y="14089"/>
                  <a:pt x="7317" y="13915"/>
                </a:cubicBezTo>
                <a:cubicBezTo>
                  <a:pt x="7412" y="14080"/>
                  <a:pt x="7437" y="14267"/>
                  <a:pt x="7466" y="14461"/>
                </a:cubicBezTo>
                <a:cubicBezTo>
                  <a:pt x="7466" y="14469"/>
                  <a:pt x="7466" y="14478"/>
                  <a:pt x="7466" y="14486"/>
                </a:cubicBezTo>
              </a:path>
              <a:path w="1762" h="1936">
                <a:moveTo>
                  <a:pt x="6325" y="14709"/>
                </a:moveTo>
                <a:cubicBezTo>
                  <a:pt x="6632" y="14763"/>
                  <a:pt x="6956" y="14729"/>
                  <a:pt x="7268" y="14709"/>
                </a:cubicBezTo>
                <a:cubicBezTo>
                  <a:pt x="7552" y="14691"/>
                  <a:pt x="7805" y="14685"/>
                  <a:pt x="8086" y="14709"/>
                </a:cubicBezTo>
              </a:path>
              <a:path w="1762" h="1936">
                <a:moveTo>
                  <a:pt x="7218" y="15056"/>
                </a:moveTo>
                <a:cubicBezTo>
                  <a:pt x="7159" y="15264"/>
                  <a:pt x="7162" y="15487"/>
                  <a:pt x="7119" y="15701"/>
                </a:cubicBezTo>
                <a:cubicBezTo>
                  <a:pt x="7111" y="15726"/>
                  <a:pt x="7102" y="15751"/>
                  <a:pt x="7094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8000" y="5010120"/>
            <a:ext cx="420840" cy="731880"/>
          </a:xfrm>
          <a:custGeom>
            <a:avLst/>
            <a:gdLst/>
            <a:ahLst/>
            <a:rect l="l" t="t" r="r" b="b"/>
            <a:pathLst>
              <a:path w="1167" h="2035">
                <a:moveTo>
                  <a:pt x="9426" y="14114"/>
                </a:moveTo>
                <a:cubicBezTo>
                  <a:pt x="9423" y="14196"/>
                  <a:pt x="9469" y="14468"/>
                  <a:pt x="9327" y="14412"/>
                </a:cubicBezTo>
                <a:cubicBezTo>
                  <a:pt x="9371" y="14367"/>
                  <a:pt x="9588" y="14348"/>
                  <a:pt x="9674" y="14337"/>
                </a:cubicBezTo>
                <a:cubicBezTo>
                  <a:pt x="9723" y="14337"/>
                  <a:pt x="9740" y="14337"/>
                  <a:pt x="9723" y="14387"/>
                </a:cubicBezTo>
              </a:path>
              <a:path w="1167" h="2035">
                <a:moveTo>
                  <a:pt x="9674" y="13990"/>
                </a:moveTo>
                <a:cubicBezTo>
                  <a:pt x="9715" y="14219"/>
                  <a:pt x="9723" y="14426"/>
                  <a:pt x="9723" y="14660"/>
                </a:cubicBezTo>
                <a:cubicBezTo>
                  <a:pt x="9723" y="14693"/>
                  <a:pt x="9723" y="14726"/>
                  <a:pt x="9723" y="14759"/>
                </a:cubicBezTo>
              </a:path>
              <a:path w="1167" h="2035">
                <a:moveTo>
                  <a:pt x="9996" y="13915"/>
                </a:moveTo>
                <a:cubicBezTo>
                  <a:pt x="10040" y="14154"/>
                  <a:pt x="10081" y="14390"/>
                  <a:pt x="10096" y="14635"/>
                </a:cubicBezTo>
                <a:cubicBezTo>
                  <a:pt x="10096" y="14676"/>
                  <a:pt x="10096" y="14718"/>
                  <a:pt x="10096" y="14759"/>
                </a:cubicBezTo>
              </a:path>
              <a:path w="1167" h="2035">
                <a:moveTo>
                  <a:pt x="10269" y="13965"/>
                </a:moveTo>
                <a:cubicBezTo>
                  <a:pt x="10313" y="14196"/>
                  <a:pt x="10335" y="14425"/>
                  <a:pt x="10344" y="14660"/>
                </a:cubicBezTo>
              </a:path>
              <a:path w="1167" h="2035">
                <a:moveTo>
                  <a:pt x="9302" y="15007"/>
                </a:moveTo>
                <a:cubicBezTo>
                  <a:pt x="9524" y="14990"/>
                  <a:pt x="9748" y="14966"/>
                  <a:pt x="9971" y="14957"/>
                </a:cubicBezTo>
                <a:cubicBezTo>
                  <a:pt x="10136" y="14950"/>
                  <a:pt x="10303" y="14957"/>
                  <a:pt x="10468" y="14957"/>
                </a:cubicBezTo>
              </a:path>
              <a:path w="1167" h="2035">
                <a:moveTo>
                  <a:pt x="9798" y="15230"/>
                </a:moveTo>
                <a:cubicBezTo>
                  <a:pt x="9798" y="15478"/>
                  <a:pt x="9770" y="15706"/>
                  <a:pt x="9748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5027760"/>
            <a:ext cx="876240" cy="723600"/>
          </a:xfrm>
          <a:custGeom>
            <a:avLst/>
            <a:gdLst/>
            <a:ahLst/>
            <a:rect l="l" t="t" r="r" b="b"/>
            <a:pathLst>
              <a:path w="2432" h="2010">
                <a:moveTo>
                  <a:pt x="12626" y="14139"/>
                </a:moveTo>
                <a:cubicBezTo>
                  <a:pt x="12581" y="14153"/>
                  <a:pt x="12315" y="14140"/>
                  <a:pt x="12303" y="14163"/>
                </a:cubicBezTo>
                <a:cubicBezTo>
                  <a:pt x="12275" y="14303"/>
                  <a:pt x="12267" y="14360"/>
                  <a:pt x="12278" y="14461"/>
                </a:cubicBezTo>
                <a:cubicBezTo>
                  <a:pt x="12278" y="14486"/>
                  <a:pt x="12278" y="14511"/>
                  <a:pt x="12278" y="14536"/>
                </a:cubicBezTo>
                <a:cubicBezTo>
                  <a:pt x="12429" y="14435"/>
                  <a:pt x="12480" y="14413"/>
                  <a:pt x="12650" y="14362"/>
                </a:cubicBezTo>
                <a:cubicBezTo>
                  <a:pt x="12736" y="14564"/>
                  <a:pt x="12701" y="14832"/>
                  <a:pt x="12402" y="14883"/>
                </a:cubicBezTo>
                <a:cubicBezTo>
                  <a:pt x="12369" y="14866"/>
                  <a:pt x="12336" y="14850"/>
                  <a:pt x="12303" y="14833"/>
                </a:cubicBezTo>
              </a:path>
              <a:path w="2432" h="2010">
                <a:moveTo>
                  <a:pt x="13047" y="14114"/>
                </a:moveTo>
                <a:cubicBezTo>
                  <a:pt x="12952" y="14305"/>
                  <a:pt x="12954" y="14436"/>
                  <a:pt x="12998" y="14635"/>
                </a:cubicBezTo>
                <a:cubicBezTo>
                  <a:pt x="13223" y="14590"/>
                  <a:pt x="13404" y="14430"/>
                  <a:pt x="13246" y="14163"/>
                </a:cubicBezTo>
                <a:cubicBezTo>
                  <a:pt x="13144" y="14081"/>
                  <a:pt x="13130" y="14048"/>
                  <a:pt x="13047" y="14064"/>
                </a:cubicBezTo>
              </a:path>
              <a:path w="2432" h="2010">
                <a:moveTo>
                  <a:pt x="13519" y="14089"/>
                </a:moveTo>
                <a:cubicBezTo>
                  <a:pt x="13544" y="14216"/>
                  <a:pt x="13526" y="14457"/>
                  <a:pt x="13593" y="14560"/>
                </a:cubicBezTo>
                <a:cubicBezTo>
                  <a:pt x="13705" y="14731"/>
                  <a:pt x="13934" y="14475"/>
                  <a:pt x="13965" y="14387"/>
                </a:cubicBezTo>
                <a:cubicBezTo>
                  <a:pt x="13965" y="14354"/>
                  <a:pt x="13965" y="14321"/>
                  <a:pt x="13965" y="14288"/>
                </a:cubicBezTo>
                <a:cubicBezTo>
                  <a:pt x="13776" y="14375"/>
                  <a:pt x="13722" y="14488"/>
                  <a:pt x="13767" y="14709"/>
                </a:cubicBezTo>
                <a:cubicBezTo>
                  <a:pt x="13775" y="14717"/>
                  <a:pt x="13783" y="14726"/>
                  <a:pt x="13791" y="14734"/>
                </a:cubicBezTo>
              </a:path>
              <a:path w="2432" h="2010">
                <a:moveTo>
                  <a:pt x="14213" y="13965"/>
                </a:moveTo>
                <a:cubicBezTo>
                  <a:pt x="14289" y="13965"/>
                  <a:pt x="14479" y="13936"/>
                  <a:pt x="14511" y="14039"/>
                </a:cubicBezTo>
                <a:cubicBezTo>
                  <a:pt x="14565" y="14211"/>
                  <a:pt x="14364" y="14374"/>
                  <a:pt x="14263" y="14486"/>
                </a:cubicBezTo>
                <a:cubicBezTo>
                  <a:pt x="14464" y="14392"/>
                  <a:pt x="14518" y="14309"/>
                  <a:pt x="14709" y="14412"/>
                </a:cubicBezTo>
              </a:path>
              <a:path w="2432" h="2010">
                <a:moveTo>
                  <a:pt x="12626" y="15081"/>
                </a:moveTo>
                <a:cubicBezTo>
                  <a:pt x="13006" y="14979"/>
                  <a:pt x="13396" y="14985"/>
                  <a:pt x="13791" y="14982"/>
                </a:cubicBezTo>
                <a:cubicBezTo>
                  <a:pt x="14078" y="14980"/>
                  <a:pt x="14357" y="14962"/>
                  <a:pt x="14635" y="15032"/>
                </a:cubicBezTo>
              </a:path>
              <a:path w="2432" h="2010">
                <a:moveTo>
                  <a:pt x="13593" y="15329"/>
                </a:moveTo>
                <a:cubicBezTo>
                  <a:pt x="13558" y="15535"/>
                  <a:pt x="13512" y="15780"/>
                  <a:pt x="13543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t 3 – Fractions</a:t>
            </a:r>
            <a:r>
              <a:rPr b="1" lang="en-US" sz="3200" spc="-1" strike="noStrike">
                <a:solidFill>
                  <a:srgbClr val="f6fcac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4876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Section 3.1 – Fraction Multiplic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52760" y="6562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589" y="18231"/>
                </a:moveTo>
                <a:lnTo>
                  <a:pt x="4589" y="1823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848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Examples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447920" y="1676520"/>
          <a:ext cx="990360" cy="80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676520"/>
                    <a:ext cx="99036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638680" y="1676520"/>
          <a:ext cx="1143000" cy="82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38680" y="1676520"/>
                    <a:ext cx="114300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447920" y="3886200"/>
          <a:ext cx="1066680" cy="825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3886200"/>
                    <a:ext cx="10666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562720" y="3809880"/>
          <a:ext cx="1600200" cy="901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62720" y="3809880"/>
                    <a:ext cx="16002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509920" y="1724040"/>
            <a:ext cx="973080" cy="660240"/>
          </a:xfrm>
          <a:custGeom>
            <a:avLst/>
            <a:gdLst/>
            <a:ahLst/>
            <a:rect l="l" t="t" r="r" b="b"/>
            <a:pathLst>
              <a:path w="2705" h="1837">
                <a:moveTo>
                  <a:pt x="7069" y="4911"/>
                </a:moveTo>
                <a:lnTo>
                  <a:pt x="7069" y="4911"/>
                </a:lnTo>
              </a:path>
              <a:path w="2705" h="1837">
                <a:moveTo>
                  <a:pt x="7317" y="4787"/>
                </a:moveTo>
                <a:cubicBezTo>
                  <a:pt x="7317" y="5020"/>
                  <a:pt x="7338" y="5249"/>
                  <a:pt x="7342" y="5482"/>
                </a:cubicBezTo>
                <a:cubicBezTo>
                  <a:pt x="7342" y="5523"/>
                  <a:pt x="7342" y="5565"/>
                  <a:pt x="7342" y="5606"/>
                </a:cubicBezTo>
              </a:path>
              <a:path w="2705" h="1837">
                <a:moveTo>
                  <a:pt x="6995" y="4936"/>
                </a:moveTo>
                <a:cubicBezTo>
                  <a:pt x="6973" y="5050"/>
                  <a:pt x="6951" y="5156"/>
                  <a:pt x="6995" y="5259"/>
                </a:cubicBezTo>
                <a:cubicBezTo>
                  <a:pt x="7104" y="5251"/>
                  <a:pt x="7207" y="5234"/>
                  <a:pt x="7317" y="5234"/>
                </a:cubicBezTo>
              </a:path>
              <a:path w="2705" h="1837">
                <a:moveTo>
                  <a:pt x="7615" y="4911"/>
                </a:moveTo>
                <a:cubicBezTo>
                  <a:pt x="7680" y="4868"/>
                  <a:pt x="7695" y="4847"/>
                  <a:pt x="7739" y="4887"/>
                </a:cubicBezTo>
                <a:cubicBezTo>
                  <a:pt x="7813" y="5063"/>
                  <a:pt x="7712" y="5230"/>
                  <a:pt x="7615" y="5407"/>
                </a:cubicBezTo>
                <a:cubicBezTo>
                  <a:pt x="7598" y="5432"/>
                  <a:pt x="7582" y="5457"/>
                  <a:pt x="7565" y="5482"/>
                </a:cubicBezTo>
                <a:cubicBezTo>
                  <a:pt x="7654" y="5442"/>
                  <a:pt x="7716" y="5432"/>
                  <a:pt x="7813" y="5432"/>
                </a:cubicBezTo>
                <a:cubicBezTo>
                  <a:pt x="7855" y="5432"/>
                  <a:pt x="7863" y="5432"/>
                  <a:pt x="7888" y="5432"/>
                </a:cubicBezTo>
              </a:path>
              <a:path w="2705" h="1837">
                <a:moveTo>
                  <a:pt x="6995" y="5804"/>
                </a:moveTo>
                <a:cubicBezTo>
                  <a:pt x="7277" y="5812"/>
                  <a:pt x="7556" y="5829"/>
                  <a:pt x="7838" y="5829"/>
                </a:cubicBezTo>
                <a:cubicBezTo>
                  <a:pt x="7923" y="5829"/>
                  <a:pt x="7943" y="5836"/>
                  <a:pt x="7987" y="5804"/>
                </a:cubicBezTo>
              </a:path>
              <a:path w="2705" h="1837">
                <a:moveTo>
                  <a:pt x="7367" y="6028"/>
                </a:moveTo>
                <a:cubicBezTo>
                  <a:pt x="7234" y="6028"/>
                  <a:pt x="7144" y="5982"/>
                  <a:pt x="7119" y="6102"/>
                </a:cubicBezTo>
                <a:cubicBezTo>
                  <a:pt x="7097" y="6210"/>
                  <a:pt x="7094" y="6236"/>
                  <a:pt x="7069" y="6300"/>
                </a:cubicBezTo>
                <a:cubicBezTo>
                  <a:pt x="7162" y="6294"/>
                  <a:pt x="7406" y="6225"/>
                  <a:pt x="7441" y="6375"/>
                </a:cubicBezTo>
                <a:cubicBezTo>
                  <a:pt x="7492" y="6597"/>
                  <a:pt x="7201" y="6614"/>
                  <a:pt x="7069" y="6623"/>
                </a:cubicBezTo>
                <a:cubicBezTo>
                  <a:pt x="7053" y="6623"/>
                  <a:pt x="7036" y="6623"/>
                  <a:pt x="7020" y="6623"/>
                </a:cubicBezTo>
              </a:path>
              <a:path w="2705" h="1837">
                <a:moveTo>
                  <a:pt x="7714" y="5953"/>
                </a:moveTo>
                <a:cubicBezTo>
                  <a:pt x="7664" y="6115"/>
                  <a:pt x="7573" y="6338"/>
                  <a:pt x="7615" y="6499"/>
                </a:cubicBezTo>
                <a:cubicBezTo>
                  <a:pt x="7639" y="6592"/>
                  <a:pt x="7716" y="6629"/>
                  <a:pt x="7813" y="6598"/>
                </a:cubicBezTo>
                <a:cubicBezTo>
                  <a:pt x="7896" y="6572"/>
                  <a:pt x="7963" y="6523"/>
                  <a:pt x="8012" y="6449"/>
                </a:cubicBezTo>
                <a:cubicBezTo>
                  <a:pt x="8034" y="6415"/>
                  <a:pt x="8070" y="6298"/>
                  <a:pt x="8012" y="6276"/>
                </a:cubicBezTo>
                <a:cubicBezTo>
                  <a:pt x="7934" y="6247"/>
                  <a:pt x="7890" y="6251"/>
                  <a:pt x="7838" y="6325"/>
                </a:cubicBezTo>
                <a:cubicBezTo>
                  <a:pt x="7779" y="6408"/>
                  <a:pt x="7784" y="6485"/>
                  <a:pt x="7813" y="6573"/>
                </a:cubicBezTo>
              </a:path>
              <a:path w="2705" h="1837">
                <a:moveTo>
                  <a:pt x="8310" y="5904"/>
                </a:moveTo>
                <a:cubicBezTo>
                  <a:pt x="8359" y="5933"/>
                  <a:pt x="8398" y="5928"/>
                  <a:pt x="8458" y="5928"/>
                </a:cubicBezTo>
                <a:cubicBezTo>
                  <a:pt x="8508" y="5928"/>
                  <a:pt x="8557" y="5928"/>
                  <a:pt x="8607" y="5928"/>
                </a:cubicBezTo>
              </a:path>
              <a:path w="2705" h="1837">
                <a:moveTo>
                  <a:pt x="8409" y="5655"/>
                </a:moveTo>
                <a:lnTo>
                  <a:pt x="8409" y="5655"/>
                </a:lnTo>
              </a:path>
              <a:path w="2705" h="1837">
                <a:moveTo>
                  <a:pt x="8508" y="6176"/>
                </a:moveTo>
                <a:lnTo>
                  <a:pt x="8508" y="6176"/>
                </a:lnTo>
              </a:path>
              <a:path w="2705" h="1837">
                <a:moveTo>
                  <a:pt x="8830" y="5283"/>
                </a:moveTo>
                <a:lnTo>
                  <a:pt x="8830" y="5283"/>
                </a:lnTo>
              </a:path>
              <a:path w="2705" h="1837">
                <a:moveTo>
                  <a:pt x="8682" y="5308"/>
                </a:moveTo>
                <a:cubicBezTo>
                  <a:pt x="8791" y="5279"/>
                  <a:pt x="8897" y="5245"/>
                  <a:pt x="9004" y="5209"/>
                </a:cubicBezTo>
                <a:cubicBezTo>
                  <a:pt x="8990" y="5330"/>
                  <a:pt x="8963" y="5437"/>
                  <a:pt x="8930" y="5556"/>
                </a:cubicBezTo>
              </a:path>
              <a:path w="2705" h="1837">
                <a:moveTo>
                  <a:pt x="8781" y="5779"/>
                </a:moveTo>
                <a:cubicBezTo>
                  <a:pt x="8897" y="5779"/>
                  <a:pt x="9048" y="5744"/>
                  <a:pt x="9153" y="5755"/>
                </a:cubicBezTo>
                <a:cubicBezTo>
                  <a:pt x="9161" y="5763"/>
                  <a:pt x="9170" y="5771"/>
                  <a:pt x="9178" y="5779"/>
                </a:cubicBezTo>
              </a:path>
              <a:path w="2705" h="1837">
                <a:moveTo>
                  <a:pt x="8830" y="6102"/>
                </a:moveTo>
                <a:cubicBezTo>
                  <a:pt x="8922" y="6095"/>
                  <a:pt x="9011" y="6084"/>
                  <a:pt x="9103" y="6077"/>
                </a:cubicBezTo>
                <a:cubicBezTo>
                  <a:pt x="9093" y="6237"/>
                  <a:pt x="9064" y="6391"/>
                  <a:pt x="9029" y="6548"/>
                </a:cubicBezTo>
              </a:path>
              <a:path w="2705" h="1837">
                <a:moveTo>
                  <a:pt x="9426" y="5804"/>
                </a:moveTo>
                <a:cubicBezTo>
                  <a:pt x="9488" y="5825"/>
                  <a:pt x="9531" y="5829"/>
                  <a:pt x="9599" y="5829"/>
                </a:cubicBezTo>
              </a:path>
              <a:path w="2705" h="1837">
                <a:moveTo>
                  <a:pt x="9475" y="6077"/>
                </a:moveTo>
                <a:cubicBezTo>
                  <a:pt x="9541" y="6044"/>
                  <a:pt x="9608" y="6011"/>
                  <a:pt x="9674" y="59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79920" y="1633680"/>
            <a:ext cx="1222200" cy="839520"/>
          </a:xfrm>
          <a:custGeom>
            <a:avLst/>
            <a:gdLst/>
            <a:ahLst/>
            <a:rect l="l" t="t" r="r" b="b"/>
            <a:pathLst>
              <a:path w="3399" h="2333">
                <a:moveTo>
                  <a:pt x="10220" y="5035"/>
                </a:moveTo>
                <a:cubicBezTo>
                  <a:pt x="10220" y="5154"/>
                  <a:pt x="10162" y="5444"/>
                  <a:pt x="10269" y="5531"/>
                </a:cubicBezTo>
                <a:cubicBezTo>
                  <a:pt x="10349" y="5596"/>
                  <a:pt x="10505" y="5464"/>
                  <a:pt x="10542" y="5407"/>
                </a:cubicBezTo>
                <a:cubicBezTo>
                  <a:pt x="10597" y="5324"/>
                  <a:pt x="10571" y="5303"/>
                  <a:pt x="10517" y="5259"/>
                </a:cubicBezTo>
                <a:cubicBezTo>
                  <a:pt x="10438" y="5293"/>
                  <a:pt x="10407" y="5379"/>
                  <a:pt x="10393" y="5482"/>
                </a:cubicBezTo>
                <a:cubicBezTo>
                  <a:pt x="10393" y="5490"/>
                  <a:pt x="10393" y="5499"/>
                  <a:pt x="10393" y="5507"/>
                </a:cubicBezTo>
              </a:path>
              <a:path w="3399" h="2333">
                <a:moveTo>
                  <a:pt x="10220" y="5730"/>
                </a:moveTo>
                <a:cubicBezTo>
                  <a:pt x="10387" y="5730"/>
                  <a:pt x="10529" y="5707"/>
                  <a:pt x="10691" y="5680"/>
                </a:cubicBezTo>
                <a:cubicBezTo>
                  <a:pt x="10726" y="5680"/>
                  <a:pt x="10743" y="5685"/>
                  <a:pt x="10765" y="5705"/>
                </a:cubicBezTo>
              </a:path>
              <a:path w="3399" h="2333">
                <a:moveTo>
                  <a:pt x="10592" y="6028"/>
                </a:moveTo>
                <a:cubicBezTo>
                  <a:pt x="10460" y="5967"/>
                  <a:pt x="10376" y="5951"/>
                  <a:pt x="10294" y="6102"/>
                </a:cubicBezTo>
                <a:cubicBezTo>
                  <a:pt x="10215" y="6248"/>
                  <a:pt x="10414" y="6294"/>
                  <a:pt x="10492" y="6375"/>
                </a:cubicBezTo>
                <a:cubicBezTo>
                  <a:pt x="10612" y="6500"/>
                  <a:pt x="10501" y="6534"/>
                  <a:pt x="10393" y="6573"/>
                </a:cubicBezTo>
                <a:cubicBezTo>
                  <a:pt x="10318" y="6460"/>
                  <a:pt x="10362" y="6394"/>
                  <a:pt x="10418" y="6276"/>
                </a:cubicBezTo>
                <a:cubicBezTo>
                  <a:pt x="10457" y="6193"/>
                  <a:pt x="10482" y="6160"/>
                  <a:pt x="10492" y="6077"/>
                </a:cubicBezTo>
              </a:path>
              <a:path w="3399" h="2333">
                <a:moveTo>
                  <a:pt x="11013" y="5804"/>
                </a:moveTo>
                <a:cubicBezTo>
                  <a:pt x="11075" y="5814"/>
                  <a:pt x="11123" y="5829"/>
                  <a:pt x="11187" y="5829"/>
                </a:cubicBezTo>
              </a:path>
              <a:path w="3399" h="2333">
                <a:moveTo>
                  <a:pt x="11063" y="5581"/>
                </a:moveTo>
                <a:lnTo>
                  <a:pt x="11063" y="5581"/>
                </a:lnTo>
              </a:path>
              <a:path w="3399" h="2333">
                <a:moveTo>
                  <a:pt x="11112" y="6077"/>
                </a:moveTo>
                <a:lnTo>
                  <a:pt x="11112" y="6077"/>
                </a:lnTo>
              </a:path>
              <a:path w="3399" h="2333">
                <a:moveTo>
                  <a:pt x="11410" y="5234"/>
                </a:moveTo>
                <a:cubicBezTo>
                  <a:pt x="11491" y="5193"/>
                  <a:pt x="11504" y="5176"/>
                  <a:pt x="11559" y="5184"/>
                </a:cubicBezTo>
                <a:cubicBezTo>
                  <a:pt x="11583" y="5340"/>
                  <a:pt x="11426" y="5440"/>
                  <a:pt x="11435" y="5556"/>
                </a:cubicBezTo>
                <a:cubicBezTo>
                  <a:pt x="11437" y="5581"/>
                  <a:pt x="11609" y="5517"/>
                  <a:pt x="11633" y="5507"/>
                </a:cubicBezTo>
              </a:path>
              <a:path w="3399" h="2333">
                <a:moveTo>
                  <a:pt x="11435" y="5829"/>
                </a:moveTo>
                <a:cubicBezTo>
                  <a:pt x="11547" y="5757"/>
                  <a:pt x="11629" y="5718"/>
                  <a:pt x="11757" y="5680"/>
                </a:cubicBezTo>
              </a:path>
              <a:path w="3399" h="2333">
                <a:moveTo>
                  <a:pt x="11584" y="6052"/>
                </a:moveTo>
                <a:cubicBezTo>
                  <a:pt x="11627" y="6031"/>
                  <a:pt x="11639" y="6027"/>
                  <a:pt x="11658" y="6003"/>
                </a:cubicBezTo>
                <a:cubicBezTo>
                  <a:pt x="11699" y="6175"/>
                  <a:pt x="11656" y="6242"/>
                  <a:pt x="11559" y="6400"/>
                </a:cubicBezTo>
                <a:cubicBezTo>
                  <a:pt x="11670" y="6338"/>
                  <a:pt x="11763" y="6262"/>
                  <a:pt x="11857" y="6176"/>
                </a:cubicBezTo>
              </a:path>
              <a:path w="3399" h="2333">
                <a:moveTo>
                  <a:pt x="12055" y="5804"/>
                </a:moveTo>
                <a:cubicBezTo>
                  <a:pt x="12114" y="5804"/>
                  <a:pt x="12140" y="5801"/>
                  <a:pt x="12179" y="5779"/>
                </a:cubicBezTo>
              </a:path>
              <a:path w="3399" h="2333">
                <a:moveTo>
                  <a:pt x="12129" y="6003"/>
                </a:moveTo>
                <a:cubicBezTo>
                  <a:pt x="12213" y="5982"/>
                  <a:pt x="12233" y="5981"/>
                  <a:pt x="12278" y="5953"/>
                </a:cubicBezTo>
              </a:path>
              <a:path w="3399" h="2333">
                <a:moveTo>
                  <a:pt x="12576" y="5259"/>
                </a:moveTo>
                <a:cubicBezTo>
                  <a:pt x="12576" y="5188"/>
                  <a:pt x="12622" y="5179"/>
                  <a:pt x="12675" y="5135"/>
                </a:cubicBezTo>
                <a:cubicBezTo>
                  <a:pt x="12762" y="5274"/>
                  <a:pt x="12752" y="5281"/>
                  <a:pt x="12626" y="5407"/>
                </a:cubicBezTo>
                <a:cubicBezTo>
                  <a:pt x="12540" y="5493"/>
                  <a:pt x="12717" y="5574"/>
                  <a:pt x="12626" y="5655"/>
                </a:cubicBezTo>
                <a:cubicBezTo>
                  <a:pt x="12522" y="5718"/>
                  <a:pt x="12504" y="5743"/>
                  <a:pt x="12427" y="5730"/>
                </a:cubicBezTo>
              </a:path>
              <a:path w="3399" h="2333">
                <a:moveTo>
                  <a:pt x="12502" y="5879"/>
                </a:moveTo>
                <a:cubicBezTo>
                  <a:pt x="12627" y="5872"/>
                  <a:pt x="12749" y="5860"/>
                  <a:pt x="12874" y="5854"/>
                </a:cubicBezTo>
              </a:path>
              <a:path w="3399" h="2333">
                <a:moveTo>
                  <a:pt x="12601" y="6201"/>
                </a:moveTo>
                <a:cubicBezTo>
                  <a:pt x="12601" y="6309"/>
                  <a:pt x="12601" y="6366"/>
                  <a:pt x="12601" y="6474"/>
                </a:cubicBezTo>
                <a:cubicBezTo>
                  <a:pt x="12709" y="6452"/>
                  <a:pt x="12780" y="6424"/>
                  <a:pt x="12898" y="6424"/>
                </a:cubicBezTo>
              </a:path>
              <a:path w="3399" h="2333">
                <a:moveTo>
                  <a:pt x="12799" y="6052"/>
                </a:moveTo>
                <a:cubicBezTo>
                  <a:pt x="12799" y="6236"/>
                  <a:pt x="12835" y="6415"/>
                  <a:pt x="12849" y="6598"/>
                </a:cubicBezTo>
                <a:cubicBezTo>
                  <a:pt x="12849" y="6631"/>
                  <a:pt x="12849" y="6664"/>
                  <a:pt x="12849" y="6697"/>
                </a:cubicBezTo>
              </a:path>
              <a:path w="3399" h="2333">
                <a:moveTo>
                  <a:pt x="12452" y="6747"/>
                </a:moveTo>
                <a:cubicBezTo>
                  <a:pt x="12550" y="6830"/>
                  <a:pt x="12611" y="6894"/>
                  <a:pt x="12774" y="6871"/>
                </a:cubicBezTo>
                <a:cubicBezTo>
                  <a:pt x="13023" y="6836"/>
                  <a:pt x="13195" y="6716"/>
                  <a:pt x="13370" y="6548"/>
                </a:cubicBezTo>
                <a:cubicBezTo>
                  <a:pt x="13566" y="6360"/>
                  <a:pt x="13603" y="6145"/>
                  <a:pt x="13618" y="5879"/>
                </a:cubicBezTo>
                <a:cubicBezTo>
                  <a:pt x="13631" y="5654"/>
                  <a:pt x="13601" y="5403"/>
                  <a:pt x="13543" y="5184"/>
                </a:cubicBezTo>
                <a:cubicBezTo>
                  <a:pt x="13503" y="5033"/>
                  <a:pt x="13429" y="4829"/>
                  <a:pt x="13320" y="4713"/>
                </a:cubicBezTo>
                <a:cubicBezTo>
                  <a:pt x="13206" y="4590"/>
                  <a:pt x="13084" y="4544"/>
                  <a:pt x="12923" y="4539"/>
                </a:cubicBezTo>
                <a:cubicBezTo>
                  <a:pt x="12764" y="4535"/>
                  <a:pt x="12666" y="4557"/>
                  <a:pt x="12526" y="4638"/>
                </a:cubicBezTo>
                <a:cubicBezTo>
                  <a:pt x="12411" y="4705"/>
                  <a:pt x="12300" y="4824"/>
                  <a:pt x="12229" y="4936"/>
                </a:cubicBezTo>
                <a:cubicBezTo>
                  <a:pt x="12147" y="5066"/>
                  <a:pt x="12108" y="5190"/>
                  <a:pt x="12080" y="5333"/>
                </a:cubicBezTo>
                <a:cubicBezTo>
                  <a:pt x="12051" y="5481"/>
                  <a:pt x="12047" y="5607"/>
                  <a:pt x="12080" y="5755"/>
                </a:cubicBezTo>
                <a:cubicBezTo>
                  <a:pt x="12108" y="5880"/>
                  <a:pt x="12135" y="5990"/>
                  <a:pt x="12179" y="6102"/>
                </a:cubicBezTo>
                <a:cubicBezTo>
                  <a:pt x="12217" y="6198"/>
                  <a:pt x="12232" y="6304"/>
                  <a:pt x="12254" y="6400"/>
                </a:cubicBezTo>
                <a:cubicBezTo>
                  <a:pt x="12270" y="6469"/>
                  <a:pt x="12277" y="6531"/>
                  <a:pt x="12303" y="6598"/>
                </a:cubicBezTo>
                <a:cubicBezTo>
                  <a:pt x="12339" y="6689"/>
                  <a:pt x="12390" y="6727"/>
                  <a:pt x="12477" y="6772"/>
                </a:cubicBezTo>
                <a:cubicBezTo>
                  <a:pt x="12551" y="6796"/>
                  <a:pt x="12576" y="6804"/>
                  <a:pt x="12626" y="68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03960" y="1660680"/>
            <a:ext cx="1778040" cy="1938240"/>
          </a:xfrm>
          <a:custGeom>
            <a:avLst/>
            <a:gdLst/>
            <a:ahLst/>
            <a:rect l="l" t="t" r="r" b="b"/>
            <a:pathLst>
              <a:path w="4937" h="5383">
                <a:moveTo>
                  <a:pt x="19298" y="5209"/>
                </a:moveTo>
                <a:cubicBezTo>
                  <a:pt x="19348" y="5135"/>
                  <a:pt x="19365" y="5110"/>
                  <a:pt x="19422" y="5085"/>
                </a:cubicBezTo>
                <a:cubicBezTo>
                  <a:pt x="19571" y="5153"/>
                  <a:pt x="19578" y="5286"/>
                  <a:pt x="19447" y="5432"/>
                </a:cubicBezTo>
                <a:cubicBezTo>
                  <a:pt x="19354" y="5536"/>
                  <a:pt x="19274" y="5588"/>
                  <a:pt x="19199" y="5556"/>
                </a:cubicBezTo>
                <a:cubicBezTo>
                  <a:pt x="19280" y="5462"/>
                  <a:pt x="19404" y="5472"/>
                  <a:pt x="19472" y="5606"/>
                </a:cubicBezTo>
                <a:cubicBezTo>
                  <a:pt x="19472" y="5672"/>
                  <a:pt x="19472" y="5689"/>
                  <a:pt x="19472" y="5730"/>
                </a:cubicBezTo>
              </a:path>
              <a:path w="4937" h="5383">
                <a:moveTo>
                  <a:pt x="19695" y="5209"/>
                </a:moveTo>
                <a:cubicBezTo>
                  <a:pt x="19861" y="5131"/>
                  <a:pt x="19891" y="5174"/>
                  <a:pt x="20042" y="5159"/>
                </a:cubicBezTo>
                <a:cubicBezTo>
                  <a:pt x="20207" y="5142"/>
                  <a:pt x="20065" y="5403"/>
                  <a:pt x="20042" y="5507"/>
                </a:cubicBezTo>
                <a:cubicBezTo>
                  <a:pt x="20021" y="5632"/>
                  <a:pt x="20020" y="5658"/>
                  <a:pt x="19993" y="5730"/>
                </a:cubicBezTo>
              </a:path>
              <a:path w="4937" h="5383">
                <a:moveTo>
                  <a:pt x="19124" y="5928"/>
                </a:moveTo>
                <a:cubicBezTo>
                  <a:pt x="19401" y="5888"/>
                  <a:pt x="19686" y="5904"/>
                  <a:pt x="19968" y="5904"/>
                </a:cubicBezTo>
                <a:cubicBezTo>
                  <a:pt x="20141" y="5904"/>
                  <a:pt x="20183" y="5904"/>
                  <a:pt x="20290" y="5904"/>
                </a:cubicBezTo>
              </a:path>
              <a:path w="4937" h="5383">
                <a:moveTo>
                  <a:pt x="21779" y="4688"/>
                </a:moveTo>
                <a:cubicBezTo>
                  <a:pt x="21779" y="4848"/>
                  <a:pt x="21790" y="5004"/>
                  <a:pt x="21754" y="5159"/>
                </a:cubicBezTo>
              </a:path>
              <a:path w="4937" h="5383">
                <a:moveTo>
                  <a:pt x="21903" y="4762"/>
                </a:moveTo>
                <a:cubicBezTo>
                  <a:pt x="21911" y="4877"/>
                  <a:pt x="21907" y="4952"/>
                  <a:pt x="22051" y="4936"/>
                </a:cubicBezTo>
                <a:cubicBezTo>
                  <a:pt x="22118" y="4914"/>
                  <a:pt x="22136" y="4909"/>
                  <a:pt x="22175" y="4887"/>
                </a:cubicBezTo>
              </a:path>
              <a:path w="4937" h="5383">
                <a:moveTo>
                  <a:pt x="22175" y="4614"/>
                </a:moveTo>
                <a:cubicBezTo>
                  <a:pt x="22161" y="4802"/>
                  <a:pt x="22171" y="4998"/>
                  <a:pt x="22151" y="5184"/>
                </a:cubicBezTo>
                <a:cubicBezTo>
                  <a:pt x="22143" y="5217"/>
                  <a:pt x="22134" y="5250"/>
                  <a:pt x="22126" y="5283"/>
                </a:cubicBezTo>
              </a:path>
              <a:path w="4937" h="5383">
                <a:moveTo>
                  <a:pt x="22101" y="5383"/>
                </a:moveTo>
                <a:cubicBezTo>
                  <a:pt x="22005" y="5476"/>
                  <a:pt x="22127" y="5447"/>
                  <a:pt x="22200" y="5432"/>
                </a:cubicBezTo>
              </a:path>
              <a:path w="4937" h="5383">
                <a:moveTo>
                  <a:pt x="22200" y="5308"/>
                </a:moveTo>
                <a:cubicBezTo>
                  <a:pt x="22200" y="5440"/>
                  <a:pt x="22200" y="5573"/>
                  <a:pt x="22200" y="5705"/>
                </a:cubicBezTo>
              </a:path>
              <a:path w="4937" h="5383">
                <a:moveTo>
                  <a:pt x="21382" y="5904"/>
                </a:moveTo>
                <a:cubicBezTo>
                  <a:pt x="21626" y="5884"/>
                  <a:pt x="21841" y="5822"/>
                  <a:pt x="22076" y="5755"/>
                </a:cubicBezTo>
              </a:path>
              <a:path w="4937" h="5383">
                <a:moveTo>
                  <a:pt x="21630" y="6127"/>
                </a:moveTo>
                <a:cubicBezTo>
                  <a:pt x="21629" y="6274"/>
                  <a:pt x="21758" y="6210"/>
                  <a:pt x="21878" y="6276"/>
                </a:cubicBezTo>
                <a:cubicBezTo>
                  <a:pt x="21970" y="6327"/>
                  <a:pt x="21734" y="6389"/>
                  <a:pt x="21630" y="6400"/>
                </a:cubicBezTo>
              </a:path>
              <a:path w="4937" h="5383">
                <a:moveTo>
                  <a:pt x="21779" y="6077"/>
                </a:moveTo>
                <a:cubicBezTo>
                  <a:pt x="21889" y="6060"/>
                  <a:pt x="21990" y="6052"/>
                  <a:pt x="22101" y="6052"/>
                </a:cubicBezTo>
                <a:cubicBezTo>
                  <a:pt x="22118" y="6052"/>
                  <a:pt x="22134" y="6052"/>
                  <a:pt x="22151" y="6052"/>
                </a:cubicBezTo>
                <a:cubicBezTo>
                  <a:pt x="22151" y="6108"/>
                  <a:pt x="22117" y="6338"/>
                  <a:pt x="22225" y="6350"/>
                </a:cubicBezTo>
                <a:cubicBezTo>
                  <a:pt x="22342" y="6363"/>
                  <a:pt x="22392" y="6251"/>
                  <a:pt x="22448" y="6176"/>
                </a:cubicBezTo>
                <a:cubicBezTo>
                  <a:pt x="22334" y="6229"/>
                  <a:pt x="22313" y="6223"/>
                  <a:pt x="22275" y="6350"/>
                </a:cubicBezTo>
              </a:path>
              <a:path w="4937" h="5383">
                <a:moveTo>
                  <a:pt x="19472" y="6325"/>
                </a:moveTo>
                <a:cubicBezTo>
                  <a:pt x="19433" y="6318"/>
                  <a:pt x="19182" y="6257"/>
                  <a:pt x="19149" y="6300"/>
                </a:cubicBezTo>
                <a:cubicBezTo>
                  <a:pt x="19094" y="6373"/>
                  <a:pt x="19102" y="6468"/>
                  <a:pt x="19075" y="6548"/>
                </a:cubicBezTo>
                <a:cubicBezTo>
                  <a:pt x="19143" y="6554"/>
                  <a:pt x="19344" y="6547"/>
                  <a:pt x="19323" y="6672"/>
                </a:cubicBezTo>
                <a:cubicBezTo>
                  <a:pt x="19293" y="6850"/>
                  <a:pt x="19135" y="6791"/>
                  <a:pt x="19025" y="6747"/>
                </a:cubicBezTo>
              </a:path>
              <a:path w="4937" h="5383">
                <a:moveTo>
                  <a:pt x="19794" y="6350"/>
                </a:moveTo>
                <a:cubicBezTo>
                  <a:pt x="19774" y="6451"/>
                  <a:pt x="19776" y="6471"/>
                  <a:pt x="19745" y="6524"/>
                </a:cubicBezTo>
                <a:cubicBezTo>
                  <a:pt x="19847" y="6540"/>
                  <a:pt x="19885" y="6564"/>
                  <a:pt x="19968" y="6524"/>
                </a:cubicBezTo>
              </a:path>
              <a:path w="4937" h="5383">
                <a:moveTo>
                  <a:pt x="19968" y="6176"/>
                </a:moveTo>
                <a:cubicBezTo>
                  <a:pt x="19939" y="6350"/>
                  <a:pt x="19943" y="6520"/>
                  <a:pt x="19943" y="6697"/>
                </a:cubicBezTo>
                <a:cubicBezTo>
                  <a:pt x="19943" y="6738"/>
                  <a:pt x="19943" y="6780"/>
                  <a:pt x="19943" y="6821"/>
                </a:cubicBezTo>
              </a:path>
              <a:path w="4937" h="5383">
                <a:moveTo>
                  <a:pt x="19918" y="6201"/>
                </a:moveTo>
                <a:cubicBezTo>
                  <a:pt x="19892" y="6098"/>
                  <a:pt x="19835" y="6349"/>
                  <a:pt x="19819" y="6400"/>
                </a:cubicBezTo>
                <a:cubicBezTo>
                  <a:pt x="19796" y="6474"/>
                  <a:pt x="19750" y="6570"/>
                  <a:pt x="19745" y="6648"/>
                </a:cubicBezTo>
                <a:cubicBezTo>
                  <a:pt x="19745" y="6692"/>
                  <a:pt x="19742" y="6705"/>
                  <a:pt x="19769" y="6722"/>
                </a:cubicBezTo>
                <a:cubicBezTo>
                  <a:pt x="19864" y="6776"/>
                  <a:pt x="19908" y="6765"/>
                  <a:pt x="20017" y="6722"/>
                </a:cubicBezTo>
                <a:cubicBezTo>
                  <a:pt x="20076" y="6699"/>
                  <a:pt x="20145" y="6666"/>
                  <a:pt x="20191" y="6623"/>
                </a:cubicBezTo>
                <a:cubicBezTo>
                  <a:pt x="20237" y="6577"/>
                  <a:pt x="20251" y="6565"/>
                  <a:pt x="20265" y="6524"/>
                </a:cubicBezTo>
                <a:cubicBezTo>
                  <a:pt x="20236" y="6506"/>
                  <a:pt x="20156" y="6473"/>
                  <a:pt x="20117" y="6499"/>
                </a:cubicBezTo>
                <a:cubicBezTo>
                  <a:pt x="20048" y="6545"/>
                  <a:pt x="19965" y="6612"/>
                  <a:pt x="19943" y="6697"/>
                </a:cubicBezTo>
                <a:cubicBezTo>
                  <a:pt x="19943" y="6714"/>
                  <a:pt x="19943" y="6730"/>
                  <a:pt x="19943" y="6747"/>
                </a:cubicBezTo>
                <a:cubicBezTo>
                  <a:pt x="19969" y="6689"/>
                  <a:pt x="19990" y="6528"/>
                  <a:pt x="20067" y="6524"/>
                </a:cubicBezTo>
                <a:cubicBezTo>
                  <a:pt x="20092" y="6532"/>
                  <a:pt x="20116" y="6540"/>
                  <a:pt x="20141" y="6548"/>
                </a:cubicBezTo>
                <a:cubicBezTo>
                  <a:pt x="20180" y="6638"/>
                  <a:pt x="20153" y="6701"/>
                  <a:pt x="20042" y="6722"/>
                </a:cubicBezTo>
                <a:cubicBezTo>
                  <a:pt x="19948" y="6740"/>
                  <a:pt x="19880" y="6736"/>
                  <a:pt x="19844" y="6648"/>
                </a:cubicBezTo>
                <a:cubicBezTo>
                  <a:pt x="19804" y="6549"/>
                  <a:pt x="19850" y="6467"/>
                  <a:pt x="19893" y="6375"/>
                </a:cubicBezTo>
                <a:cubicBezTo>
                  <a:pt x="19918" y="6325"/>
                  <a:pt x="19926" y="6309"/>
                  <a:pt x="19943" y="6276"/>
                </a:cubicBezTo>
              </a:path>
              <a:path w="4937" h="5383">
                <a:moveTo>
                  <a:pt x="20017" y="6226"/>
                </a:moveTo>
                <a:lnTo>
                  <a:pt x="20017" y="6226"/>
                </a:lnTo>
              </a:path>
              <a:path w="4937" h="5383">
                <a:moveTo>
                  <a:pt x="19100" y="6945"/>
                </a:moveTo>
                <a:cubicBezTo>
                  <a:pt x="19194" y="7095"/>
                  <a:pt x="19383" y="7121"/>
                  <a:pt x="19571" y="7119"/>
                </a:cubicBezTo>
                <a:cubicBezTo>
                  <a:pt x="19890" y="7115"/>
                  <a:pt x="20314" y="7045"/>
                  <a:pt x="20588" y="6871"/>
                </a:cubicBezTo>
                <a:cubicBezTo>
                  <a:pt x="20775" y="6752"/>
                  <a:pt x="20919" y="6520"/>
                  <a:pt x="21010" y="6325"/>
                </a:cubicBezTo>
                <a:cubicBezTo>
                  <a:pt x="21093" y="6148"/>
                  <a:pt x="21099" y="5947"/>
                  <a:pt x="21084" y="5755"/>
                </a:cubicBezTo>
                <a:cubicBezTo>
                  <a:pt x="21068" y="5551"/>
                  <a:pt x="21031" y="5366"/>
                  <a:pt x="20935" y="5184"/>
                </a:cubicBezTo>
                <a:cubicBezTo>
                  <a:pt x="20874" y="5069"/>
                  <a:pt x="20763" y="4987"/>
                  <a:pt x="20662" y="4911"/>
                </a:cubicBezTo>
                <a:cubicBezTo>
                  <a:pt x="20540" y="4820"/>
                  <a:pt x="20396" y="4732"/>
                  <a:pt x="20241" y="4713"/>
                </a:cubicBezTo>
                <a:cubicBezTo>
                  <a:pt x="20053" y="4691"/>
                  <a:pt x="19827" y="4717"/>
                  <a:pt x="19645" y="4762"/>
                </a:cubicBezTo>
                <a:cubicBezTo>
                  <a:pt x="19427" y="4816"/>
                  <a:pt x="19263" y="4882"/>
                  <a:pt x="19100" y="5035"/>
                </a:cubicBezTo>
                <a:cubicBezTo>
                  <a:pt x="19004" y="5125"/>
                  <a:pt x="18916" y="5280"/>
                  <a:pt x="18876" y="5407"/>
                </a:cubicBezTo>
                <a:cubicBezTo>
                  <a:pt x="18817" y="5595"/>
                  <a:pt x="18805" y="5808"/>
                  <a:pt x="18802" y="6003"/>
                </a:cubicBezTo>
                <a:cubicBezTo>
                  <a:pt x="18799" y="6173"/>
                  <a:pt x="18816" y="6332"/>
                  <a:pt x="18827" y="6499"/>
                </a:cubicBezTo>
                <a:cubicBezTo>
                  <a:pt x="18835" y="6616"/>
                  <a:pt x="18837" y="6734"/>
                  <a:pt x="18876" y="6846"/>
                </a:cubicBezTo>
                <a:cubicBezTo>
                  <a:pt x="18901" y="6918"/>
                  <a:pt x="18946" y="7036"/>
                  <a:pt x="19025" y="7069"/>
                </a:cubicBezTo>
                <a:cubicBezTo>
                  <a:pt x="19138" y="7116"/>
                  <a:pt x="19233" y="7076"/>
                  <a:pt x="19348" y="7069"/>
                </a:cubicBezTo>
                <a:cubicBezTo>
                  <a:pt x="19356" y="7069"/>
                  <a:pt x="19364" y="7069"/>
                  <a:pt x="19372" y="7069"/>
                </a:cubicBezTo>
              </a:path>
              <a:path w="4937" h="5383">
                <a:moveTo>
                  <a:pt x="18132" y="9054"/>
                </a:moveTo>
                <a:cubicBezTo>
                  <a:pt x="18085" y="9006"/>
                  <a:pt x="18097" y="8968"/>
                  <a:pt x="18008" y="8979"/>
                </a:cubicBezTo>
                <a:cubicBezTo>
                  <a:pt x="17911" y="8991"/>
                  <a:pt x="17789" y="9048"/>
                  <a:pt x="17711" y="9103"/>
                </a:cubicBezTo>
                <a:cubicBezTo>
                  <a:pt x="17641" y="9152"/>
                  <a:pt x="17592" y="9202"/>
                  <a:pt x="17562" y="9277"/>
                </a:cubicBezTo>
                <a:cubicBezTo>
                  <a:pt x="17511" y="9404"/>
                  <a:pt x="17525" y="9471"/>
                  <a:pt x="17537" y="9599"/>
                </a:cubicBezTo>
                <a:cubicBezTo>
                  <a:pt x="17548" y="9719"/>
                  <a:pt x="17558" y="9779"/>
                  <a:pt x="17636" y="9872"/>
                </a:cubicBezTo>
                <a:cubicBezTo>
                  <a:pt x="17721" y="9974"/>
                  <a:pt x="17876" y="10033"/>
                  <a:pt x="18008" y="9996"/>
                </a:cubicBezTo>
                <a:cubicBezTo>
                  <a:pt x="18130" y="9962"/>
                  <a:pt x="18260" y="9879"/>
                  <a:pt x="18355" y="9798"/>
                </a:cubicBezTo>
                <a:cubicBezTo>
                  <a:pt x="18475" y="9695"/>
                  <a:pt x="18451" y="9589"/>
                  <a:pt x="18479" y="9451"/>
                </a:cubicBezTo>
                <a:cubicBezTo>
                  <a:pt x="18497" y="9363"/>
                  <a:pt x="18507" y="9313"/>
                  <a:pt x="18479" y="9227"/>
                </a:cubicBezTo>
                <a:cubicBezTo>
                  <a:pt x="18456" y="9156"/>
                  <a:pt x="18403" y="9099"/>
                  <a:pt x="18355" y="9054"/>
                </a:cubicBezTo>
                <a:cubicBezTo>
                  <a:pt x="18310" y="9012"/>
                  <a:pt x="18247" y="8976"/>
                  <a:pt x="18182" y="8979"/>
                </a:cubicBezTo>
                <a:cubicBezTo>
                  <a:pt x="18165" y="8987"/>
                  <a:pt x="18149" y="8996"/>
                  <a:pt x="18132" y="9004"/>
                </a:cubicBezTo>
              </a:path>
              <a:path w="4937" h="5383">
                <a:moveTo>
                  <a:pt x="19224" y="9103"/>
                </a:moveTo>
                <a:cubicBezTo>
                  <a:pt x="19101" y="9063"/>
                  <a:pt x="19050" y="9099"/>
                  <a:pt x="18951" y="9178"/>
                </a:cubicBezTo>
                <a:cubicBezTo>
                  <a:pt x="18874" y="9240"/>
                  <a:pt x="18879" y="9242"/>
                  <a:pt x="18827" y="9327"/>
                </a:cubicBezTo>
                <a:cubicBezTo>
                  <a:pt x="18787" y="9392"/>
                  <a:pt x="18780" y="9515"/>
                  <a:pt x="18777" y="9599"/>
                </a:cubicBezTo>
                <a:cubicBezTo>
                  <a:pt x="18774" y="9676"/>
                  <a:pt x="18778" y="9751"/>
                  <a:pt x="18802" y="9823"/>
                </a:cubicBezTo>
                <a:cubicBezTo>
                  <a:pt x="18829" y="9903"/>
                  <a:pt x="18903" y="9999"/>
                  <a:pt x="19000" y="9996"/>
                </a:cubicBezTo>
                <a:cubicBezTo>
                  <a:pt x="19077" y="9993"/>
                  <a:pt x="19176" y="9951"/>
                  <a:pt x="19248" y="9922"/>
                </a:cubicBezTo>
                <a:cubicBezTo>
                  <a:pt x="19323" y="9891"/>
                  <a:pt x="19382" y="9878"/>
                  <a:pt x="19447" y="9823"/>
                </a:cubicBezTo>
                <a:cubicBezTo>
                  <a:pt x="19535" y="9749"/>
                  <a:pt x="19512" y="9689"/>
                  <a:pt x="19546" y="9599"/>
                </a:cubicBezTo>
                <a:cubicBezTo>
                  <a:pt x="19573" y="9529"/>
                  <a:pt x="19550" y="9526"/>
                  <a:pt x="19546" y="9451"/>
                </a:cubicBezTo>
                <a:cubicBezTo>
                  <a:pt x="19542" y="9376"/>
                  <a:pt x="19496" y="9290"/>
                  <a:pt x="19447" y="9227"/>
                </a:cubicBezTo>
                <a:cubicBezTo>
                  <a:pt x="19383" y="9145"/>
                  <a:pt x="19314" y="9121"/>
                  <a:pt x="19224" y="9079"/>
                </a:cubicBezTo>
                <a:cubicBezTo>
                  <a:pt x="19161" y="9049"/>
                  <a:pt x="19166" y="9069"/>
                  <a:pt x="19100" y="9079"/>
                </a:cubicBezTo>
              </a:path>
              <a:path w="4937" h="5383">
                <a:moveTo>
                  <a:pt x="19149" y="9178"/>
                </a:moveTo>
                <a:cubicBezTo>
                  <a:pt x="19157" y="9170"/>
                  <a:pt x="19166" y="9161"/>
                  <a:pt x="19174" y="9153"/>
                </a:cubicBezTo>
                <a:cubicBezTo>
                  <a:pt x="19174" y="9225"/>
                  <a:pt x="19206" y="9397"/>
                  <a:pt x="19199" y="9451"/>
                </a:cubicBezTo>
                <a:cubicBezTo>
                  <a:pt x="19190" y="9519"/>
                  <a:pt x="19142" y="9565"/>
                  <a:pt x="19100" y="9599"/>
                </a:cubicBezTo>
                <a:cubicBezTo>
                  <a:pt x="19047" y="9642"/>
                  <a:pt x="18965" y="9663"/>
                  <a:pt x="18926" y="9723"/>
                </a:cubicBezTo>
                <a:cubicBezTo>
                  <a:pt x="18895" y="9771"/>
                  <a:pt x="18851" y="9807"/>
                  <a:pt x="18827" y="9847"/>
                </a:cubicBezTo>
              </a:path>
              <a:path w="4937" h="5383">
                <a:moveTo>
                  <a:pt x="19224" y="9575"/>
                </a:moveTo>
                <a:cubicBezTo>
                  <a:pt x="19232" y="9558"/>
                  <a:pt x="19240" y="9542"/>
                  <a:pt x="19248" y="9525"/>
                </a:cubicBezTo>
                <a:cubicBezTo>
                  <a:pt x="19258" y="9601"/>
                  <a:pt x="19280" y="9651"/>
                  <a:pt x="19348" y="9699"/>
                </a:cubicBezTo>
                <a:cubicBezTo>
                  <a:pt x="19388" y="9727"/>
                  <a:pt x="19413" y="9739"/>
                  <a:pt x="19447" y="9773"/>
                </a:cubicBezTo>
              </a:path>
              <a:path w="4937" h="5383">
                <a:moveTo>
                  <a:pt x="19100" y="9773"/>
                </a:moveTo>
                <a:cubicBezTo>
                  <a:pt x="19154" y="9849"/>
                  <a:pt x="19107" y="9705"/>
                  <a:pt x="19224" y="9699"/>
                </a:cubicBezTo>
                <a:cubicBezTo>
                  <a:pt x="19387" y="9690"/>
                  <a:pt x="19284" y="9446"/>
                  <a:pt x="19372" y="9649"/>
                </a:cubicBezTo>
                <a:cubicBezTo>
                  <a:pt x="19412" y="9530"/>
                  <a:pt x="19429" y="9566"/>
                  <a:pt x="19447" y="9451"/>
                </a:cubicBezTo>
                <a:cubicBezTo>
                  <a:pt x="19447" y="9426"/>
                  <a:pt x="19447" y="9401"/>
                  <a:pt x="19447" y="9376"/>
                </a:cubicBezTo>
              </a:path>
              <a:path w="4937" h="5383">
                <a:moveTo>
                  <a:pt x="18876" y="8062"/>
                </a:moveTo>
                <a:cubicBezTo>
                  <a:pt x="18898" y="8018"/>
                  <a:pt x="18901" y="8006"/>
                  <a:pt x="18926" y="7987"/>
                </a:cubicBezTo>
                <a:cubicBezTo>
                  <a:pt x="19034" y="8034"/>
                  <a:pt x="19022" y="8124"/>
                  <a:pt x="18926" y="8210"/>
                </a:cubicBezTo>
                <a:cubicBezTo>
                  <a:pt x="18909" y="8218"/>
                  <a:pt x="18893" y="8227"/>
                  <a:pt x="18876" y="8235"/>
                </a:cubicBezTo>
                <a:cubicBezTo>
                  <a:pt x="18878" y="8161"/>
                  <a:pt x="18969" y="8184"/>
                  <a:pt x="19050" y="8210"/>
                </a:cubicBezTo>
              </a:path>
              <a:path w="4937" h="5383">
                <a:moveTo>
                  <a:pt x="18827" y="8359"/>
                </a:moveTo>
                <a:cubicBezTo>
                  <a:pt x="18920" y="8344"/>
                  <a:pt x="18982" y="8334"/>
                  <a:pt x="19075" y="8334"/>
                </a:cubicBezTo>
              </a:path>
              <a:path w="4937" h="5383">
                <a:moveTo>
                  <a:pt x="18926" y="8582"/>
                </a:moveTo>
                <a:cubicBezTo>
                  <a:pt x="18961" y="8582"/>
                  <a:pt x="18978" y="8578"/>
                  <a:pt x="19000" y="8558"/>
                </a:cubicBezTo>
                <a:cubicBezTo>
                  <a:pt x="18990" y="8657"/>
                  <a:pt x="18958" y="8657"/>
                  <a:pt x="19050" y="8657"/>
                </a:cubicBezTo>
                <a:cubicBezTo>
                  <a:pt x="19023" y="8782"/>
                  <a:pt x="19042" y="8767"/>
                  <a:pt x="18926" y="8830"/>
                </a:cubicBezTo>
              </a:path>
              <a:path w="4937" h="5383">
                <a:moveTo>
                  <a:pt x="18033" y="9079"/>
                </a:moveTo>
                <a:cubicBezTo>
                  <a:pt x="18033" y="9054"/>
                  <a:pt x="18033" y="9046"/>
                  <a:pt x="18033" y="9029"/>
                </a:cubicBezTo>
                <a:cubicBezTo>
                  <a:pt x="18033" y="9112"/>
                  <a:pt x="18063" y="9263"/>
                  <a:pt x="18058" y="9327"/>
                </a:cubicBezTo>
                <a:cubicBezTo>
                  <a:pt x="18037" y="9411"/>
                  <a:pt x="18036" y="9430"/>
                  <a:pt x="18008" y="9475"/>
                </a:cubicBezTo>
              </a:path>
              <a:path w="4937" h="5383">
                <a:moveTo>
                  <a:pt x="18008" y="9500"/>
                </a:moveTo>
                <a:cubicBezTo>
                  <a:pt x="17904" y="9539"/>
                  <a:pt x="17823" y="9682"/>
                  <a:pt x="17735" y="9773"/>
                </a:cubicBezTo>
                <a:cubicBezTo>
                  <a:pt x="17669" y="9839"/>
                  <a:pt x="17652" y="9856"/>
                  <a:pt x="17611" y="9897"/>
                </a:cubicBezTo>
              </a:path>
              <a:path w="4937" h="5383">
                <a:moveTo>
                  <a:pt x="18008" y="9525"/>
                </a:moveTo>
                <a:cubicBezTo>
                  <a:pt x="18095" y="9560"/>
                  <a:pt x="18137" y="9641"/>
                  <a:pt x="18207" y="9699"/>
                </a:cubicBezTo>
                <a:cubicBezTo>
                  <a:pt x="18243" y="9729"/>
                  <a:pt x="18293" y="9743"/>
                  <a:pt x="18331" y="9773"/>
                </a:cubicBezTo>
              </a:path>
              <a:path w="4937" h="5383">
                <a:moveTo>
                  <a:pt x="17587" y="8012"/>
                </a:moveTo>
                <a:cubicBezTo>
                  <a:pt x="17711" y="7996"/>
                  <a:pt x="17723" y="8003"/>
                  <a:pt x="17711" y="8136"/>
                </a:cubicBezTo>
                <a:cubicBezTo>
                  <a:pt x="17837" y="8186"/>
                  <a:pt x="17837" y="8262"/>
                  <a:pt x="17686" y="8310"/>
                </a:cubicBezTo>
                <a:cubicBezTo>
                  <a:pt x="17678" y="8310"/>
                  <a:pt x="17669" y="8310"/>
                  <a:pt x="17661" y="8310"/>
                </a:cubicBezTo>
              </a:path>
              <a:path w="4937" h="5383">
                <a:moveTo>
                  <a:pt x="17587" y="8434"/>
                </a:moveTo>
                <a:cubicBezTo>
                  <a:pt x="17706" y="8410"/>
                  <a:pt x="17814" y="8391"/>
                  <a:pt x="17934" y="8384"/>
                </a:cubicBezTo>
              </a:path>
              <a:path w="4937" h="5383">
                <a:moveTo>
                  <a:pt x="17785" y="8508"/>
                </a:moveTo>
                <a:cubicBezTo>
                  <a:pt x="17867" y="8467"/>
                  <a:pt x="17939" y="8488"/>
                  <a:pt x="17909" y="8607"/>
                </a:cubicBezTo>
                <a:cubicBezTo>
                  <a:pt x="17900" y="8644"/>
                  <a:pt x="17989" y="8694"/>
                  <a:pt x="17959" y="8756"/>
                </a:cubicBezTo>
                <a:cubicBezTo>
                  <a:pt x="17888" y="8826"/>
                  <a:pt x="17867" y="8848"/>
                  <a:pt x="17810" y="8880"/>
                </a:cubicBezTo>
              </a:path>
              <a:path w="4937" h="5383">
                <a:moveTo>
                  <a:pt x="18058" y="9054"/>
                </a:moveTo>
                <a:cubicBezTo>
                  <a:pt x="17923" y="9187"/>
                  <a:pt x="17785" y="9310"/>
                  <a:pt x="17661" y="9451"/>
                </a:cubicBezTo>
                <a:cubicBezTo>
                  <a:pt x="17762" y="9371"/>
                  <a:pt x="18105" y="8993"/>
                  <a:pt x="18231" y="9029"/>
                </a:cubicBezTo>
                <a:cubicBezTo>
                  <a:pt x="18409" y="9080"/>
                  <a:pt x="17984" y="9295"/>
                  <a:pt x="17884" y="9451"/>
                </a:cubicBezTo>
                <a:cubicBezTo>
                  <a:pt x="17981" y="9354"/>
                  <a:pt x="18070" y="9281"/>
                  <a:pt x="18182" y="9203"/>
                </a:cubicBezTo>
                <a:cubicBezTo>
                  <a:pt x="18140" y="9264"/>
                  <a:pt x="17774" y="9744"/>
                  <a:pt x="18008" y="9550"/>
                </a:cubicBezTo>
                <a:cubicBezTo>
                  <a:pt x="18147" y="9411"/>
                  <a:pt x="18183" y="9368"/>
                  <a:pt x="18306" y="9327"/>
                </a:cubicBezTo>
                <a:cubicBezTo>
                  <a:pt x="18237" y="9405"/>
                  <a:pt x="17897" y="9745"/>
                  <a:pt x="17983" y="9699"/>
                </a:cubicBezTo>
                <a:cubicBezTo>
                  <a:pt x="18079" y="9647"/>
                  <a:pt x="18241" y="9472"/>
                  <a:pt x="18058" y="9723"/>
                </a:cubicBezTo>
                <a:cubicBezTo>
                  <a:pt x="17945" y="9878"/>
                  <a:pt x="18177" y="9671"/>
                  <a:pt x="18207" y="9649"/>
                </a:cubicBezTo>
              </a:path>
              <a:path w="4937" h="5383">
                <a:moveTo>
                  <a:pt x="18157" y="9624"/>
                </a:moveTo>
                <a:lnTo>
                  <a:pt x="18157" y="9624"/>
                </a:lnTo>
              </a:path>
              <a:path w="4937" h="5383">
                <a:moveTo>
                  <a:pt x="18281" y="8434"/>
                </a:moveTo>
                <a:cubicBezTo>
                  <a:pt x="18311" y="8523"/>
                  <a:pt x="18331" y="8588"/>
                  <a:pt x="18331" y="8682"/>
                </a:cubicBezTo>
              </a:path>
              <a:path w="4937" h="5383">
                <a:moveTo>
                  <a:pt x="18231" y="8558"/>
                </a:moveTo>
                <a:cubicBezTo>
                  <a:pt x="18308" y="8580"/>
                  <a:pt x="18372" y="8582"/>
                  <a:pt x="18455" y="8582"/>
                </a:cubicBezTo>
              </a:path>
              <a:path w="4937" h="5383">
                <a:moveTo>
                  <a:pt x="19546" y="8384"/>
                </a:moveTo>
                <a:cubicBezTo>
                  <a:pt x="19587" y="8384"/>
                  <a:pt x="19629" y="8384"/>
                  <a:pt x="19670" y="8384"/>
                </a:cubicBezTo>
              </a:path>
              <a:path w="4937" h="5383">
                <a:moveTo>
                  <a:pt x="19596" y="8558"/>
                </a:moveTo>
                <a:cubicBezTo>
                  <a:pt x="19652" y="8567"/>
                  <a:pt x="19675" y="8572"/>
                  <a:pt x="19720" y="8558"/>
                </a:cubicBezTo>
              </a:path>
              <a:path w="4937" h="5383">
                <a:moveTo>
                  <a:pt x="20489" y="8086"/>
                </a:moveTo>
                <a:cubicBezTo>
                  <a:pt x="20418" y="8086"/>
                  <a:pt x="20335" y="8071"/>
                  <a:pt x="20315" y="8161"/>
                </a:cubicBezTo>
                <a:cubicBezTo>
                  <a:pt x="20315" y="8235"/>
                  <a:pt x="20315" y="8260"/>
                  <a:pt x="20315" y="8310"/>
                </a:cubicBezTo>
                <a:cubicBezTo>
                  <a:pt x="20423" y="8288"/>
                  <a:pt x="20570" y="8248"/>
                  <a:pt x="20513" y="8434"/>
                </a:cubicBezTo>
                <a:cubicBezTo>
                  <a:pt x="20464" y="8508"/>
                  <a:pt x="20447" y="8533"/>
                  <a:pt x="20389" y="8558"/>
                </a:cubicBezTo>
              </a:path>
              <a:path w="4937" h="5383">
                <a:moveTo>
                  <a:pt x="20265" y="8682"/>
                </a:moveTo>
                <a:cubicBezTo>
                  <a:pt x="20381" y="8655"/>
                  <a:pt x="20496" y="8631"/>
                  <a:pt x="20613" y="8607"/>
                </a:cubicBezTo>
              </a:path>
              <a:path w="4937" h="5383">
                <a:moveTo>
                  <a:pt x="20513" y="8781"/>
                </a:moveTo>
                <a:cubicBezTo>
                  <a:pt x="20581" y="8754"/>
                  <a:pt x="20639" y="8738"/>
                  <a:pt x="20712" y="8731"/>
                </a:cubicBezTo>
                <a:cubicBezTo>
                  <a:pt x="20696" y="8834"/>
                  <a:pt x="20669" y="8888"/>
                  <a:pt x="20613" y="8979"/>
                </a:cubicBezTo>
                <a:cubicBezTo>
                  <a:pt x="20693" y="8915"/>
                  <a:pt x="20762" y="8936"/>
                  <a:pt x="20712" y="9054"/>
                </a:cubicBezTo>
                <a:cubicBezTo>
                  <a:pt x="20668" y="9157"/>
                  <a:pt x="20622" y="9162"/>
                  <a:pt x="20538" y="91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57920" y="4170240"/>
            <a:ext cx="982440" cy="608040"/>
          </a:xfrm>
          <a:custGeom>
            <a:avLst/>
            <a:gdLst/>
            <a:ahLst/>
            <a:rect l="l" t="t" r="r" b="b"/>
            <a:pathLst>
              <a:path w="2729" h="1688">
                <a:moveTo>
                  <a:pt x="18033" y="12080"/>
                </a:moveTo>
                <a:cubicBezTo>
                  <a:pt x="18033" y="12096"/>
                  <a:pt x="18047" y="12399"/>
                  <a:pt x="18058" y="12502"/>
                </a:cubicBezTo>
              </a:path>
              <a:path w="2729" h="1688">
                <a:moveTo>
                  <a:pt x="17959" y="13271"/>
                </a:moveTo>
                <a:cubicBezTo>
                  <a:pt x="18244" y="13211"/>
                  <a:pt x="18485" y="13182"/>
                  <a:pt x="18777" y="13221"/>
                </a:cubicBezTo>
                <a:cubicBezTo>
                  <a:pt x="18876" y="13241"/>
                  <a:pt x="18892" y="13249"/>
                  <a:pt x="18951" y="13246"/>
                </a:cubicBezTo>
                <a:cubicBezTo>
                  <a:pt x="18669" y="13235"/>
                  <a:pt x="18390" y="13221"/>
                  <a:pt x="18107" y="13221"/>
                </a:cubicBezTo>
                <a:cubicBezTo>
                  <a:pt x="18074" y="13221"/>
                  <a:pt x="18041" y="13221"/>
                  <a:pt x="18008" y="13221"/>
                </a:cubicBezTo>
                <a:cubicBezTo>
                  <a:pt x="18284" y="13203"/>
                  <a:pt x="18551" y="13154"/>
                  <a:pt x="18827" y="13146"/>
                </a:cubicBezTo>
                <a:cubicBezTo>
                  <a:pt x="18938" y="13146"/>
                  <a:pt x="18961" y="13119"/>
                  <a:pt x="19000" y="13171"/>
                </a:cubicBezTo>
              </a:path>
              <a:path w="2729" h="1688">
                <a:moveTo>
                  <a:pt x="17934" y="11584"/>
                </a:moveTo>
                <a:cubicBezTo>
                  <a:pt x="17965" y="11812"/>
                  <a:pt x="17988" y="12047"/>
                  <a:pt x="18008" y="12278"/>
                </a:cubicBezTo>
                <a:cubicBezTo>
                  <a:pt x="18008" y="12303"/>
                  <a:pt x="18008" y="12328"/>
                  <a:pt x="18008" y="12353"/>
                </a:cubicBezTo>
                <a:cubicBezTo>
                  <a:pt x="18008" y="12263"/>
                  <a:pt x="17952" y="11637"/>
                  <a:pt x="18033" y="11609"/>
                </a:cubicBezTo>
                <a:cubicBezTo>
                  <a:pt x="18237" y="11538"/>
                  <a:pt x="18073" y="12038"/>
                  <a:pt x="18083" y="12254"/>
                </a:cubicBezTo>
                <a:cubicBezTo>
                  <a:pt x="18083" y="12421"/>
                  <a:pt x="18058" y="12445"/>
                  <a:pt x="18107" y="12526"/>
                </a:cubicBezTo>
                <a:cubicBezTo>
                  <a:pt x="18045" y="12300"/>
                  <a:pt x="17979" y="12044"/>
                  <a:pt x="17983" y="11807"/>
                </a:cubicBezTo>
                <a:cubicBezTo>
                  <a:pt x="17985" y="11707"/>
                  <a:pt x="18008" y="11608"/>
                  <a:pt x="18008" y="11708"/>
                </a:cubicBezTo>
              </a:path>
              <a:path w="2729" h="1688">
                <a:moveTo>
                  <a:pt x="16272" y="13171"/>
                </a:moveTo>
                <a:cubicBezTo>
                  <a:pt x="16353" y="13139"/>
                  <a:pt x="16435" y="13104"/>
                  <a:pt x="16520" y="13097"/>
                </a:cubicBezTo>
                <a:cubicBezTo>
                  <a:pt x="16582" y="13092"/>
                  <a:pt x="16637" y="13079"/>
                  <a:pt x="16694" y="13072"/>
                </a:cubicBezTo>
                <a:cubicBezTo>
                  <a:pt x="16786" y="13060"/>
                  <a:pt x="16948" y="13117"/>
                  <a:pt x="16991" y="13022"/>
                </a:cubicBezTo>
                <a:cubicBezTo>
                  <a:pt x="16991" y="13014"/>
                  <a:pt x="16991" y="13006"/>
                  <a:pt x="16991" y="129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22920" y="5143680"/>
            <a:ext cx="1455480" cy="1590480"/>
          </a:xfrm>
          <a:custGeom>
            <a:avLst/>
            <a:gdLst/>
            <a:ahLst/>
            <a:rect l="l" t="t" r="r" b="b"/>
            <a:pathLst>
              <a:path w="4044" h="4416">
                <a:moveTo>
                  <a:pt x="16222" y="14312"/>
                </a:moveTo>
                <a:cubicBezTo>
                  <a:pt x="16066" y="14298"/>
                  <a:pt x="15935" y="14276"/>
                  <a:pt x="15825" y="14387"/>
                </a:cubicBezTo>
                <a:cubicBezTo>
                  <a:pt x="15892" y="14480"/>
                  <a:pt x="16145" y="14707"/>
                  <a:pt x="16073" y="14833"/>
                </a:cubicBezTo>
                <a:cubicBezTo>
                  <a:pt x="15985" y="14877"/>
                  <a:pt x="15964" y="14894"/>
                  <a:pt x="15900" y="14883"/>
                </a:cubicBezTo>
                <a:cubicBezTo>
                  <a:pt x="15927" y="14689"/>
                  <a:pt x="16026" y="14588"/>
                  <a:pt x="16148" y="14436"/>
                </a:cubicBezTo>
              </a:path>
              <a:path w="4044" h="4416">
                <a:moveTo>
                  <a:pt x="16470" y="14387"/>
                </a:moveTo>
                <a:cubicBezTo>
                  <a:pt x="16640" y="14449"/>
                  <a:pt x="16629" y="14630"/>
                  <a:pt x="16470" y="14759"/>
                </a:cubicBezTo>
                <a:cubicBezTo>
                  <a:pt x="16346" y="14860"/>
                  <a:pt x="16303" y="14817"/>
                  <a:pt x="16247" y="14734"/>
                </a:cubicBezTo>
                <a:cubicBezTo>
                  <a:pt x="16369" y="14649"/>
                  <a:pt x="16458" y="14635"/>
                  <a:pt x="16545" y="14784"/>
                </a:cubicBezTo>
                <a:cubicBezTo>
                  <a:pt x="16553" y="14809"/>
                  <a:pt x="16562" y="14833"/>
                  <a:pt x="16570" y="14858"/>
                </a:cubicBezTo>
              </a:path>
              <a:path w="4044" h="4416">
                <a:moveTo>
                  <a:pt x="15627" y="15106"/>
                </a:moveTo>
                <a:cubicBezTo>
                  <a:pt x="15939" y="15036"/>
                  <a:pt x="16202" y="14998"/>
                  <a:pt x="16520" y="15032"/>
                </a:cubicBezTo>
              </a:path>
              <a:path w="4044" h="4416">
                <a:moveTo>
                  <a:pt x="15751" y="15329"/>
                </a:moveTo>
                <a:cubicBezTo>
                  <a:pt x="15716" y="15505"/>
                  <a:pt x="15677" y="15662"/>
                  <a:pt x="15602" y="15825"/>
                </a:cubicBezTo>
              </a:path>
              <a:path w="4044" h="4416">
                <a:moveTo>
                  <a:pt x="16321" y="15280"/>
                </a:moveTo>
                <a:cubicBezTo>
                  <a:pt x="16273" y="15284"/>
                  <a:pt x="16092" y="15274"/>
                  <a:pt x="16073" y="15329"/>
                </a:cubicBezTo>
                <a:cubicBezTo>
                  <a:pt x="16053" y="15430"/>
                  <a:pt x="16056" y="15450"/>
                  <a:pt x="16024" y="15503"/>
                </a:cubicBezTo>
                <a:cubicBezTo>
                  <a:pt x="16160" y="15503"/>
                  <a:pt x="16355" y="15461"/>
                  <a:pt x="16470" y="15553"/>
                </a:cubicBezTo>
                <a:cubicBezTo>
                  <a:pt x="16660" y="15706"/>
                  <a:pt x="16094" y="15772"/>
                  <a:pt x="16049" y="15776"/>
                </a:cubicBezTo>
              </a:path>
              <a:path w="4044" h="4416">
                <a:moveTo>
                  <a:pt x="17214" y="14957"/>
                </a:moveTo>
                <a:cubicBezTo>
                  <a:pt x="17288" y="15061"/>
                  <a:pt x="17356" y="15159"/>
                  <a:pt x="17438" y="15255"/>
                </a:cubicBezTo>
              </a:path>
              <a:path w="4044" h="4416">
                <a:moveTo>
                  <a:pt x="17314" y="14982"/>
                </a:moveTo>
                <a:cubicBezTo>
                  <a:pt x="17245" y="15094"/>
                  <a:pt x="17194" y="15186"/>
                  <a:pt x="17140" y="15304"/>
                </a:cubicBezTo>
              </a:path>
              <a:path w="4044" h="4416">
                <a:moveTo>
                  <a:pt x="17239" y="15007"/>
                </a:moveTo>
                <a:cubicBezTo>
                  <a:pt x="17343" y="14963"/>
                  <a:pt x="17351" y="14994"/>
                  <a:pt x="17388" y="14883"/>
                </a:cubicBezTo>
              </a:path>
              <a:path w="4044" h="4416">
                <a:moveTo>
                  <a:pt x="16966" y="14932"/>
                </a:moveTo>
                <a:cubicBezTo>
                  <a:pt x="17059" y="15047"/>
                  <a:pt x="17083" y="15081"/>
                  <a:pt x="17165" y="15131"/>
                </a:cubicBezTo>
              </a:path>
              <a:path w="4044" h="4416">
                <a:moveTo>
                  <a:pt x="15056" y="16942"/>
                </a:moveTo>
                <a:cubicBezTo>
                  <a:pt x="15085" y="17070"/>
                  <a:pt x="15005" y="17151"/>
                  <a:pt x="14932" y="17264"/>
                </a:cubicBezTo>
                <a:cubicBezTo>
                  <a:pt x="15055" y="17272"/>
                  <a:pt x="15174" y="17251"/>
                  <a:pt x="15304" y="17239"/>
                </a:cubicBezTo>
              </a:path>
              <a:path w="4044" h="4416">
                <a:moveTo>
                  <a:pt x="15255" y="16892"/>
                </a:moveTo>
                <a:cubicBezTo>
                  <a:pt x="15213" y="17085"/>
                  <a:pt x="15159" y="17272"/>
                  <a:pt x="15106" y="17462"/>
                </a:cubicBezTo>
              </a:path>
              <a:path w="4044" h="4416">
                <a:moveTo>
                  <a:pt x="15577" y="16892"/>
                </a:moveTo>
                <a:cubicBezTo>
                  <a:pt x="15543" y="17084"/>
                  <a:pt x="15503" y="17257"/>
                  <a:pt x="15429" y="17438"/>
                </a:cubicBezTo>
              </a:path>
              <a:path w="4044" h="4416">
                <a:moveTo>
                  <a:pt x="15825" y="16966"/>
                </a:moveTo>
                <a:cubicBezTo>
                  <a:pt x="15710" y="17139"/>
                  <a:pt x="15638" y="17220"/>
                  <a:pt x="15726" y="17413"/>
                </a:cubicBezTo>
                <a:cubicBezTo>
                  <a:pt x="15933" y="17380"/>
                  <a:pt x="16074" y="17266"/>
                  <a:pt x="15974" y="17016"/>
                </a:cubicBezTo>
                <a:cubicBezTo>
                  <a:pt x="15883" y="16925"/>
                  <a:pt x="15835" y="16904"/>
                  <a:pt x="15726" y="16966"/>
                </a:cubicBezTo>
              </a:path>
              <a:path w="4044" h="4416">
                <a:moveTo>
                  <a:pt x="14610" y="17611"/>
                </a:moveTo>
                <a:cubicBezTo>
                  <a:pt x="14610" y="17482"/>
                  <a:pt x="14633" y="17369"/>
                  <a:pt x="14635" y="17239"/>
                </a:cubicBezTo>
                <a:cubicBezTo>
                  <a:pt x="14637" y="17145"/>
                  <a:pt x="14563" y="16939"/>
                  <a:pt x="14660" y="16892"/>
                </a:cubicBezTo>
                <a:cubicBezTo>
                  <a:pt x="14840" y="16806"/>
                  <a:pt x="15063" y="16842"/>
                  <a:pt x="15255" y="16818"/>
                </a:cubicBezTo>
                <a:cubicBezTo>
                  <a:pt x="15669" y="16767"/>
                  <a:pt x="16079" y="16702"/>
                  <a:pt x="16495" y="16669"/>
                </a:cubicBezTo>
                <a:cubicBezTo>
                  <a:pt x="16512" y="16669"/>
                  <a:pt x="16528" y="16669"/>
                  <a:pt x="16545" y="16669"/>
                </a:cubicBezTo>
              </a:path>
              <a:path w="4044" h="4416">
                <a:moveTo>
                  <a:pt x="13643" y="17140"/>
                </a:moveTo>
                <a:cubicBezTo>
                  <a:pt x="13643" y="17240"/>
                  <a:pt x="13643" y="17274"/>
                  <a:pt x="13618" y="17338"/>
                </a:cubicBezTo>
                <a:cubicBezTo>
                  <a:pt x="13762" y="17347"/>
                  <a:pt x="13823" y="17321"/>
                  <a:pt x="13965" y="17264"/>
                </a:cubicBezTo>
              </a:path>
              <a:path w="4044" h="4416">
                <a:moveTo>
                  <a:pt x="13841" y="17115"/>
                </a:moveTo>
                <a:cubicBezTo>
                  <a:pt x="13836" y="17283"/>
                  <a:pt x="13826" y="17424"/>
                  <a:pt x="13791" y="17587"/>
                </a:cubicBezTo>
              </a:path>
              <a:path w="4044" h="4416">
                <a:moveTo>
                  <a:pt x="14288" y="16942"/>
                </a:moveTo>
                <a:cubicBezTo>
                  <a:pt x="14249" y="16983"/>
                  <a:pt x="14049" y="17088"/>
                  <a:pt x="14039" y="17115"/>
                </a:cubicBezTo>
                <a:cubicBezTo>
                  <a:pt x="14039" y="17167"/>
                  <a:pt x="14038" y="17185"/>
                  <a:pt x="14015" y="17214"/>
                </a:cubicBezTo>
                <a:cubicBezTo>
                  <a:pt x="14189" y="17204"/>
                  <a:pt x="14302" y="17155"/>
                  <a:pt x="14412" y="17264"/>
                </a:cubicBezTo>
                <a:cubicBezTo>
                  <a:pt x="14310" y="17495"/>
                  <a:pt x="14211" y="17477"/>
                  <a:pt x="13965" y="17487"/>
                </a:cubicBezTo>
              </a:path>
              <a:path w="4044" h="4416">
                <a:moveTo>
                  <a:pt x="15875" y="16247"/>
                </a:moveTo>
                <a:cubicBezTo>
                  <a:pt x="15852" y="16216"/>
                  <a:pt x="15820" y="16111"/>
                  <a:pt x="15776" y="16098"/>
                </a:cubicBezTo>
                <a:cubicBezTo>
                  <a:pt x="15678" y="16070"/>
                  <a:pt x="15635" y="16173"/>
                  <a:pt x="15627" y="16247"/>
                </a:cubicBezTo>
                <a:cubicBezTo>
                  <a:pt x="15627" y="16264"/>
                  <a:pt x="15627" y="16280"/>
                  <a:pt x="15627" y="16297"/>
                </a:cubicBezTo>
                <a:cubicBezTo>
                  <a:pt x="15725" y="16321"/>
                  <a:pt x="15738" y="16294"/>
                  <a:pt x="15801" y="16222"/>
                </a:cubicBezTo>
                <a:cubicBezTo>
                  <a:pt x="15817" y="16206"/>
                  <a:pt x="15834" y="16189"/>
                  <a:pt x="15850" y="16173"/>
                </a:cubicBezTo>
                <a:cubicBezTo>
                  <a:pt x="15850" y="16289"/>
                  <a:pt x="15850" y="16404"/>
                  <a:pt x="15850" y="16520"/>
                </a:cubicBezTo>
              </a:path>
              <a:path w="4044" h="4416">
                <a:moveTo>
                  <a:pt x="15949" y="17661"/>
                </a:moveTo>
                <a:cubicBezTo>
                  <a:pt x="16009" y="17661"/>
                  <a:pt x="15837" y="17679"/>
                  <a:pt x="15801" y="17711"/>
                </a:cubicBezTo>
                <a:cubicBezTo>
                  <a:pt x="15779" y="17731"/>
                  <a:pt x="15755" y="17930"/>
                  <a:pt x="15776" y="17959"/>
                </a:cubicBezTo>
                <a:cubicBezTo>
                  <a:pt x="15784" y="17959"/>
                  <a:pt x="15793" y="17959"/>
                  <a:pt x="15801" y="17959"/>
                </a:cubicBezTo>
                <a:cubicBezTo>
                  <a:pt x="15865" y="17918"/>
                  <a:pt x="15973" y="17817"/>
                  <a:pt x="16049" y="17909"/>
                </a:cubicBezTo>
                <a:cubicBezTo>
                  <a:pt x="16185" y="18074"/>
                  <a:pt x="15881" y="18102"/>
                  <a:pt x="15801" y="18107"/>
                </a:cubicBezTo>
              </a:path>
              <a:path w="4044" h="4416">
                <a:moveTo>
                  <a:pt x="13395" y="16222"/>
                </a:moveTo>
                <a:cubicBezTo>
                  <a:pt x="13395" y="16305"/>
                  <a:pt x="13395" y="16387"/>
                  <a:pt x="13395" y="16470"/>
                </a:cubicBezTo>
                <a:cubicBezTo>
                  <a:pt x="13485" y="16407"/>
                  <a:pt x="13568" y="16387"/>
                  <a:pt x="13568" y="16272"/>
                </a:cubicBezTo>
              </a:path>
              <a:path w="4044" h="4416">
                <a:moveTo>
                  <a:pt x="13494" y="16049"/>
                </a:moveTo>
                <a:cubicBezTo>
                  <a:pt x="13503" y="16213"/>
                  <a:pt x="13505" y="16389"/>
                  <a:pt x="13543" y="16545"/>
                </a:cubicBezTo>
              </a:path>
              <a:path w="4044" h="4416">
                <a:moveTo>
                  <a:pt x="15056" y="17636"/>
                </a:moveTo>
                <a:cubicBezTo>
                  <a:pt x="15032" y="17723"/>
                  <a:pt x="14991" y="17790"/>
                  <a:pt x="14932" y="17859"/>
                </a:cubicBezTo>
                <a:cubicBezTo>
                  <a:pt x="14952" y="17781"/>
                  <a:pt x="14989" y="17710"/>
                  <a:pt x="15081" y="17760"/>
                </a:cubicBezTo>
                <a:cubicBezTo>
                  <a:pt x="15111" y="17790"/>
                  <a:pt x="15125" y="17801"/>
                  <a:pt x="15156" y="17810"/>
                </a:cubicBezTo>
              </a:path>
              <a:path w="4044" h="4416">
                <a:moveTo>
                  <a:pt x="15205" y="17562"/>
                </a:moveTo>
                <a:cubicBezTo>
                  <a:pt x="15205" y="17712"/>
                  <a:pt x="15223" y="17868"/>
                  <a:pt x="15180" y="18008"/>
                </a:cubicBezTo>
              </a:path>
              <a:path w="4044" h="4416">
                <a:moveTo>
                  <a:pt x="15379" y="17661"/>
                </a:moveTo>
                <a:cubicBezTo>
                  <a:pt x="15356" y="17780"/>
                  <a:pt x="15334" y="17802"/>
                  <a:pt x="15404" y="17884"/>
                </a:cubicBezTo>
                <a:cubicBezTo>
                  <a:pt x="15508" y="17856"/>
                  <a:pt x="15592" y="17790"/>
                  <a:pt x="15478" y="17686"/>
                </a:cubicBezTo>
                <a:cubicBezTo>
                  <a:pt x="15422" y="17648"/>
                  <a:pt x="15419" y="17631"/>
                  <a:pt x="15379" y="17636"/>
                </a:cubicBezTo>
              </a:path>
              <a:path w="4044" h="4416">
                <a:moveTo>
                  <a:pt x="14635" y="17835"/>
                </a:moveTo>
                <a:cubicBezTo>
                  <a:pt x="14688" y="17815"/>
                  <a:pt x="14730" y="17805"/>
                  <a:pt x="14784" y="17785"/>
                </a:cubicBezTo>
              </a:path>
              <a:path w="4044" h="4416">
                <a:moveTo>
                  <a:pt x="14759" y="18207"/>
                </a:moveTo>
                <a:cubicBezTo>
                  <a:pt x="14866" y="18230"/>
                  <a:pt x="14966" y="18192"/>
                  <a:pt x="15081" y="18182"/>
                </a:cubicBezTo>
                <a:cubicBezTo>
                  <a:pt x="15229" y="18170"/>
                  <a:pt x="15382" y="18167"/>
                  <a:pt x="15528" y="18132"/>
                </a:cubicBezTo>
                <a:cubicBezTo>
                  <a:pt x="15624" y="18109"/>
                  <a:pt x="15706" y="18086"/>
                  <a:pt x="15801" y="18058"/>
                </a:cubicBezTo>
                <a:cubicBezTo>
                  <a:pt x="15889" y="18032"/>
                  <a:pt x="15960" y="18033"/>
                  <a:pt x="16049" y="18033"/>
                </a:cubicBezTo>
                <a:cubicBezTo>
                  <a:pt x="16084" y="18033"/>
                  <a:pt x="16174" y="18061"/>
                  <a:pt x="16197" y="18058"/>
                </a:cubicBezTo>
                <a:cubicBezTo>
                  <a:pt x="16236" y="18052"/>
                  <a:pt x="16337" y="18000"/>
                  <a:pt x="16371" y="17983"/>
                </a:cubicBezTo>
              </a:path>
              <a:path w="4044" h="4416">
                <a:moveTo>
                  <a:pt x="16197" y="18306"/>
                </a:moveTo>
                <a:cubicBezTo>
                  <a:pt x="16072" y="18374"/>
                  <a:pt x="16085" y="18353"/>
                  <a:pt x="16073" y="18504"/>
                </a:cubicBezTo>
                <a:cubicBezTo>
                  <a:pt x="16155" y="18490"/>
                  <a:pt x="16205" y="18441"/>
                  <a:pt x="16247" y="18529"/>
                </a:cubicBezTo>
                <a:cubicBezTo>
                  <a:pt x="16300" y="18640"/>
                  <a:pt x="16205" y="18648"/>
                  <a:pt x="16123" y="187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9840" y="3089160"/>
            <a:ext cx="482400" cy="1027080"/>
          </a:xfrm>
          <a:custGeom>
            <a:avLst/>
            <a:gdLst/>
            <a:ahLst/>
            <a:rect l="l" t="t" r="r" b="b"/>
            <a:pathLst>
              <a:path w="1340" h="2854">
                <a:moveTo>
                  <a:pt x="1315" y="9351"/>
                </a:moveTo>
                <a:cubicBezTo>
                  <a:pt x="1309" y="9475"/>
                  <a:pt x="1294" y="9578"/>
                  <a:pt x="1265" y="9699"/>
                </a:cubicBezTo>
              </a:path>
              <a:path w="1340" h="2854">
                <a:moveTo>
                  <a:pt x="1761" y="9128"/>
                </a:moveTo>
                <a:cubicBezTo>
                  <a:pt x="1645" y="9171"/>
                  <a:pt x="1618" y="9174"/>
                  <a:pt x="1612" y="9302"/>
                </a:cubicBezTo>
                <a:cubicBezTo>
                  <a:pt x="1612" y="9318"/>
                  <a:pt x="1612" y="9335"/>
                  <a:pt x="1612" y="9351"/>
                </a:cubicBezTo>
              </a:path>
              <a:path w="1340" h="2854">
                <a:moveTo>
                  <a:pt x="1612" y="9500"/>
                </a:moveTo>
                <a:lnTo>
                  <a:pt x="1612" y="9500"/>
                </a:lnTo>
              </a:path>
              <a:path w="1340" h="2854">
                <a:moveTo>
                  <a:pt x="1662" y="9426"/>
                </a:moveTo>
                <a:cubicBezTo>
                  <a:pt x="1662" y="9470"/>
                  <a:pt x="1659" y="9484"/>
                  <a:pt x="1687" y="9500"/>
                </a:cubicBezTo>
                <a:cubicBezTo>
                  <a:pt x="1728" y="9435"/>
                  <a:pt x="1812" y="9325"/>
                  <a:pt x="1910" y="9376"/>
                </a:cubicBezTo>
                <a:cubicBezTo>
                  <a:pt x="2026" y="9437"/>
                  <a:pt x="2009" y="9585"/>
                  <a:pt x="1910" y="9649"/>
                </a:cubicBezTo>
                <a:cubicBezTo>
                  <a:pt x="1816" y="9710"/>
                  <a:pt x="1740" y="9699"/>
                  <a:pt x="1637" y="9699"/>
                </a:cubicBezTo>
              </a:path>
              <a:path w="1340" h="2854">
                <a:moveTo>
                  <a:pt x="943" y="10145"/>
                </a:moveTo>
                <a:cubicBezTo>
                  <a:pt x="1120" y="10173"/>
                  <a:pt x="1154" y="10228"/>
                  <a:pt x="1215" y="10393"/>
                </a:cubicBezTo>
              </a:path>
              <a:path w="1340" h="2854">
                <a:moveTo>
                  <a:pt x="1116" y="9996"/>
                </a:moveTo>
                <a:cubicBezTo>
                  <a:pt x="1116" y="10161"/>
                  <a:pt x="1116" y="10327"/>
                  <a:pt x="1116" y="10492"/>
                </a:cubicBezTo>
              </a:path>
              <a:path w="1340" h="2854">
                <a:moveTo>
                  <a:pt x="2009" y="9872"/>
                </a:moveTo>
                <a:cubicBezTo>
                  <a:pt x="1936" y="9918"/>
                  <a:pt x="1724" y="10016"/>
                  <a:pt x="1786" y="10145"/>
                </a:cubicBezTo>
                <a:cubicBezTo>
                  <a:pt x="1840" y="10259"/>
                  <a:pt x="1981" y="10255"/>
                  <a:pt x="1885" y="10368"/>
                </a:cubicBezTo>
                <a:cubicBezTo>
                  <a:pt x="1779" y="10262"/>
                  <a:pt x="1811" y="10156"/>
                  <a:pt x="1885" y="10021"/>
                </a:cubicBezTo>
                <a:cubicBezTo>
                  <a:pt x="1915" y="9991"/>
                  <a:pt x="1926" y="9977"/>
                  <a:pt x="1935" y="9947"/>
                </a:cubicBezTo>
              </a:path>
              <a:path w="1340" h="2854">
                <a:moveTo>
                  <a:pt x="1091" y="10790"/>
                </a:moveTo>
                <a:cubicBezTo>
                  <a:pt x="1321" y="10732"/>
                  <a:pt x="1550" y="10643"/>
                  <a:pt x="1786" y="10592"/>
                </a:cubicBezTo>
                <a:cubicBezTo>
                  <a:pt x="1973" y="10551"/>
                  <a:pt x="2099" y="10542"/>
                  <a:pt x="2282" y="10542"/>
                </a:cubicBezTo>
              </a:path>
              <a:path w="1340" h="2854">
                <a:moveTo>
                  <a:pt x="2034" y="10765"/>
                </a:moveTo>
                <a:cubicBezTo>
                  <a:pt x="2024" y="10945"/>
                  <a:pt x="2019" y="11083"/>
                  <a:pt x="2059" y="11261"/>
                </a:cubicBezTo>
                <a:cubicBezTo>
                  <a:pt x="2187" y="11201"/>
                  <a:pt x="2352" y="11069"/>
                  <a:pt x="2158" y="10939"/>
                </a:cubicBezTo>
                <a:cubicBezTo>
                  <a:pt x="2091" y="10916"/>
                  <a:pt x="2073" y="10911"/>
                  <a:pt x="2034" y="10889"/>
                </a:cubicBezTo>
              </a:path>
              <a:path w="1340" h="2854">
                <a:moveTo>
                  <a:pt x="1191" y="8682"/>
                </a:moveTo>
                <a:cubicBezTo>
                  <a:pt x="1171" y="8775"/>
                  <a:pt x="1166" y="8857"/>
                  <a:pt x="1166" y="8954"/>
                </a:cubicBezTo>
                <a:cubicBezTo>
                  <a:pt x="1235" y="8908"/>
                  <a:pt x="1255" y="8896"/>
                  <a:pt x="1290" y="8855"/>
                </a:cubicBezTo>
              </a:path>
              <a:path w="1340" h="2854">
                <a:moveTo>
                  <a:pt x="1166" y="8582"/>
                </a:moveTo>
                <a:cubicBezTo>
                  <a:pt x="1244" y="8792"/>
                  <a:pt x="1240" y="8973"/>
                  <a:pt x="1240" y="9203"/>
                </a:cubicBezTo>
              </a:path>
              <a:path w="1340" h="2854">
                <a:moveTo>
                  <a:pt x="1240" y="10964"/>
                </a:moveTo>
                <a:cubicBezTo>
                  <a:pt x="1246" y="11122"/>
                  <a:pt x="1258" y="11277"/>
                  <a:pt x="1265" y="11435"/>
                </a:cubicBezTo>
              </a:path>
              <a:path w="1340" h="2854">
                <a:moveTo>
                  <a:pt x="1513" y="11038"/>
                </a:moveTo>
                <a:cubicBezTo>
                  <a:pt x="1567" y="10919"/>
                  <a:pt x="1653" y="10849"/>
                  <a:pt x="1687" y="11038"/>
                </a:cubicBezTo>
                <a:cubicBezTo>
                  <a:pt x="1709" y="11161"/>
                  <a:pt x="1624" y="11264"/>
                  <a:pt x="1563" y="11361"/>
                </a:cubicBezTo>
                <a:cubicBezTo>
                  <a:pt x="1654" y="11326"/>
                  <a:pt x="1740" y="11277"/>
                  <a:pt x="1836" y="112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89120" y="4054320"/>
            <a:ext cx="393840" cy="223920"/>
          </a:xfrm>
          <a:custGeom>
            <a:avLst/>
            <a:gdLst/>
            <a:ahLst/>
            <a:rect l="l" t="t" r="r" b="b"/>
            <a:pathLst>
              <a:path w="1093" h="621">
                <a:moveTo>
                  <a:pt x="7193" y="11311"/>
                </a:moveTo>
                <a:cubicBezTo>
                  <a:pt x="7214" y="11478"/>
                  <a:pt x="7239" y="11638"/>
                  <a:pt x="7243" y="11807"/>
                </a:cubicBezTo>
                <a:cubicBezTo>
                  <a:pt x="7243" y="11832"/>
                  <a:pt x="7243" y="11856"/>
                  <a:pt x="7243" y="11881"/>
                </a:cubicBezTo>
              </a:path>
              <a:path w="1093" h="621">
                <a:moveTo>
                  <a:pt x="7516" y="11311"/>
                </a:moveTo>
                <a:cubicBezTo>
                  <a:pt x="7586" y="11302"/>
                  <a:pt x="7599" y="11295"/>
                  <a:pt x="7665" y="11311"/>
                </a:cubicBezTo>
                <a:cubicBezTo>
                  <a:pt x="7654" y="11481"/>
                  <a:pt x="7596" y="11560"/>
                  <a:pt x="7516" y="11708"/>
                </a:cubicBezTo>
                <a:cubicBezTo>
                  <a:pt x="7490" y="11756"/>
                  <a:pt x="7491" y="11780"/>
                  <a:pt x="7491" y="11832"/>
                </a:cubicBezTo>
                <a:cubicBezTo>
                  <a:pt x="7577" y="11843"/>
                  <a:pt x="7634" y="11782"/>
                  <a:pt x="7739" y="11757"/>
                </a:cubicBezTo>
                <a:cubicBezTo>
                  <a:pt x="7775" y="11748"/>
                  <a:pt x="7826" y="11757"/>
                  <a:pt x="7863" y="11757"/>
                </a:cubicBezTo>
              </a:path>
              <a:path w="1093" h="621">
                <a:moveTo>
                  <a:pt x="8111" y="11286"/>
                </a:moveTo>
                <a:cubicBezTo>
                  <a:pt x="8021" y="11252"/>
                  <a:pt x="7981" y="11253"/>
                  <a:pt x="7938" y="11361"/>
                </a:cubicBezTo>
                <a:cubicBezTo>
                  <a:pt x="7900" y="11455"/>
                  <a:pt x="7868" y="11667"/>
                  <a:pt x="7962" y="11733"/>
                </a:cubicBezTo>
                <a:cubicBezTo>
                  <a:pt x="8069" y="11808"/>
                  <a:pt x="8200" y="11725"/>
                  <a:pt x="8260" y="11633"/>
                </a:cubicBezTo>
                <a:cubicBezTo>
                  <a:pt x="8331" y="11524"/>
                  <a:pt x="8274" y="11409"/>
                  <a:pt x="8186" y="11336"/>
                </a:cubicBezTo>
                <a:cubicBezTo>
                  <a:pt x="8118" y="11280"/>
                  <a:pt x="8071" y="11261"/>
                  <a:pt x="7987" y="112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3800" y="4321080"/>
            <a:ext cx="98280" cy="90720"/>
          </a:xfrm>
          <a:custGeom>
            <a:avLst/>
            <a:gdLst/>
            <a:ahLst/>
            <a:rect l="l" t="t" r="r" b="b"/>
            <a:pathLst>
              <a:path w="274" h="250">
                <a:moveTo>
                  <a:pt x="8781" y="12055"/>
                </a:moveTo>
                <a:cubicBezTo>
                  <a:pt x="8865" y="12034"/>
                  <a:pt x="8884" y="12032"/>
                  <a:pt x="8930" y="12005"/>
                </a:cubicBezTo>
              </a:path>
              <a:path w="274" h="250">
                <a:moveTo>
                  <a:pt x="8706" y="12254"/>
                </a:moveTo>
                <a:cubicBezTo>
                  <a:pt x="8800" y="12254"/>
                  <a:pt x="8886" y="12236"/>
                  <a:pt x="8979" y="12229"/>
                </a:cubicBezTo>
              </a:path>
              <a:path w="274" h="250">
                <a:moveTo>
                  <a:pt x="8756" y="12105"/>
                </a:moveTo>
                <a:cubicBezTo>
                  <a:pt x="8786" y="12075"/>
                  <a:pt x="8800" y="12064"/>
                  <a:pt x="8830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84720" y="4071960"/>
            <a:ext cx="1741320" cy="519120"/>
          </a:xfrm>
          <a:custGeom>
            <a:avLst/>
            <a:gdLst/>
            <a:ahLst/>
            <a:rect l="l" t="t" r="r" b="b"/>
            <a:pathLst>
              <a:path w="4838" h="1440">
                <a:moveTo>
                  <a:pt x="9426" y="11534"/>
                </a:moveTo>
                <a:cubicBezTo>
                  <a:pt x="9444" y="11629"/>
                  <a:pt x="9463" y="11673"/>
                  <a:pt x="9426" y="11757"/>
                </a:cubicBezTo>
                <a:cubicBezTo>
                  <a:pt x="9414" y="11634"/>
                  <a:pt x="9365" y="11579"/>
                  <a:pt x="9500" y="11534"/>
                </a:cubicBezTo>
                <a:cubicBezTo>
                  <a:pt x="9612" y="11496"/>
                  <a:pt x="9740" y="11525"/>
                  <a:pt x="9847" y="11559"/>
                </a:cubicBezTo>
                <a:cubicBezTo>
                  <a:pt x="9941" y="11589"/>
                  <a:pt x="9996" y="11609"/>
                  <a:pt x="10096" y="11609"/>
                </a:cubicBezTo>
                <a:cubicBezTo>
                  <a:pt x="9960" y="11930"/>
                  <a:pt x="9820" y="12249"/>
                  <a:pt x="9699" y="12576"/>
                </a:cubicBezTo>
                <a:cubicBezTo>
                  <a:pt x="9663" y="12683"/>
                  <a:pt x="9646" y="12689"/>
                  <a:pt x="9649" y="12750"/>
                </a:cubicBezTo>
              </a:path>
              <a:path w="4838" h="1440">
                <a:moveTo>
                  <a:pt x="10740" y="11336"/>
                </a:moveTo>
                <a:cubicBezTo>
                  <a:pt x="10603" y="11326"/>
                  <a:pt x="10579" y="11348"/>
                  <a:pt x="10468" y="11435"/>
                </a:cubicBezTo>
                <a:cubicBezTo>
                  <a:pt x="10492" y="11515"/>
                  <a:pt x="10643" y="11659"/>
                  <a:pt x="10592" y="11757"/>
                </a:cubicBezTo>
                <a:cubicBezTo>
                  <a:pt x="10528" y="11799"/>
                  <a:pt x="10517" y="11816"/>
                  <a:pt x="10468" y="11807"/>
                </a:cubicBezTo>
                <a:cubicBezTo>
                  <a:pt x="10502" y="11612"/>
                  <a:pt x="10609" y="11513"/>
                  <a:pt x="10740" y="11361"/>
                </a:cubicBezTo>
                <a:cubicBezTo>
                  <a:pt x="10748" y="11353"/>
                  <a:pt x="10757" y="11344"/>
                  <a:pt x="10765" y="11336"/>
                </a:cubicBezTo>
              </a:path>
              <a:path w="4838" h="1440">
                <a:moveTo>
                  <a:pt x="10195" y="12055"/>
                </a:moveTo>
                <a:cubicBezTo>
                  <a:pt x="10346" y="12022"/>
                  <a:pt x="10510" y="12018"/>
                  <a:pt x="10666" y="12005"/>
                </a:cubicBezTo>
                <a:cubicBezTo>
                  <a:pt x="10691" y="12005"/>
                  <a:pt x="10715" y="12005"/>
                  <a:pt x="10740" y="12005"/>
                </a:cubicBezTo>
              </a:path>
              <a:path w="4838" h="1440">
                <a:moveTo>
                  <a:pt x="10244" y="12353"/>
                </a:moveTo>
                <a:cubicBezTo>
                  <a:pt x="10178" y="12485"/>
                  <a:pt x="10162" y="12519"/>
                  <a:pt x="10120" y="12601"/>
                </a:cubicBezTo>
              </a:path>
              <a:path w="4838" h="1440">
                <a:moveTo>
                  <a:pt x="10592" y="12229"/>
                </a:moveTo>
                <a:cubicBezTo>
                  <a:pt x="10572" y="12330"/>
                  <a:pt x="10522" y="12418"/>
                  <a:pt x="10517" y="12526"/>
                </a:cubicBezTo>
                <a:cubicBezTo>
                  <a:pt x="10517" y="12543"/>
                  <a:pt x="10517" y="12559"/>
                  <a:pt x="10517" y="12576"/>
                </a:cubicBezTo>
                <a:cubicBezTo>
                  <a:pt x="10649" y="12609"/>
                  <a:pt x="10698" y="12599"/>
                  <a:pt x="10815" y="12526"/>
                </a:cubicBezTo>
                <a:cubicBezTo>
                  <a:pt x="10894" y="12477"/>
                  <a:pt x="10892" y="12447"/>
                  <a:pt x="10939" y="12378"/>
                </a:cubicBezTo>
                <a:cubicBezTo>
                  <a:pt x="10814" y="12386"/>
                  <a:pt x="10733" y="12384"/>
                  <a:pt x="10691" y="12526"/>
                </a:cubicBezTo>
                <a:cubicBezTo>
                  <a:pt x="10691" y="12543"/>
                  <a:pt x="10691" y="12559"/>
                  <a:pt x="10691" y="12576"/>
                </a:cubicBezTo>
              </a:path>
              <a:path w="4838" h="1440">
                <a:moveTo>
                  <a:pt x="11038" y="11981"/>
                </a:moveTo>
                <a:cubicBezTo>
                  <a:pt x="11115" y="11965"/>
                  <a:pt x="11185" y="11936"/>
                  <a:pt x="11261" y="11906"/>
                </a:cubicBezTo>
              </a:path>
              <a:path w="4838" h="1440">
                <a:moveTo>
                  <a:pt x="11088" y="11832"/>
                </a:moveTo>
                <a:lnTo>
                  <a:pt x="11088" y="11832"/>
                </a:lnTo>
              </a:path>
              <a:path w="4838" h="1440">
                <a:moveTo>
                  <a:pt x="11137" y="12204"/>
                </a:moveTo>
                <a:lnTo>
                  <a:pt x="11137" y="12204"/>
                </a:lnTo>
              </a:path>
              <a:path w="4838" h="1440">
                <a:moveTo>
                  <a:pt x="11410" y="11708"/>
                </a:moveTo>
                <a:cubicBezTo>
                  <a:pt x="11543" y="11741"/>
                  <a:pt x="11524" y="11814"/>
                  <a:pt x="11460" y="11931"/>
                </a:cubicBezTo>
                <a:cubicBezTo>
                  <a:pt x="11422" y="12000"/>
                  <a:pt x="11539" y="11922"/>
                  <a:pt x="11584" y="11906"/>
                </a:cubicBezTo>
              </a:path>
              <a:path w="4838" h="1440">
                <a:moveTo>
                  <a:pt x="11385" y="12179"/>
                </a:moveTo>
                <a:cubicBezTo>
                  <a:pt x="11468" y="12154"/>
                  <a:pt x="11550" y="12130"/>
                  <a:pt x="11633" y="12105"/>
                </a:cubicBezTo>
              </a:path>
              <a:path w="4838" h="1440">
                <a:moveTo>
                  <a:pt x="11435" y="12402"/>
                </a:moveTo>
                <a:cubicBezTo>
                  <a:pt x="11487" y="12351"/>
                  <a:pt x="11506" y="12334"/>
                  <a:pt x="11559" y="12328"/>
                </a:cubicBezTo>
                <a:cubicBezTo>
                  <a:pt x="11544" y="12393"/>
                  <a:pt x="11367" y="12650"/>
                  <a:pt x="11559" y="12576"/>
                </a:cubicBezTo>
                <a:cubicBezTo>
                  <a:pt x="11653" y="12505"/>
                  <a:pt x="11682" y="12485"/>
                  <a:pt x="11733" y="12427"/>
                </a:cubicBezTo>
              </a:path>
              <a:path w="4838" h="1440">
                <a:moveTo>
                  <a:pt x="11807" y="12154"/>
                </a:moveTo>
                <a:cubicBezTo>
                  <a:pt x="11866" y="12115"/>
                  <a:pt x="11878" y="12111"/>
                  <a:pt x="11906" y="12080"/>
                </a:cubicBezTo>
              </a:path>
              <a:path w="4838" h="1440">
                <a:moveTo>
                  <a:pt x="11832" y="12254"/>
                </a:moveTo>
                <a:cubicBezTo>
                  <a:pt x="11891" y="12254"/>
                  <a:pt x="11917" y="12251"/>
                  <a:pt x="11956" y="12229"/>
                </a:cubicBezTo>
              </a:path>
              <a:path w="4838" h="1440">
                <a:moveTo>
                  <a:pt x="13072" y="11460"/>
                </a:moveTo>
                <a:cubicBezTo>
                  <a:pt x="13053" y="11537"/>
                  <a:pt x="13041" y="11606"/>
                  <a:pt x="13022" y="11683"/>
                </a:cubicBezTo>
                <a:cubicBezTo>
                  <a:pt x="13082" y="11713"/>
                  <a:pt x="13108" y="11715"/>
                  <a:pt x="13146" y="11658"/>
                </a:cubicBezTo>
              </a:path>
              <a:path w="4838" h="1440">
                <a:moveTo>
                  <a:pt x="13221" y="11361"/>
                </a:moveTo>
                <a:cubicBezTo>
                  <a:pt x="13213" y="11532"/>
                  <a:pt x="13200" y="11695"/>
                  <a:pt x="13146" y="11857"/>
                </a:cubicBezTo>
              </a:path>
              <a:path w="4838" h="1440">
                <a:moveTo>
                  <a:pt x="12874" y="12129"/>
                </a:moveTo>
                <a:cubicBezTo>
                  <a:pt x="13017" y="12106"/>
                  <a:pt x="13151" y="12087"/>
                  <a:pt x="13295" y="12080"/>
                </a:cubicBezTo>
              </a:path>
              <a:path w="4838" h="1440">
                <a:moveTo>
                  <a:pt x="13122" y="12278"/>
                </a:moveTo>
                <a:cubicBezTo>
                  <a:pt x="12970" y="12329"/>
                  <a:pt x="12839" y="12344"/>
                  <a:pt x="12998" y="12477"/>
                </a:cubicBezTo>
                <a:cubicBezTo>
                  <a:pt x="13068" y="12523"/>
                  <a:pt x="13093" y="12535"/>
                  <a:pt x="13072" y="12601"/>
                </a:cubicBezTo>
                <a:cubicBezTo>
                  <a:pt x="13064" y="12617"/>
                  <a:pt x="13055" y="12634"/>
                  <a:pt x="13047" y="12650"/>
                </a:cubicBezTo>
                <a:cubicBezTo>
                  <a:pt x="13022" y="12529"/>
                  <a:pt x="13076" y="12447"/>
                  <a:pt x="13122" y="12328"/>
                </a:cubicBezTo>
              </a:path>
              <a:path w="4838" h="1440">
                <a:moveTo>
                  <a:pt x="12055" y="11733"/>
                </a:moveTo>
                <a:cubicBezTo>
                  <a:pt x="12027" y="11815"/>
                  <a:pt x="12017" y="11847"/>
                  <a:pt x="12005" y="11906"/>
                </a:cubicBezTo>
                <a:cubicBezTo>
                  <a:pt x="12014" y="11806"/>
                  <a:pt x="12007" y="11645"/>
                  <a:pt x="12129" y="11609"/>
                </a:cubicBezTo>
                <a:cubicBezTo>
                  <a:pt x="12242" y="11575"/>
                  <a:pt x="12366" y="11652"/>
                  <a:pt x="12477" y="11658"/>
                </a:cubicBezTo>
                <a:cubicBezTo>
                  <a:pt x="12526" y="11658"/>
                  <a:pt x="12543" y="11658"/>
                  <a:pt x="12576" y="11658"/>
                </a:cubicBezTo>
                <a:cubicBezTo>
                  <a:pt x="12620" y="11833"/>
                  <a:pt x="12525" y="12139"/>
                  <a:pt x="12477" y="12328"/>
                </a:cubicBezTo>
                <a:cubicBezTo>
                  <a:pt x="12455" y="12414"/>
                  <a:pt x="12416" y="12490"/>
                  <a:pt x="12402" y="12576"/>
                </a:cubicBezTo>
              </a:path>
              <a:path w="4838" h="1440">
                <a:moveTo>
                  <a:pt x="13419" y="12179"/>
                </a:moveTo>
                <a:cubicBezTo>
                  <a:pt x="13461" y="12147"/>
                  <a:pt x="13487" y="12154"/>
                  <a:pt x="13543" y="12154"/>
                </a:cubicBezTo>
              </a:path>
              <a:path w="4838" h="1440">
                <a:moveTo>
                  <a:pt x="13469" y="12005"/>
                </a:moveTo>
                <a:lnTo>
                  <a:pt x="13469" y="12005"/>
                </a:lnTo>
              </a:path>
              <a:path w="4838" h="1440">
                <a:moveTo>
                  <a:pt x="13494" y="12303"/>
                </a:moveTo>
                <a:lnTo>
                  <a:pt x="13494" y="12303"/>
                </a:lnTo>
              </a:path>
              <a:path w="4838" h="1440">
                <a:moveTo>
                  <a:pt x="13593" y="11733"/>
                </a:moveTo>
                <a:cubicBezTo>
                  <a:pt x="13628" y="11790"/>
                  <a:pt x="13618" y="11791"/>
                  <a:pt x="13593" y="11857"/>
                </a:cubicBezTo>
                <a:cubicBezTo>
                  <a:pt x="13681" y="11878"/>
                  <a:pt x="13668" y="11871"/>
                  <a:pt x="13742" y="11807"/>
                </a:cubicBezTo>
              </a:path>
              <a:path w="4838" h="1440">
                <a:moveTo>
                  <a:pt x="13742" y="11658"/>
                </a:moveTo>
                <a:cubicBezTo>
                  <a:pt x="13747" y="11767"/>
                  <a:pt x="13758" y="11872"/>
                  <a:pt x="13767" y="11981"/>
                </a:cubicBezTo>
              </a:path>
              <a:path w="4838" h="1440">
                <a:moveTo>
                  <a:pt x="13643" y="12154"/>
                </a:moveTo>
                <a:cubicBezTo>
                  <a:pt x="13726" y="12122"/>
                  <a:pt x="13807" y="12087"/>
                  <a:pt x="13891" y="12055"/>
                </a:cubicBezTo>
              </a:path>
              <a:path w="4838" h="1440">
                <a:moveTo>
                  <a:pt x="13692" y="12328"/>
                </a:moveTo>
                <a:cubicBezTo>
                  <a:pt x="13602" y="12477"/>
                  <a:pt x="13782" y="12346"/>
                  <a:pt x="13841" y="12303"/>
                </a:cubicBezTo>
              </a:path>
              <a:path w="4838" h="1440">
                <a:moveTo>
                  <a:pt x="13816" y="12278"/>
                </a:moveTo>
                <a:cubicBezTo>
                  <a:pt x="13816" y="12387"/>
                  <a:pt x="13811" y="12414"/>
                  <a:pt x="13841" y="12477"/>
                </a:cubicBezTo>
              </a:path>
              <a:path w="4838" h="1440">
                <a:moveTo>
                  <a:pt x="14039" y="12129"/>
                </a:moveTo>
                <a:cubicBezTo>
                  <a:pt x="14120" y="12145"/>
                  <a:pt x="14157" y="12137"/>
                  <a:pt x="14238" y="12105"/>
                </a:cubicBezTo>
              </a:path>
              <a:path w="4838" h="1440">
                <a:moveTo>
                  <a:pt x="14139" y="12254"/>
                </a:moveTo>
                <a:cubicBezTo>
                  <a:pt x="14147" y="12246"/>
                  <a:pt x="14155" y="12237"/>
                  <a:pt x="14163" y="122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73680" y="4616280"/>
            <a:ext cx="741240" cy="679680"/>
          </a:xfrm>
          <a:custGeom>
            <a:avLst/>
            <a:gdLst/>
            <a:ahLst/>
            <a:rect l="l" t="t" r="r" b="b"/>
            <a:pathLst>
              <a:path w="2060" h="1886">
                <a:moveTo>
                  <a:pt x="11485" y="13419"/>
                </a:moveTo>
                <a:cubicBezTo>
                  <a:pt x="11631" y="13453"/>
                  <a:pt x="11700" y="13440"/>
                  <a:pt x="11832" y="13370"/>
                </a:cubicBezTo>
                <a:cubicBezTo>
                  <a:pt x="11869" y="13588"/>
                  <a:pt x="11854" y="13795"/>
                  <a:pt x="11832" y="14015"/>
                </a:cubicBezTo>
                <a:cubicBezTo>
                  <a:pt x="11832" y="14023"/>
                  <a:pt x="11832" y="14031"/>
                  <a:pt x="11832" y="14039"/>
                </a:cubicBezTo>
              </a:path>
              <a:path w="2060" h="1886">
                <a:moveTo>
                  <a:pt x="12278" y="13196"/>
                </a:moveTo>
                <a:cubicBezTo>
                  <a:pt x="12311" y="13347"/>
                  <a:pt x="12303" y="13508"/>
                  <a:pt x="12303" y="13667"/>
                </a:cubicBezTo>
              </a:path>
              <a:path w="2060" h="1886">
                <a:moveTo>
                  <a:pt x="12105" y="13717"/>
                </a:moveTo>
                <a:cubicBezTo>
                  <a:pt x="12259" y="13717"/>
                  <a:pt x="12380" y="13694"/>
                  <a:pt x="12526" y="13667"/>
                </a:cubicBezTo>
              </a:path>
              <a:path w="2060" h="1886">
                <a:moveTo>
                  <a:pt x="12254" y="13940"/>
                </a:moveTo>
                <a:cubicBezTo>
                  <a:pt x="12325" y="13893"/>
                  <a:pt x="12346" y="13878"/>
                  <a:pt x="12402" y="13866"/>
                </a:cubicBezTo>
                <a:cubicBezTo>
                  <a:pt x="12487" y="14049"/>
                  <a:pt x="12371" y="14097"/>
                  <a:pt x="12254" y="14238"/>
                </a:cubicBezTo>
                <a:cubicBezTo>
                  <a:pt x="12160" y="14351"/>
                  <a:pt x="12524" y="14182"/>
                  <a:pt x="12576" y="14163"/>
                </a:cubicBezTo>
              </a:path>
              <a:path w="2060" h="1886">
                <a:moveTo>
                  <a:pt x="12576" y="13122"/>
                </a:moveTo>
                <a:cubicBezTo>
                  <a:pt x="12515" y="13034"/>
                  <a:pt x="12467" y="12974"/>
                  <a:pt x="12353" y="12923"/>
                </a:cubicBezTo>
                <a:cubicBezTo>
                  <a:pt x="12130" y="12824"/>
                  <a:pt x="11921" y="12824"/>
                  <a:pt x="11683" y="12824"/>
                </a:cubicBezTo>
                <a:cubicBezTo>
                  <a:pt x="11496" y="12824"/>
                  <a:pt x="11356" y="12877"/>
                  <a:pt x="11212" y="12998"/>
                </a:cubicBezTo>
                <a:cubicBezTo>
                  <a:pt x="11080" y="13108"/>
                  <a:pt x="11050" y="13280"/>
                  <a:pt x="11038" y="13444"/>
                </a:cubicBezTo>
                <a:cubicBezTo>
                  <a:pt x="11019" y="13688"/>
                  <a:pt x="11138" y="13911"/>
                  <a:pt x="11261" y="14114"/>
                </a:cubicBezTo>
                <a:cubicBezTo>
                  <a:pt x="11367" y="14289"/>
                  <a:pt x="11516" y="14488"/>
                  <a:pt x="11683" y="14610"/>
                </a:cubicBezTo>
                <a:cubicBezTo>
                  <a:pt x="11858" y="14738"/>
                  <a:pt x="12055" y="14703"/>
                  <a:pt x="12254" y="14660"/>
                </a:cubicBezTo>
                <a:cubicBezTo>
                  <a:pt x="12471" y="14613"/>
                  <a:pt x="12684" y="14573"/>
                  <a:pt x="12849" y="14412"/>
                </a:cubicBezTo>
                <a:cubicBezTo>
                  <a:pt x="12967" y="14297"/>
                  <a:pt x="13128" y="14070"/>
                  <a:pt x="13097" y="13891"/>
                </a:cubicBezTo>
                <a:cubicBezTo>
                  <a:pt x="13079" y="13789"/>
                  <a:pt x="13002" y="13573"/>
                  <a:pt x="12923" y="13494"/>
                </a:cubicBezTo>
                <a:cubicBezTo>
                  <a:pt x="12847" y="13418"/>
                  <a:pt x="12737" y="13357"/>
                  <a:pt x="12650" y="13295"/>
                </a:cubicBezTo>
                <a:cubicBezTo>
                  <a:pt x="12575" y="13242"/>
                  <a:pt x="12497" y="13199"/>
                  <a:pt x="12427" y="13146"/>
                </a:cubicBezTo>
                <a:cubicBezTo>
                  <a:pt x="12392" y="13120"/>
                  <a:pt x="12359" y="13078"/>
                  <a:pt x="12328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83240" y="5000760"/>
            <a:ext cx="295560" cy="635040"/>
          </a:xfrm>
          <a:custGeom>
            <a:avLst/>
            <a:gdLst/>
            <a:ahLst/>
            <a:rect l="l" t="t" r="r" b="b"/>
            <a:pathLst>
              <a:path w="820" h="1762">
                <a:moveTo>
                  <a:pt x="18678" y="13891"/>
                </a:moveTo>
                <a:cubicBezTo>
                  <a:pt x="18523" y="13941"/>
                  <a:pt x="18370" y="13960"/>
                  <a:pt x="18207" y="13965"/>
                </a:cubicBezTo>
                <a:cubicBezTo>
                  <a:pt x="18072" y="13969"/>
                  <a:pt x="18132" y="14210"/>
                  <a:pt x="18132" y="14312"/>
                </a:cubicBezTo>
                <a:cubicBezTo>
                  <a:pt x="18251" y="14326"/>
                  <a:pt x="18361" y="14192"/>
                  <a:pt x="18504" y="14238"/>
                </a:cubicBezTo>
                <a:cubicBezTo>
                  <a:pt x="18537" y="14263"/>
                  <a:pt x="18571" y="14287"/>
                  <a:pt x="18604" y="14312"/>
                </a:cubicBezTo>
                <a:cubicBezTo>
                  <a:pt x="18578" y="14519"/>
                  <a:pt x="18500" y="14578"/>
                  <a:pt x="18281" y="14610"/>
                </a:cubicBezTo>
                <a:cubicBezTo>
                  <a:pt x="18248" y="14610"/>
                  <a:pt x="18215" y="14610"/>
                  <a:pt x="18182" y="14610"/>
                </a:cubicBezTo>
              </a:path>
              <a:path w="820" h="1762">
                <a:moveTo>
                  <a:pt x="18008" y="14858"/>
                </a:moveTo>
                <a:cubicBezTo>
                  <a:pt x="18275" y="14794"/>
                  <a:pt x="18563" y="14687"/>
                  <a:pt x="18827" y="14759"/>
                </a:cubicBezTo>
              </a:path>
              <a:path w="820" h="1762">
                <a:moveTo>
                  <a:pt x="18306" y="15056"/>
                </a:moveTo>
                <a:cubicBezTo>
                  <a:pt x="18474" y="15041"/>
                  <a:pt x="18702" y="15058"/>
                  <a:pt x="18479" y="15280"/>
                </a:cubicBezTo>
                <a:cubicBezTo>
                  <a:pt x="18438" y="15305"/>
                  <a:pt x="18396" y="15329"/>
                  <a:pt x="18355" y="15354"/>
                </a:cubicBezTo>
                <a:cubicBezTo>
                  <a:pt x="18339" y="15362"/>
                  <a:pt x="18322" y="15371"/>
                  <a:pt x="18306" y="15379"/>
                </a:cubicBezTo>
                <a:cubicBezTo>
                  <a:pt x="18395" y="15316"/>
                  <a:pt x="18684" y="15174"/>
                  <a:pt x="18604" y="15453"/>
                </a:cubicBezTo>
                <a:cubicBezTo>
                  <a:pt x="18547" y="15651"/>
                  <a:pt x="18340" y="15648"/>
                  <a:pt x="18182" y="156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0360" y="5106960"/>
            <a:ext cx="1125720" cy="492120"/>
          </a:xfrm>
          <a:custGeom>
            <a:avLst/>
            <a:gdLst/>
            <a:ahLst/>
            <a:rect l="l" t="t" r="r" b="b"/>
            <a:pathLst>
              <a:path w="3127" h="1366">
                <a:moveTo>
                  <a:pt x="19000" y="14957"/>
                </a:moveTo>
                <a:cubicBezTo>
                  <a:pt x="19068" y="14934"/>
                  <a:pt x="19133" y="14912"/>
                  <a:pt x="19199" y="14883"/>
                </a:cubicBezTo>
              </a:path>
              <a:path w="3127" h="1366">
                <a:moveTo>
                  <a:pt x="19075" y="15106"/>
                </a:moveTo>
                <a:cubicBezTo>
                  <a:pt x="19170" y="15042"/>
                  <a:pt x="19191" y="15019"/>
                  <a:pt x="19298" y="15007"/>
                </a:cubicBezTo>
              </a:path>
              <a:path w="3127" h="1366">
                <a:moveTo>
                  <a:pt x="19621" y="15032"/>
                </a:moveTo>
                <a:cubicBezTo>
                  <a:pt x="19804" y="14962"/>
                  <a:pt x="19985" y="14882"/>
                  <a:pt x="20191" y="14858"/>
                </a:cubicBezTo>
                <a:cubicBezTo>
                  <a:pt x="20333" y="14858"/>
                  <a:pt x="20361" y="14868"/>
                  <a:pt x="20439" y="14833"/>
                </a:cubicBezTo>
              </a:path>
              <a:path w="3127" h="1366">
                <a:moveTo>
                  <a:pt x="19695" y="15304"/>
                </a:moveTo>
                <a:cubicBezTo>
                  <a:pt x="19670" y="15354"/>
                  <a:pt x="19645" y="15403"/>
                  <a:pt x="19621" y="15453"/>
                </a:cubicBezTo>
                <a:cubicBezTo>
                  <a:pt x="19697" y="15439"/>
                  <a:pt x="19781" y="15431"/>
                  <a:pt x="19844" y="15404"/>
                </a:cubicBezTo>
              </a:path>
              <a:path w="3127" h="1366">
                <a:moveTo>
                  <a:pt x="19869" y="15180"/>
                </a:moveTo>
                <a:cubicBezTo>
                  <a:pt x="19841" y="15306"/>
                  <a:pt x="19819" y="15424"/>
                  <a:pt x="19819" y="15553"/>
                </a:cubicBezTo>
              </a:path>
              <a:path w="3127" h="1366">
                <a:moveTo>
                  <a:pt x="20241" y="15081"/>
                </a:moveTo>
                <a:cubicBezTo>
                  <a:pt x="20125" y="15081"/>
                  <a:pt x="20089" y="15111"/>
                  <a:pt x="20042" y="15230"/>
                </a:cubicBezTo>
                <a:cubicBezTo>
                  <a:pt x="20042" y="15238"/>
                  <a:pt x="20042" y="15247"/>
                  <a:pt x="20042" y="15255"/>
                </a:cubicBezTo>
                <a:cubicBezTo>
                  <a:pt x="20102" y="15255"/>
                  <a:pt x="20196" y="15250"/>
                  <a:pt x="20216" y="15329"/>
                </a:cubicBezTo>
                <a:cubicBezTo>
                  <a:pt x="20252" y="15474"/>
                  <a:pt x="20092" y="15493"/>
                  <a:pt x="19993" y="15503"/>
                </a:cubicBezTo>
              </a:path>
              <a:path w="3127" h="1366">
                <a:moveTo>
                  <a:pt x="19397" y="14511"/>
                </a:moveTo>
                <a:cubicBezTo>
                  <a:pt x="19360" y="14605"/>
                  <a:pt x="19367" y="14623"/>
                  <a:pt x="19323" y="14660"/>
                </a:cubicBezTo>
                <a:cubicBezTo>
                  <a:pt x="19428" y="14667"/>
                  <a:pt x="19490" y="14648"/>
                  <a:pt x="19596" y="14610"/>
                </a:cubicBezTo>
              </a:path>
              <a:path w="3127" h="1366">
                <a:moveTo>
                  <a:pt x="19645" y="14387"/>
                </a:moveTo>
                <a:cubicBezTo>
                  <a:pt x="19645" y="14516"/>
                  <a:pt x="19588" y="14631"/>
                  <a:pt x="19571" y="14759"/>
                </a:cubicBezTo>
                <a:cubicBezTo>
                  <a:pt x="19571" y="14784"/>
                  <a:pt x="19571" y="14808"/>
                  <a:pt x="19571" y="14833"/>
                </a:cubicBezTo>
              </a:path>
              <a:path w="3127" h="1366">
                <a:moveTo>
                  <a:pt x="19893" y="14238"/>
                </a:moveTo>
                <a:cubicBezTo>
                  <a:pt x="19893" y="14379"/>
                  <a:pt x="19893" y="14519"/>
                  <a:pt x="19893" y="14660"/>
                </a:cubicBezTo>
              </a:path>
              <a:path w="3127" h="1366">
                <a:moveTo>
                  <a:pt x="20141" y="14213"/>
                </a:moveTo>
                <a:cubicBezTo>
                  <a:pt x="20089" y="14327"/>
                  <a:pt x="20074" y="14409"/>
                  <a:pt x="20067" y="14536"/>
                </a:cubicBezTo>
                <a:cubicBezTo>
                  <a:pt x="20162" y="14494"/>
                  <a:pt x="20438" y="14319"/>
                  <a:pt x="20216" y="14213"/>
                </a:cubicBezTo>
                <a:cubicBezTo>
                  <a:pt x="20191" y="14213"/>
                  <a:pt x="20166" y="14213"/>
                  <a:pt x="20141" y="14213"/>
                </a:cubicBezTo>
              </a:path>
              <a:path w="3127" h="1366">
                <a:moveTo>
                  <a:pt x="20638" y="14808"/>
                </a:moveTo>
                <a:cubicBezTo>
                  <a:pt x="20711" y="14808"/>
                  <a:pt x="20768" y="14797"/>
                  <a:pt x="20836" y="14784"/>
                </a:cubicBezTo>
              </a:path>
              <a:path w="3127" h="1366">
                <a:moveTo>
                  <a:pt x="20687" y="15007"/>
                </a:moveTo>
                <a:cubicBezTo>
                  <a:pt x="20749" y="15026"/>
                  <a:pt x="20792" y="15032"/>
                  <a:pt x="20861" y="15032"/>
                </a:cubicBezTo>
              </a:path>
              <a:path w="3127" h="1366">
                <a:moveTo>
                  <a:pt x="21233" y="14734"/>
                </a:moveTo>
                <a:cubicBezTo>
                  <a:pt x="21233" y="14643"/>
                  <a:pt x="21218" y="14571"/>
                  <a:pt x="21183" y="14486"/>
                </a:cubicBezTo>
                <a:cubicBezTo>
                  <a:pt x="21163" y="14446"/>
                  <a:pt x="21165" y="14429"/>
                  <a:pt x="21134" y="14436"/>
                </a:cubicBezTo>
                <a:cubicBezTo>
                  <a:pt x="20997" y="14403"/>
                  <a:pt x="20968" y="14582"/>
                  <a:pt x="20985" y="14709"/>
                </a:cubicBezTo>
                <a:cubicBezTo>
                  <a:pt x="21003" y="14844"/>
                  <a:pt x="21124" y="14841"/>
                  <a:pt x="21183" y="14734"/>
                </a:cubicBezTo>
                <a:cubicBezTo>
                  <a:pt x="21206" y="14644"/>
                  <a:pt x="21214" y="14620"/>
                  <a:pt x="21208" y="14560"/>
                </a:cubicBezTo>
                <a:cubicBezTo>
                  <a:pt x="21208" y="14827"/>
                  <a:pt x="21203" y="15089"/>
                  <a:pt x="21183" y="15354"/>
                </a:cubicBezTo>
                <a:cubicBezTo>
                  <a:pt x="21183" y="15371"/>
                  <a:pt x="21183" y="15387"/>
                  <a:pt x="21183" y="15404"/>
                </a:cubicBezTo>
              </a:path>
              <a:path w="3127" h="1366">
                <a:moveTo>
                  <a:pt x="21679" y="14188"/>
                </a:moveTo>
                <a:cubicBezTo>
                  <a:pt x="21576" y="14212"/>
                  <a:pt x="21449" y="14167"/>
                  <a:pt x="21456" y="14312"/>
                </a:cubicBezTo>
                <a:cubicBezTo>
                  <a:pt x="21464" y="14329"/>
                  <a:pt x="21473" y="14345"/>
                  <a:pt x="21481" y="14362"/>
                </a:cubicBezTo>
                <a:cubicBezTo>
                  <a:pt x="21596" y="14345"/>
                  <a:pt x="21683" y="14321"/>
                  <a:pt x="21779" y="14412"/>
                </a:cubicBezTo>
                <a:cubicBezTo>
                  <a:pt x="21867" y="14496"/>
                  <a:pt x="21655" y="14560"/>
                  <a:pt x="21605" y="14585"/>
                </a:cubicBezTo>
              </a:path>
              <a:path w="3127" h="1366">
                <a:moveTo>
                  <a:pt x="21530" y="14808"/>
                </a:moveTo>
                <a:cubicBezTo>
                  <a:pt x="21659" y="14780"/>
                  <a:pt x="21775" y="14749"/>
                  <a:pt x="21903" y="14734"/>
                </a:cubicBezTo>
              </a:path>
              <a:path w="3127" h="1366">
                <a:moveTo>
                  <a:pt x="21630" y="15032"/>
                </a:moveTo>
                <a:cubicBezTo>
                  <a:pt x="21591" y="15109"/>
                  <a:pt x="21592" y="15124"/>
                  <a:pt x="21555" y="15156"/>
                </a:cubicBezTo>
                <a:cubicBezTo>
                  <a:pt x="21649" y="15179"/>
                  <a:pt x="21651" y="15158"/>
                  <a:pt x="21754" y="15106"/>
                </a:cubicBezTo>
              </a:path>
              <a:path w="3127" h="1366">
                <a:moveTo>
                  <a:pt x="21729" y="14982"/>
                </a:moveTo>
                <a:cubicBezTo>
                  <a:pt x="21668" y="15103"/>
                  <a:pt x="21695" y="15221"/>
                  <a:pt x="21679" y="15354"/>
                </a:cubicBezTo>
              </a:path>
              <a:path w="3127" h="1366">
                <a:moveTo>
                  <a:pt x="22002" y="14883"/>
                </a:moveTo>
                <a:cubicBezTo>
                  <a:pt x="21890" y="14902"/>
                  <a:pt x="21890" y="14926"/>
                  <a:pt x="21878" y="15032"/>
                </a:cubicBezTo>
                <a:cubicBezTo>
                  <a:pt x="21953" y="15026"/>
                  <a:pt x="22087" y="14974"/>
                  <a:pt x="22126" y="15081"/>
                </a:cubicBezTo>
                <a:cubicBezTo>
                  <a:pt x="22172" y="15209"/>
                  <a:pt x="22005" y="15242"/>
                  <a:pt x="21927" y="152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19880" y="5786280"/>
            <a:ext cx="760320" cy="482760"/>
          </a:xfrm>
          <a:custGeom>
            <a:avLst/>
            <a:gdLst/>
            <a:ahLst/>
            <a:rect l="l" t="t" r="r" b="b"/>
            <a:pathLst>
              <a:path w="2109" h="1341">
                <a:moveTo>
                  <a:pt x="18207" y="16545"/>
                </a:moveTo>
                <a:cubicBezTo>
                  <a:pt x="18188" y="16429"/>
                  <a:pt x="18177" y="16423"/>
                  <a:pt x="18083" y="16346"/>
                </a:cubicBezTo>
                <a:cubicBezTo>
                  <a:pt x="18009" y="16387"/>
                  <a:pt x="17665" y="16695"/>
                  <a:pt x="17884" y="16818"/>
                </a:cubicBezTo>
                <a:cubicBezTo>
                  <a:pt x="18074" y="16925"/>
                  <a:pt x="18168" y="16650"/>
                  <a:pt x="18231" y="16545"/>
                </a:cubicBezTo>
                <a:cubicBezTo>
                  <a:pt x="18248" y="16520"/>
                  <a:pt x="18264" y="16495"/>
                  <a:pt x="18281" y="16470"/>
                </a:cubicBezTo>
                <a:cubicBezTo>
                  <a:pt x="18301" y="16691"/>
                  <a:pt x="18318" y="16893"/>
                  <a:pt x="18281" y="17115"/>
                </a:cubicBezTo>
                <a:cubicBezTo>
                  <a:pt x="18273" y="17140"/>
                  <a:pt x="18264" y="17165"/>
                  <a:pt x="18256" y="17190"/>
                </a:cubicBezTo>
              </a:path>
              <a:path w="2109" h="1341">
                <a:moveTo>
                  <a:pt x="18504" y="16173"/>
                </a:moveTo>
                <a:cubicBezTo>
                  <a:pt x="18504" y="16222"/>
                  <a:pt x="18504" y="16239"/>
                  <a:pt x="18504" y="16272"/>
                </a:cubicBezTo>
                <a:cubicBezTo>
                  <a:pt x="18593" y="16272"/>
                  <a:pt x="18669" y="16274"/>
                  <a:pt x="18752" y="16297"/>
                </a:cubicBezTo>
                <a:cubicBezTo>
                  <a:pt x="18712" y="16471"/>
                  <a:pt x="18676" y="16493"/>
                  <a:pt x="18504" y="16470"/>
                </a:cubicBezTo>
              </a:path>
              <a:path w="2109" h="1341">
                <a:moveTo>
                  <a:pt x="18529" y="16148"/>
                </a:moveTo>
                <a:cubicBezTo>
                  <a:pt x="18635" y="16110"/>
                  <a:pt x="18715" y="16083"/>
                  <a:pt x="18827" y="16073"/>
                </a:cubicBezTo>
              </a:path>
              <a:path w="2109" h="1341">
                <a:moveTo>
                  <a:pt x="18479" y="16842"/>
                </a:moveTo>
                <a:cubicBezTo>
                  <a:pt x="18594" y="16809"/>
                  <a:pt x="18694" y="16769"/>
                  <a:pt x="18802" y="16718"/>
                </a:cubicBezTo>
              </a:path>
              <a:path w="2109" h="1341">
                <a:moveTo>
                  <a:pt x="18529" y="16942"/>
                </a:moveTo>
                <a:cubicBezTo>
                  <a:pt x="18495" y="17030"/>
                  <a:pt x="18469" y="17099"/>
                  <a:pt x="18455" y="17190"/>
                </a:cubicBezTo>
                <a:cubicBezTo>
                  <a:pt x="18595" y="17166"/>
                  <a:pt x="18638" y="17164"/>
                  <a:pt x="18703" y="17090"/>
                </a:cubicBezTo>
              </a:path>
              <a:path w="2109" h="1341">
                <a:moveTo>
                  <a:pt x="18604" y="17066"/>
                </a:moveTo>
                <a:cubicBezTo>
                  <a:pt x="18604" y="17182"/>
                  <a:pt x="18604" y="17297"/>
                  <a:pt x="18604" y="17413"/>
                </a:cubicBezTo>
              </a:path>
              <a:path w="2109" h="1341">
                <a:moveTo>
                  <a:pt x="18777" y="17115"/>
                </a:moveTo>
                <a:cubicBezTo>
                  <a:pt x="18891" y="17097"/>
                  <a:pt x="19038" y="17091"/>
                  <a:pt x="18951" y="17264"/>
                </a:cubicBezTo>
                <a:cubicBezTo>
                  <a:pt x="18900" y="17315"/>
                  <a:pt x="18882" y="17331"/>
                  <a:pt x="18827" y="17314"/>
                </a:cubicBezTo>
              </a:path>
              <a:path w="2109" h="1341">
                <a:moveTo>
                  <a:pt x="18802" y="17016"/>
                </a:moveTo>
                <a:cubicBezTo>
                  <a:pt x="18876" y="16962"/>
                  <a:pt x="18951" y="16921"/>
                  <a:pt x="19025" y="16867"/>
                </a:cubicBezTo>
              </a:path>
              <a:path w="2109" h="1341">
                <a:moveTo>
                  <a:pt x="19100" y="16570"/>
                </a:moveTo>
                <a:cubicBezTo>
                  <a:pt x="19124" y="16570"/>
                  <a:pt x="19133" y="16570"/>
                  <a:pt x="19149" y="16570"/>
                </a:cubicBezTo>
              </a:path>
              <a:path w="2109" h="1341">
                <a:moveTo>
                  <a:pt x="19149" y="16545"/>
                </a:moveTo>
                <a:lnTo>
                  <a:pt x="19149" y="16545"/>
                </a:lnTo>
              </a:path>
              <a:path w="2109" h="1341">
                <a:moveTo>
                  <a:pt x="19174" y="16842"/>
                </a:moveTo>
                <a:lnTo>
                  <a:pt x="19174" y="16842"/>
                </a:lnTo>
              </a:path>
              <a:path w="2109" h="1341">
                <a:moveTo>
                  <a:pt x="19075" y="16694"/>
                </a:moveTo>
                <a:cubicBezTo>
                  <a:pt x="19140" y="16672"/>
                  <a:pt x="19155" y="16664"/>
                  <a:pt x="19199" y="16669"/>
                </a:cubicBezTo>
              </a:path>
              <a:path w="2109" h="1341">
                <a:moveTo>
                  <a:pt x="19298" y="16396"/>
                </a:moveTo>
                <a:cubicBezTo>
                  <a:pt x="19298" y="16379"/>
                  <a:pt x="19298" y="16363"/>
                  <a:pt x="19298" y="16346"/>
                </a:cubicBezTo>
                <a:cubicBezTo>
                  <a:pt x="19326" y="16486"/>
                  <a:pt x="19378" y="16392"/>
                  <a:pt x="19472" y="16446"/>
                </a:cubicBezTo>
                <a:cubicBezTo>
                  <a:pt x="19572" y="16503"/>
                  <a:pt x="19386" y="16540"/>
                  <a:pt x="19372" y="16545"/>
                </a:cubicBezTo>
              </a:path>
              <a:path w="2109" h="1341">
                <a:moveTo>
                  <a:pt x="19298" y="16346"/>
                </a:moveTo>
                <a:cubicBezTo>
                  <a:pt x="19411" y="16301"/>
                  <a:pt x="19441" y="16285"/>
                  <a:pt x="19521" y="16297"/>
                </a:cubicBezTo>
              </a:path>
              <a:path w="2109" h="1341">
                <a:moveTo>
                  <a:pt x="19348" y="16768"/>
                </a:moveTo>
                <a:cubicBezTo>
                  <a:pt x="19429" y="16756"/>
                  <a:pt x="19510" y="16716"/>
                  <a:pt x="19596" y="16694"/>
                </a:cubicBezTo>
              </a:path>
              <a:path w="2109" h="1341">
                <a:moveTo>
                  <a:pt x="19422" y="16917"/>
                </a:moveTo>
                <a:cubicBezTo>
                  <a:pt x="19355" y="17027"/>
                  <a:pt x="19446" y="16988"/>
                  <a:pt x="19521" y="17016"/>
                </a:cubicBezTo>
                <a:cubicBezTo>
                  <a:pt x="19642" y="17062"/>
                  <a:pt x="19540" y="17131"/>
                  <a:pt x="19472" y="17140"/>
                </a:cubicBezTo>
              </a:path>
              <a:path w="2109" h="1341">
                <a:moveTo>
                  <a:pt x="19521" y="16867"/>
                </a:moveTo>
                <a:cubicBezTo>
                  <a:pt x="19546" y="16859"/>
                  <a:pt x="19571" y="16850"/>
                  <a:pt x="19596" y="16842"/>
                </a:cubicBezTo>
              </a:path>
              <a:path w="2109" h="1341">
                <a:moveTo>
                  <a:pt x="19819" y="16644"/>
                </a:moveTo>
                <a:cubicBezTo>
                  <a:pt x="19884" y="16622"/>
                  <a:pt x="19899" y="16614"/>
                  <a:pt x="19943" y="16619"/>
                </a:cubicBezTo>
              </a:path>
              <a:path w="2109" h="1341">
                <a:moveTo>
                  <a:pt x="19819" y="16818"/>
                </a:moveTo>
                <a:cubicBezTo>
                  <a:pt x="19879" y="16798"/>
                  <a:pt x="19894" y="16799"/>
                  <a:pt x="19918" y="167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85040" y="5724360"/>
            <a:ext cx="652320" cy="741600"/>
          </a:xfrm>
          <a:custGeom>
            <a:avLst/>
            <a:gdLst/>
            <a:ahLst/>
            <a:rect l="l" t="t" r="r" b="b"/>
            <a:pathLst>
              <a:path w="1812" h="2060">
                <a:moveTo>
                  <a:pt x="21406" y="16644"/>
                </a:moveTo>
                <a:cubicBezTo>
                  <a:pt x="21452" y="16507"/>
                  <a:pt x="21407" y="16451"/>
                  <a:pt x="21258" y="16421"/>
                </a:cubicBezTo>
                <a:cubicBezTo>
                  <a:pt x="21165" y="16402"/>
                  <a:pt x="21095" y="16494"/>
                  <a:pt x="21059" y="16570"/>
                </a:cubicBezTo>
                <a:cubicBezTo>
                  <a:pt x="21025" y="16640"/>
                  <a:pt x="21022" y="16723"/>
                  <a:pt x="21059" y="16793"/>
                </a:cubicBezTo>
                <a:cubicBezTo>
                  <a:pt x="21095" y="16860"/>
                  <a:pt x="21206" y="16845"/>
                  <a:pt x="21258" y="16818"/>
                </a:cubicBezTo>
                <a:cubicBezTo>
                  <a:pt x="21360" y="16764"/>
                  <a:pt x="21347" y="16740"/>
                  <a:pt x="21382" y="16644"/>
                </a:cubicBezTo>
                <a:cubicBezTo>
                  <a:pt x="21406" y="16578"/>
                  <a:pt x="21397" y="16521"/>
                  <a:pt x="21406" y="16446"/>
                </a:cubicBezTo>
                <a:cubicBezTo>
                  <a:pt x="21406" y="16397"/>
                  <a:pt x="21364" y="16613"/>
                  <a:pt x="21357" y="16644"/>
                </a:cubicBezTo>
                <a:cubicBezTo>
                  <a:pt x="21321" y="16804"/>
                  <a:pt x="21242" y="17071"/>
                  <a:pt x="21282" y="17214"/>
                </a:cubicBezTo>
              </a:path>
              <a:path w="1812" h="2060">
                <a:moveTo>
                  <a:pt x="21679" y="15999"/>
                </a:moveTo>
                <a:cubicBezTo>
                  <a:pt x="21736" y="16113"/>
                  <a:pt x="21766" y="16217"/>
                  <a:pt x="21779" y="16346"/>
                </a:cubicBezTo>
              </a:path>
              <a:path w="1812" h="2060">
                <a:moveTo>
                  <a:pt x="21555" y="16669"/>
                </a:moveTo>
                <a:cubicBezTo>
                  <a:pt x="21716" y="16642"/>
                  <a:pt x="21892" y="16653"/>
                  <a:pt x="22051" y="16619"/>
                </a:cubicBezTo>
                <a:cubicBezTo>
                  <a:pt x="22068" y="16611"/>
                  <a:pt x="22084" y="16602"/>
                  <a:pt x="22101" y="16594"/>
                </a:cubicBezTo>
              </a:path>
              <a:path w="1812" h="2060">
                <a:moveTo>
                  <a:pt x="21853" y="16966"/>
                </a:moveTo>
                <a:cubicBezTo>
                  <a:pt x="21861" y="16958"/>
                  <a:pt x="21870" y="16950"/>
                  <a:pt x="21878" y="16942"/>
                </a:cubicBezTo>
                <a:cubicBezTo>
                  <a:pt x="21865" y="16851"/>
                  <a:pt x="21777" y="16800"/>
                  <a:pt x="21679" y="16867"/>
                </a:cubicBezTo>
                <a:cubicBezTo>
                  <a:pt x="21582" y="16934"/>
                  <a:pt x="21612" y="17133"/>
                  <a:pt x="21754" y="17090"/>
                </a:cubicBezTo>
                <a:cubicBezTo>
                  <a:pt x="21839" y="17064"/>
                  <a:pt x="21841" y="17014"/>
                  <a:pt x="21853" y="16942"/>
                </a:cubicBezTo>
                <a:cubicBezTo>
                  <a:pt x="21895" y="17093"/>
                  <a:pt x="21871" y="17232"/>
                  <a:pt x="21853" y="17388"/>
                </a:cubicBezTo>
                <a:cubicBezTo>
                  <a:pt x="21853" y="17396"/>
                  <a:pt x="21853" y="17405"/>
                  <a:pt x="21853" y="17413"/>
                </a:cubicBezTo>
              </a:path>
              <a:path w="1812" h="2060">
                <a:moveTo>
                  <a:pt x="20811" y="17835"/>
                </a:moveTo>
                <a:cubicBezTo>
                  <a:pt x="20955" y="17925"/>
                  <a:pt x="21106" y="17966"/>
                  <a:pt x="21282" y="17959"/>
                </a:cubicBezTo>
                <a:cubicBezTo>
                  <a:pt x="21496" y="17951"/>
                  <a:pt x="21665" y="17871"/>
                  <a:pt x="21853" y="17785"/>
                </a:cubicBezTo>
                <a:cubicBezTo>
                  <a:pt x="22027" y="17705"/>
                  <a:pt x="22176" y="17602"/>
                  <a:pt x="22250" y="17413"/>
                </a:cubicBezTo>
                <a:cubicBezTo>
                  <a:pt x="22299" y="17287"/>
                  <a:pt x="22295" y="17099"/>
                  <a:pt x="22299" y="16966"/>
                </a:cubicBezTo>
                <a:cubicBezTo>
                  <a:pt x="22302" y="16857"/>
                  <a:pt x="22337" y="16755"/>
                  <a:pt x="22324" y="16644"/>
                </a:cubicBezTo>
                <a:cubicBezTo>
                  <a:pt x="22311" y="16535"/>
                  <a:pt x="22282" y="16408"/>
                  <a:pt x="22250" y="16297"/>
                </a:cubicBezTo>
                <a:cubicBezTo>
                  <a:pt x="22215" y="16176"/>
                  <a:pt x="22175" y="16083"/>
                  <a:pt x="22076" y="15999"/>
                </a:cubicBezTo>
                <a:cubicBezTo>
                  <a:pt x="21998" y="15933"/>
                  <a:pt x="21877" y="15908"/>
                  <a:pt x="21779" y="15900"/>
                </a:cubicBezTo>
                <a:cubicBezTo>
                  <a:pt x="21570" y="15883"/>
                  <a:pt x="21385" y="15933"/>
                  <a:pt x="21183" y="15974"/>
                </a:cubicBezTo>
                <a:cubicBezTo>
                  <a:pt x="21014" y="16008"/>
                  <a:pt x="20837" y="16068"/>
                  <a:pt x="20737" y="16222"/>
                </a:cubicBezTo>
                <a:cubicBezTo>
                  <a:pt x="20644" y="16365"/>
                  <a:pt x="20603" y="16556"/>
                  <a:pt x="20563" y="16718"/>
                </a:cubicBezTo>
                <a:cubicBezTo>
                  <a:pt x="20526" y="16868"/>
                  <a:pt x="20514" y="16985"/>
                  <a:pt x="20538" y="17140"/>
                </a:cubicBezTo>
                <a:cubicBezTo>
                  <a:pt x="20555" y="17249"/>
                  <a:pt x="20587" y="17442"/>
                  <a:pt x="20638" y="17537"/>
                </a:cubicBezTo>
                <a:cubicBezTo>
                  <a:pt x="20672" y="17600"/>
                  <a:pt x="20779" y="17690"/>
                  <a:pt x="20861" y="17711"/>
                </a:cubicBezTo>
                <a:cubicBezTo>
                  <a:pt x="20926" y="17728"/>
                  <a:pt x="21020" y="17712"/>
                  <a:pt x="21084" y="17735"/>
                </a:cubicBezTo>
                <a:cubicBezTo>
                  <a:pt x="21092" y="17743"/>
                  <a:pt x="21101" y="17752"/>
                  <a:pt x="21109" y="177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70240" y="2652840"/>
            <a:ext cx="625680" cy="1062000"/>
          </a:xfrm>
          <a:custGeom>
            <a:avLst/>
            <a:gdLst/>
            <a:ahLst/>
            <a:rect l="l" t="t" r="r" b="b"/>
            <a:pathLst>
              <a:path w="1737" h="2953">
                <a:moveTo>
                  <a:pt x="12799" y="8483"/>
                </a:moveTo>
                <a:cubicBezTo>
                  <a:pt x="12713" y="8514"/>
                  <a:pt x="12532" y="8504"/>
                  <a:pt x="12526" y="8582"/>
                </a:cubicBezTo>
                <a:cubicBezTo>
                  <a:pt x="12519" y="8669"/>
                  <a:pt x="12525" y="8729"/>
                  <a:pt x="12551" y="8806"/>
                </a:cubicBezTo>
                <a:cubicBezTo>
                  <a:pt x="12638" y="8784"/>
                  <a:pt x="12693" y="8718"/>
                  <a:pt x="12799" y="8731"/>
                </a:cubicBezTo>
                <a:cubicBezTo>
                  <a:pt x="12948" y="8750"/>
                  <a:pt x="12990" y="8909"/>
                  <a:pt x="12874" y="9004"/>
                </a:cubicBezTo>
                <a:cubicBezTo>
                  <a:pt x="12743" y="9112"/>
                  <a:pt x="12597" y="9089"/>
                  <a:pt x="12477" y="9004"/>
                </a:cubicBezTo>
              </a:path>
              <a:path w="1737" h="2953">
                <a:moveTo>
                  <a:pt x="12254" y="9227"/>
                </a:moveTo>
                <a:cubicBezTo>
                  <a:pt x="12329" y="9100"/>
                  <a:pt x="12290" y="8903"/>
                  <a:pt x="12303" y="8756"/>
                </a:cubicBezTo>
                <a:cubicBezTo>
                  <a:pt x="12316" y="8613"/>
                  <a:pt x="12345" y="8477"/>
                  <a:pt x="12353" y="8334"/>
                </a:cubicBezTo>
                <a:cubicBezTo>
                  <a:pt x="12591" y="8303"/>
                  <a:pt x="12850" y="8351"/>
                  <a:pt x="13097" y="8334"/>
                </a:cubicBezTo>
                <a:cubicBezTo>
                  <a:pt x="13250" y="8324"/>
                  <a:pt x="13244" y="8269"/>
                  <a:pt x="13320" y="8359"/>
                </a:cubicBezTo>
              </a:path>
              <a:path w="1737" h="2953">
                <a:moveTo>
                  <a:pt x="11633" y="8483"/>
                </a:moveTo>
                <a:cubicBezTo>
                  <a:pt x="11634" y="8556"/>
                  <a:pt x="11759" y="8475"/>
                  <a:pt x="11881" y="8483"/>
                </a:cubicBezTo>
                <a:cubicBezTo>
                  <a:pt x="11893" y="8626"/>
                  <a:pt x="11859" y="8672"/>
                  <a:pt x="11733" y="8756"/>
                </a:cubicBezTo>
                <a:cubicBezTo>
                  <a:pt x="11835" y="8735"/>
                  <a:pt x="11992" y="8779"/>
                  <a:pt x="11881" y="8930"/>
                </a:cubicBezTo>
                <a:cubicBezTo>
                  <a:pt x="11802" y="9038"/>
                  <a:pt x="11540" y="8988"/>
                  <a:pt x="11584" y="8954"/>
                </a:cubicBezTo>
                <a:cubicBezTo>
                  <a:pt x="11600" y="8954"/>
                  <a:pt x="11617" y="8954"/>
                  <a:pt x="11633" y="8954"/>
                </a:cubicBezTo>
              </a:path>
              <a:path w="1737" h="2953">
                <a:moveTo>
                  <a:pt x="12650" y="7838"/>
                </a:moveTo>
                <a:cubicBezTo>
                  <a:pt x="12660" y="7939"/>
                  <a:pt x="12675" y="8033"/>
                  <a:pt x="12675" y="8136"/>
                </a:cubicBezTo>
                <a:cubicBezTo>
                  <a:pt x="12675" y="8186"/>
                  <a:pt x="12675" y="8202"/>
                  <a:pt x="12675" y="8235"/>
                </a:cubicBezTo>
              </a:path>
              <a:path w="1737" h="2953">
                <a:moveTo>
                  <a:pt x="12700" y="9252"/>
                </a:moveTo>
                <a:cubicBezTo>
                  <a:pt x="12771" y="9205"/>
                  <a:pt x="12793" y="9189"/>
                  <a:pt x="12849" y="9178"/>
                </a:cubicBezTo>
                <a:cubicBezTo>
                  <a:pt x="12865" y="9365"/>
                  <a:pt x="12759" y="9303"/>
                  <a:pt x="12849" y="9351"/>
                </a:cubicBezTo>
                <a:cubicBezTo>
                  <a:pt x="12865" y="9368"/>
                  <a:pt x="12882" y="9384"/>
                  <a:pt x="12898" y="9401"/>
                </a:cubicBezTo>
                <a:cubicBezTo>
                  <a:pt x="12864" y="9539"/>
                  <a:pt x="12822" y="9580"/>
                  <a:pt x="12675" y="9550"/>
                </a:cubicBezTo>
              </a:path>
              <a:path w="1737" h="2953">
                <a:moveTo>
                  <a:pt x="12378" y="9376"/>
                </a:moveTo>
                <a:cubicBezTo>
                  <a:pt x="12411" y="9376"/>
                  <a:pt x="12444" y="9376"/>
                  <a:pt x="12477" y="9376"/>
                </a:cubicBezTo>
              </a:path>
              <a:path w="1737" h="2953">
                <a:moveTo>
                  <a:pt x="12328" y="9748"/>
                </a:moveTo>
                <a:cubicBezTo>
                  <a:pt x="12610" y="9708"/>
                  <a:pt x="12889" y="9647"/>
                  <a:pt x="13171" y="9624"/>
                </a:cubicBezTo>
              </a:path>
              <a:path w="1737" h="2953">
                <a:moveTo>
                  <a:pt x="12750" y="9897"/>
                </a:moveTo>
                <a:cubicBezTo>
                  <a:pt x="12768" y="9861"/>
                  <a:pt x="12842" y="9790"/>
                  <a:pt x="12898" y="9798"/>
                </a:cubicBezTo>
                <a:cubicBezTo>
                  <a:pt x="13048" y="9820"/>
                  <a:pt x="12996" y="9990"/>
                  <a:pt x="12923" y="10071"/>
                </a:cubicBezTo>
                <a:cubicBezTo>
                  <a:pt x="12845" y="10158"/>
                  <a:pt x="12769" y="10219"/>
                  <a:pt x="12700" y="10319"/>
                </a:cubicBezTo>
                <a:cubicBezTo>
                  <a:pt x="12750" y="10229"/>
                  <a:pt x="12778" y="10151"/>
                  <a:pt x="12898" y="10170"/>
                </a:cubicBezTo>
                <a:cubicBezTo>
                  <a:pt x="13038" y="10192"/>
                  <a:pt x="13010" y="10245"/>
                  <a:pt x="13146" y="10170"/>
                </a:cubicBezTo>
              </a:path>
              <a:path w="1737" h="2953">
                <a:moveTo>
                  <a:pt x="12948" y="7417"/>
                </a:moveTo>
                <a:cubicBezTo>
                  <a:pt x="12973" y="7392"/>
                  <a:pt x="12981" y="7384"/>
                  <a:pt x="12998" y="7367"/>
                </a:cubicBezTo>
                <a:cubicBezTo>
                  <a:pt x="13109" y="7467"/>
                  <a:pt x="13099" y="7478"/>
                  <a:pt x="13047" y="7615"/>
                </a:cubicBezTo>
                <a:cubicBezTo>
                  <a:pt x="13009" y="7714"/>
                  <a:pt x="12950" y="7795"/>
                  <a:pt x="12898" y="7888"/>
                </a:cubicBezTo>
                <a:cubicBezTo>
                  <a:pt x="12974" y="7860"/>
                  <a:pt x="13043" y="7817"/>
                  <a:pt x="13122" y="7813"/>
                </a:cubicBezTo>
                <a:cubicBezTo>
                  <a:pt x="13138" y="7813"/>
                  <a:pt x="13155" y="7813"/>
                  <a:pt x="13171" y="7813"/>
                </a:cubicBezTo>
              </a:path>
              <a:path w="1737" h="2953">
                <a:moveTo>
                  <a:pt x="12874" y="8012"/>
                </a:moveTo>
                <a:cubicBezTo>
                  <a:pt x="12978" y="8001"/>
                  <a:pt x="13072" y="7957"/>
                  <a:pt x="13171" y="7938"/>
                </a:cubicBezTo>
                <a:cubicBezTo>
                  <a:pt x="13188" y="7938"/>
                  <a:pt x="13204" y="7938"/>
                  <a:pt x="13221" y="7938"/>
                </a:cubicBezTo>
              </a:path>
              <a:path w="1737" h="2953">
                <a:moveTo>
                  <a:pt x="12998" y="8111"/>
                </a:moveTo>
                <a:cubicBezTo>
                  <a:pt x="13064" y="8091"/>
                  <a:pt x="13230" y="8028"/>
                  <a:pt x="13146" y="8161"/>
                </a:cubicBezTo>
                <a:cubicBezTo>
                  <a:pt x="13130" y="8177"/>
                  <a:pt x="13113" y="8194"/>
                  <a:pt x="13097" y="8210"/>
                </a:cubicBezTo>
                <a:cubicBezTo>
                  <a:pt x="13203" y="8263"/>
                  <a:pt x="13235" y="8261"/>
                  <a:pt x="13146" y="8384"/>
                </a:cubicBezTo>
                <a:cubicBezTo>
                  <a:pt x="13118" y="8413"/>
                  <a:pt x="13105" y="8421"/>
                  <a:pt x="13072" y="84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89160" y="204840"/>
            <a:ext cx="893880" cy="216000"/>
          </a:xfrm>
          <a:custGeom>
            <a:avLst/>
            <a:gdLst/>
            <a:ahLst/>
            <a:rect l="l" t="t" r="r" b="b"/>
            <a:pathLst>
              <a:path w="2482" h="596">
                <a:moveTo>
                  <a:pt x="8632" y="595"/>
                </a:moveTo>
                <a:cubicBezTo>
                  <a:pt x="8632" y="740"/>
                  <a:pt x="8626" y="875"/>
                  <a:pt x="8607" y="1017"/>
                </a:cubicBezTo>
                <a:cubicBezTo>
                  <a:pt x="8607" y="985"/>
                  <a:pt x="8620" y="718"/>
                  <a:pt x="8657" y="918"/>
                </a:cubicBezTo>
                <a:cubicBezTo>
                  <a:pt x="8695" y="1125"/>
                  <a:pt x="8552" y="979"/>
                  <a:pt x="8582" y="843"/>
                </a:cubicBezTo>
                <a:cubicBezTo>
                  <a:pt x="8606" y="736"/>
                  <a:pt x="8732" y="571"/>
                  <a:pt x="8855" y="571"/>
                </a:cubicBezTo>
                <a:cubicBezTo>
                  <a:pt x="8995" y="570"/>
                  <a:pt x="9021" y="857"/>
                  <a:pt x="9029" y="943"/>
                </a:cubicBezTo>
                <a:cubicBezTo>
                  <a:pt x="9029" y="959"/>
                  <a:pt x="9029" y="976"/>
                  <a:pt x="9029" y="992"/>
                </a:cubicBezTo>
                <a:cubicBezTo>
                  <a:pt x="8997" y="866"/>
                  <a:pt x="8936" y="730"/>
                  <a:pt x="9103" y="670"/>
                </a:cubicBezTo>
                <a:cubicBezTo>
                  <a:pt x="9323" y="591"/>
                  <a:pt x="9389" y="763"/>
                  <a:pt x="9401" y="943"/>
                </a:cubicBezTo>
                <a:cubicBezTo>
                  <a:pt x="9401" y="1034"/>
                  <a:pt x="9401" y="1042"/>
                  <a:pt x="9401" y="1091"/>
                </a:cubicBezTo>
              </a:path>
              <a:path w="2482" h="596">
                <a:moveTo>
                  <a:pt x="9699" y="819"/>
                </a:moveTo>
                <a:cubicBezTo>
                  <a:pt x="9732" y="910"/>
                  <a:pt x="9762" y="1002"/>
                  <a:pt x="9798" y="1091"/>
                </a:cubicBezTo>
              </a:path>
              <a:path w="2482" h="596">
                <a:moveTo>
                  <a:pt x="9550" y="645"/>
                </a:moveTo>
                <a:lnTo>
                  <a:pt x="9550" y="645"/>
                </a:lnTo>
              </a:path>
              <a:path w="2482" h="596">
                <a:moveTo>
                  <a:pt x="10071" y="744"/>
                </a:moveTo>
                <a:cubicBezTo>
                  <a:pt x="10071" y="871"/>
                  <a:pt x="10055" y="991"/>
                  <a:pt x="10046" y="1116"/>
                </a:cubicBezTo>
              </a:path>
              <a:path w="2482" h="596">
                <a:moveTo>
                  <a:pt x="10145" y="843"/>
                </a:moveTo>
                <a:cubicBezTo>
                  <a:pt x="10013" y="947"/>
                  <a:pt x="9879" y="1040"/>
                  <a:pt x="9748" y="1141"/>
                </a:cubicBezTo>
              </a:path>
              <a:path w="2482" h="596">
                <a:moveTo>
                  <a:pt x="10244" y="918"/>
                </a:moveTo>
                <a:cubicBezTo>
                  <a:pt x="10336" y="924"/>
                  <a:pt x="10459" y="929"/>
                  <a:pt x="10542" y="967"/>
                </a:cubicBezTo>
                <a:cubicBezTo>
                  <a:pt x="10570" y="995"/>
                  <a:pt x="10583" y="1004"/>
                  <a:pt x="10616" y="992"/>
                </a:cubicBezTo>
                <a:cubicBezTo>
                  <a:pt x="10622" y="966"/>
                  <a:pt x="10677" y="768"/>
                  <a:pt x="10567" y="794"/>
                </a:cubicBezTo>
                <a:cubicBezTo>
                  <a:pt x="10462" y="819"/>
                  <a:pt x="10288" y="1022"/>
                  <a:pt x="10368" y="1141"/>
                </a:cubicBezTo>
                <a:cubicBezTo>
                  <a:pt x="10393" y="1149"/>
                  <a:pt x="10418" y="1158"/>
                  <a:pt x="10443" y="1166"/>
                </a:cubicBezTo>
              </a:path>
              <a:path w="2482" h="596">
                <a:moveTo>
                  <a:pt x="11063" y="819"/>
                </a:moveTo>
                <a:cubicBezTo>
                  <a:pt x="10921" y="819"/>
                  <a:pt x="10763" y="840"/>
                  <a:pt x="10691" y="992"/>
                </a:cubicBezTo>
                <a:cubicBezTo>
                  <a:pt x="10583" y="1219"/>
                  <a:pt x="10854" y="1105"/>
                  <a:pt x="10914" y="1091"/>
                </a:cubicBezTo>
              </a:path>
              <a:path w="2482" h="596">
                <a:moveTo>
                  <a:pt x="11013" y="571"/>
                </a:moveTo>
                <a:cubicBezTo>
                  <a:pt x="11037" y="739"/>
                  <a:pt x="11056" y="898"/>
                  <a:pt x="11063" y="10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70240" y="169920"/>
            <a:ext cx="231840" cy="169920"/>
          </a:xfrm>
          <a:custGeom>
            <a:avLst/>
            <a:gdLst/>
            <a:ahLst/>
            <a:rect l="l" t="t" r="r" b="b"/>
            <a:pathLst>
              <a:path w="646" h="473">
                <a:moveTo>
                  <a:pt x="11832" y="471"/>
                </a:moveTo>
                <a:cubicBezTo>
                  <a:pt x="11824" y="604"/>
                  <a:pt x="11812" y="734"/>
                  <a:pt x="11807" y="868"/>
                </a:cubicBezTo>
              </a:path>
              <a:path w="646" h="473">
                <a:moveTo>
                  <a:pt x="12105" y="521"/>
                </a:moveTo>
                <a:cubicBezTo>
                  <a:pt x="12125" y="662"/>
                  <a:pt x="12145" y="801"/>
                  <a:pt x="12154" y="943"/>
                </a:cubicBezTo>
              </a:path>
              <a:path w="646" h="473">
                <a:moveTo>
                  <a:pt x="11658" y="719"/>
                </a:moveTo>
                <a:cubicBezTo>
                  <a:pt x="11850" y="698"/>
                  <a:pt x="12035" y="695"/>
                  <a:pt x="12229" y="695"/>
                </a:cubicBezTo>
              </a:path>
              <a:path w="646" h="473">
                <a:moveTo>
                  <a:pt x="11584" y="868"/>
                </a:moveTo>
                <a:cubicBezTo>
                  <a:pt x="11769" y="868"/>
                  <a:pt x="11946" y="865"/>
                  <a:pt x="12129" y="8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99000" y="187200"/>
            <a:ext cx="1428840" cy="233640"/>
          </a:xfrm>
          <a:custGeom>
            <a:avLst/>
            <a:gdLst/>
            <a:ahLst/>
            <a:rect l="l" t="t" r="r" b="b"/>
            <a:pathLst>
              <a:path w="3970" h="646">
                <a:moveTo>
                  <a:pt x="12774" y="819"/>
                </a:moveTo>
                <a:cubicBezTo>
                  <a:pt x="12977" y="772"/>
                  <a:pt x="13185" y="801"/>
                  <a:pt x="13395" y="819"/>
                </a:cubicBezTo>
                <a:cubicBezTo>
                  <a:pt x="13403" y="819"/>
                  <a:pt x="13411" y="819"/>
                  <a:pt x="13419" y="819"/>
                </a:cubicBezTo>
              </a:path>
              <a:path w="3970" h="646">
                <a:moveTo>
                  <a:pt x="12998" y="595"/>
                </a:moveTo>
                <a:cubicBezTo>
                  <a:pt x="13144" y="625"/>
                  <a:pt x="13301" y="686"/>
                  <a:pt x="13444" y="744"/>
                </a:cubicBezTo>
                <a:cubicBezTo>
                  <a:pt x="13563" y="792"/>
                  <a:pt x="13321" y="989"/>
                  <a:pt x="13271" y="1042"/>
                </a:cubicBezTo>
              </a:path>
              <a:path w="3970" h="646">
                <a:moveTo>
                  <a:pt x="13791" y="744"/>
                </a:moveTo>
                <a:cubicBezTo>
                  <a:pt x="13816" y="843"/>
                  <a:pt x="13824" y="877"/>
                  <a:pt x="13841" y="943"/>
                </a:cubicBezTo>
              </a:path>
              <a:path w="3970" h="646">
                <a:moveTo>
                  <a:pt x="13816" y="521"/>
                </a:moveTo>
                <a:lnTo>
                  <a:pt x="13816" y="521"/>
                </a:lnTo>
              </a:path>
              <a:path w="3970" h="646">
                <a:moveTo>
                  <a:pt x="14064" y="893"/>
                </a:moveTo>
                <a:cubicBezTo>
                  <a:pt x="14064" y="941"/>
                  <a:pt x="14046" y="756"/>
                  <a:pt x="14089" y="719"/>
                </a:cubicBezTo>
                <a:cubicBezTo>
                  <a:pt x="14255" y="575"/>
                  <a:pt x="14354" y="714"/>
                  <a:pt x="14387" y="868"/>
                </a:cubicBezTo>
                <a:cubicBezTo>
                  <a:pt x="14387" y="885"/>
                  <a:pt x="14387" y="901"/>
                  <a:pt x="14387" y="918"/>
                </a:cubicBezTo>
                <a:cubicBezTo>
                  <a:pt x="14395" y="784"/>
                  <a:pt x="14394" y="627"/>
                  <a:pt x="14585" y="719"/>
                </a:cubicBezTo>
                <a:cubicBezTo>
                  <a:pt x="14676" y="763"/>
                  <a:pt x="14649" y="849"/>
                  <a:pt x="14635" y="918"/>
                </a:cubicBezTo>
              </a:path>
              <a:path w="3970" h="646">
                <a:moveTo>
                  <a:pt x="14759" y="719"/>
                </a:moveTo>
                <a:cubicBezTo>
                  <a:pt x="14775" y="870"/>
                  <a:pt x="14819" y="1014"/>
                  <a:pt x="14833" y="1166"/>
                </a:cubicBezTo>
                <a:cubicBezTo>
                  <a:pt x="14833" y="987"/>
                  <a:pt x="14788" y="757"/>
                  <a:pt x="14932" y="620"/>
                </a:cubicBezTo>
                <a:cubicBezTo>
                  <a:pt x="15016" y="541"/>
                  <a:pt x="15072" y="771"/>
                  <a:pt x="15081" y="794"/>
                </a:cubicBezTo>
                <a:cubicBezTo>
                  <a:pt x="14972" y="859"/>
                  <a:pt x="14945" y="840"/>
                  <a:pt x="14808" y="819"/>
                </a:cubicBezTo>
              </a:path>
              <a:path w="3970" h="646">
                <a:moveTo>
                  <a:pt x="15230" y="695"/>
                </a:moveTo>
                <a:cubicBezTo>
                  <a:pt x="15293" y="803"/>
                  <a:pt x="15273" y="648"/>
                  <a:pt x="15429" y="595"/>
                </a:cubicBezTo>
                <a:cubicBezTo>
                  <a:pt x="15536" y="574"/>
                  <a:pt x="15560" y="566"/>
                  <a:pt x="15627" y="571"/>
                </a:cubicBezTo>
                <a:cubicBezTo>
                  <a:pt x="15574" y="612"/>
                  <a:pt x="15375" y="758"/>
                  <a:pt x="15503" y="819"/>
                </a:cubicBezTo>
                <a:cubicBezTo>
                  <a:pt x="15626" y="878"/>
                  <a:pt x="15637" y="711"/>
                  <a:pt x="15652" y="645"/>
                </a:cubicBezTo>
              </a:path>
              <a:path w="3970" h="646">
                <a:moveTo>
                  <a:pt x="15825" y="893"/>
                </a:moveTo>
                <a:cubicBezTo>
                  <a:pt x="15825" y="943"/>
                  <a:pt x="15825" y="992"/>
                  <a:pt x="15825" y="1042"/>
                </a:cubicBezTo>
                <a:cubicBezTo>
                  <a:pt x="15825" y="861"/>
                  <a:pt x="15801" y="752"/>
                  <a:pt x="15925" y="620"/>
                </a:cubicBezTo>
                <a:cubicBezTo>
                  <a:pt x="16014" y="576"/>
                  <a:pt x="16037" y="556"/>
                  <a:pt x="16098" y="595"/>
                </a:cubicBezTo>
                <a:cubicBezTo>
                  <a:pt x="16140" y="720"/>
                  <a:pt x="16143" y="903"/>
                  <a:pt x="15925" y="843"/>
                </a:cubicBezTo>
                <a:cubicBezTo>
                  <a:pt x="15884" y="818"/>
                  <a:pt x="15842" y="794"/>
                  <a:pt x="15801" y="769"/>
                </a:cubicBezTo>
              </a:path>
              <a:path w="3970" h="646">
                <a:moveTo>
                  <a:pt x="16247" y="670"/>
                </a:moveTo>
                <a:cubicBezTo>
                  <a:pt x="16343" y="670"/>
                  <a:pt x="16359" y="664"/>
                  <a:pt x="16446" y="620"/>
                </a:cubicBezTo>
                <a:cubicBezTo>
                  <a:pt x="16426" y="542"/>
                  <a:pt x="16315" y="521"/>
                  <a:pt x="16247" y="571"/>
                </a:cubicBezTo>
                <a:cubicBezTo>
                  <a:pt x="16094" y="683"/>
                  <a:pt x="16250" y="848"/>
                  <a:pt x="16396" y="819"/>
                </a:cubicBezTo>
                <a:cubicBezTo>
                  <a:pt x="16590" y="781"/>
                  <a:pt x="16505" y="709"/>
                  <a:pt x="16594" y="595"/>
                </a:cubicBezTo>
                <a:cubicBezTo>
                  <a:pt x="16666" y="548"/>
                  <a:pt x="16687" y="533"/>
                  <a:pt x="16743" y="5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32680" y="108000"/>
            <a:ext cx="1295280" cy="214200"/>
          </a:xfrm>
          <a:custGeom>
            <a:avLst/>
            <a:gdLst/>
            <a:ahLst/>
            <a:rect l="l" t="t" r="r" b="b"/>
            <a:pathLst>
              <a:path w="3597" h="596">
                <a:moveTo>
                  <a:pt x="17959" y="446"/>
                </a:moveTo>
                <a:cubicBezTo>
                  <a:pt x="17808" y="379"/>
                  <a:pt x="17711" y="349"/>
                  <a:pt x="17587" y="496"/>
                </a:cubicBezTo>
                <a:cubicBezTo>
                  <a:pt x="17486" y="616"/>
                  <a:pt x="17576" y="711"/>
                  <a:pt x="17636" y="819"/>
                </a:cubicBezTo>
              </a:path>
              <a:path w="3597" h="596">
                <a:moveTo>
                  <a:pt x="17314" y="620"/>
                </a:moveTo>
                <a:cubicBezTo>
                  <a:pt x="17505" y="650"/>
                  <a:pt x="17705" y="616"/>
                  <a:pt x="17884" y="695"/>
                </a:cubicBezTo>
                <a:cubicBezTo>
                  <a:pt x="17934" y="719"/>
                  <a:pt x="17951" y="727"/>
                  <a:pt x="17959" y="769"/>
                </a:cubicBezTo>
                <a:cubicBezTo>
                  <a:pt x="17970" y="662"/>
                  <a:pt x="17978" y="667"/>
                  <a:pt x="18058" y="595"/>
                </a:cubicBezTo>
              </a:path>
              <a:path w="3597" h="596">
                <a:moveTo>
                  <a:pt x="18405" y="595"/>
                </a:moveTo>
                <a:cubicBezTo>
                  <a:pt x="18300" y="628"/>
                  <a:pt x="18252" y="640"/>
                  <a:pt x="18182" y="719"/>
                </a:cubicBezTo>
                <a:cubicBezTo>
                  <a:pt x="18310" y="759"/>
                  <a:pt x="18388" y="665"/>
                  <a:pt x="18405" y="695"/>
                </a:cubicBezTo>
                <a:cubicBezTo>
                  <a:pt x="18433" y="751"/>
                  <a:pt x="18449" y="770"/>
                  <a:pt x="18504" y="769"/>
                </a:cubicBezTo>
              </a:path>
              <a:path w="3597" h="596">
                <a:moveTo>
                  <a:pt x="18852" y="571"/>
                </a:moveTo>
                <a:cubicBezTo>
                  <a:pt x="18774" y="596"/>
                  <a:pt x="18746" y="606"/>
                  <a:pt x="18703" y="645"/>
                </a:cubicBezTo>
                <a:cubicBezTo>
                  <a:pt x="18762" y="807"/>
                  <a:pt x="18785" y="752"/>
                  <a:pt x="18976" y="744"/>
                </a:cubicBezTo>
              </a:path>
              <a:path w="3597" h="596">
                <a:moveTo>
                  <a:pt x="19174" y="372"/>
                </a:moveTo>
                <a:cubicBezTo>
                  <a:pt x="19174" y="499"/>
                  <a:pt x="19194" y="618"/>
                  <a:pt x="19199" y="744"/>
                </a:cubicBezTo>
                <a:cubicBezTo>
                  <a:pt x="19199" y="761"/>
                  <a:pt x="19199" y="777"/>
                  <a:pt x="19199" y="794"/>
                </a:cubicBezTo>
              </a:path>
              <a:path w="3597" h="596">
                <a:moveTo>
                  <a:pt x="18976" y="496"/>
                </a:moveTo>
                <a:cubicBezTo>
                  <a:pt x="19125" y="496"/>
                  <a:pt x="19299" y="467"/>
                  <a:pt x="19422" y="571"/>
                </a:cubicBezTo>
                <a:cubicBezTo>
                  <a:pt x="19447" y="620"/>
                  <a:pt x="19456" y="637"/>
                  <a:pt x="19472" y="670"/>
                </a:cubicBezTo>
              </a:path>
              <a:path w="3597" h="596">
                <a:moveTo>
                  <a:pt x="19496" y="422"/>
                </a:moveTo>
                <a:lnTo>
                  <a:pt x="19496" y="422"/>
                </a:lnTo>
              </a:path>
              <a:path w="3597" h="596">
                <a:moveTo>
                  <a:pt x="19819" y="620"/>
                </a:moveTo>
                <a:cubicBezTo>
                  <a:pt x="19725" y="629"/>
                  <a:pt x="19678" y="650"/>
                  <a:pt x="19596" y="695"/>
                </a:cubicBezTo>
                <a:cubicBezTo>
                  <a:pt x="19630" y="742"/>
                  <a:pt x="19870" y="842"/>
                  <a:pt x="19918" y="695"/>
                </a:cubicBezTo>
                <a:cubicBezTo>
                  <a:pt x="19895" y="603"/>
                  <a:pt x="19895" y="572"/>
                  <a:pt x="19819" y="571"/>
                </a:cubicBezTo>
              </a:path>
              <a:path w="3597" h="596">
                <a:moveTo>
                  <a:pt x="20017" y="744"/>
                </a:moveTo>
                <a:cubicBezTo>
                  <a:pt x="20072" y="651"/>
                  <a:pt x="20188" y="459"/>
                  <a:pt x="20340" y="571"/>
                </a:cubicBezTo>
                <a:cubicBezTo>
                  <a:pt x="20434" y="640"/>
                  <a:pt x="20414" y="795"/>
                  <a:pt x="20414" y="893"/>
                </a:cubicBezTo>
              </a:path>
              <a:path w="3597" h="596">
                <a:moveTo>
                  <a:pt x="20836" y="620"/>
                </a:moveTo>
                <a:lnTo>
                  <a:pt x="20836" y="620"/>
                </a:lnTo>
              </a:path>
              <a:path w="3597" h="596">
                <a:moveTo>
                  <a:pt x="20910" y="298"/>
                </a:moveTo>
                <a:cubicBezTo>
                  <a:pt x="20894" y="314"/>
                  <a:pt x="20877" y="331"/>
                  <a:pt x="20861" y="3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5040" y="731880"/>
            <a:ext cx="644760" cy="206280"/>
          </a:xfrm>
          <a:custGeom>
            <a:avLst/>
            <a:gdLst/>
            <a:ahLst/>
            <a:rect l="l" t="t" r="r" b="b"/>
            <a:pathLst>
              <a:path w="1787" h="571">
                <a:moveTo>
                  <a:pt x="7590" y="2208"/>
                </a:moveTo>
                <a:cubicBezTo>
                  <a:pt x="7542" y="2305"/>
                  <a:pt x="7524" y="2370"/>
                  <a:pt x="7516" y="2480"/>
                </a:cubicBezTo>
                <a:cubicBezTo>
                  <a:pt x="7732" y="2426"/>
                  <a:pt x="7576" y="2465"/>
                  <a:pt x="7714" y="2530"/>
                </a:cubicBezTo>
                <a:cubicBezTo>
                  <a:pt x="7850" y="2594"/>
                  <a:pt x="7985" y="2399"/>
                  <a:pt x="7913" y="2282"/>
                </a:cubicBezTo>
                <a:cubicBezTo>
                  <a:pt x="7836" y="2230"/>
                  <a:pt x="7808" y="2214"/>
                  <a:pt x="7739" y="2232"/>
                </a:cubicBezTo>
              </a:path>
              <a:path w="1787" h="571">
                <a:moveTo>
                  <a:pt x="8062" y="2108"/>
                </a:moveTo>
                <a:cubicBezTo>
                  <a:pt x="8067" y="2258"/>
                  <a:pt x="8078" y="2405"/>
                  <a:pt x="8086" y="2555"/>
                </a:cubicBezTo>
                <a:cubicBezTo>
                  <a:pt x="8056" y="2419"/>
                  <a:pt x="8036" y="2335"/>
                  <a:pt x="8186" y="2282"/>
                </a:cubicBezTo>
                <a:cubicBezTo>
                  <a:pt x="8334" y="2229"/>
                  <a:pt x="8451" y="2320"/>
                  <a:pt x="8434" y="2480"/>
                </a:cubicBezTo>
                <a:cubicBezTo>
                  <a:pt x="8426" y="2505"/>
                  <a:pt x="8417" y="2530"/>
                  <a:pt x="8409" y="2555"/>
                </a:cubicBezTo>
              </a:path>
              <a:path w="1787" h="571">
                <a:moveTo>
                  <a:pt x="8682" y="2332"/>
                </a:moveTo>
                <a:cubicBezTo>
                  <a:pt x="8535" y="2364"/>
                  <a:pt x="8509" y="2445"/>
                  <a:pt x="8458" y="2580"/>
                </a:cubicBezTo>
                <a:cubicBezTo>
                  <a:pt x="8563" y="2589"/>
                  <a:pt x="8885" y="2632"/>
                  <a:pt x="8756" y="2406"/>
                </a:cubicBezTo>
                <a:cubicBezTo>
                  <a:pt x="8731" y="2381"/>
                  <a:pt x="8707" y="2357"/>
                  <a:pt x="8682" y="2332"/>
                </a:cubicBezTo>
              </a:path>
              <a:path w="1787" h="571">
                <a:moveTo>
                  <a:pt x="8830" y="2034"/>
                </a:moveTo>
                <a:cubicBezTo>
                  <a:pt x="8879" y="2193"/>
                  <a:pt x="8889" y="2364"/>
                  <a:pt x="8905" y="2530"/>
                </a:cubicBezTo>
                <a:cubicBezTo>
                  <a:pt x="8905" y="2547"/>
                  <a:pt x="8905" y="2563"/>
                  <a:pt x="8905" y="2580"/>
                </a:cubicBezTo>
              </a:path>
              <a:path w="1787" h="571">
                <a:moveTo>
                  <a:pt x="9054" y="2431"/>
                </a:moveTo>
                <a:cubicBezTo>
                  <a:pt x="9227" y="2402"/>
                  <a:pt x="9209" y="2442"/>
                  <a:pt x="9277" y="2307"/>
                </a:cubicBezTo>
                <a:cubicBezTo>
                  <a:pt x="9171" y="2215"/>
                  <a:pt x="9042" y="2286"/>
                  <a:pt x="8979" y="2431"/>
                </a:cubicBezTo>
                <a:cubicBezTo>
                  <a:pt x="8894" y="2626"/>
                  <a:pt x="9219" y="2601"/>
                  <a:pt x="9302" y="26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71920" y="714240"/>
            <a:ext cx="241200" cy="169920"/>
          </a:xfrm>
          <a:custGeom>
            <a:avLst/>
            <a:gdLst/>
            <a:ahLst/>
            <a:rect l="l" t="t" r="r" b="b"/>
            <a:pathLst>
              <a:path w="671" h="473">
                <a:moveTo>
                  <a:pt x="10046" y="2108"/>
                </a:moveTo>
                <a:cubicBezTo>
                  <a:pt x="10063" y="2226"/>
                  <a:pt x="10073" y="2341"/>
                  <a:pt x="10096" y="2456"/>
                </a:cubicBezTo>
              </a:path>
              <a:path w="671" h="473">
                <a:moveTo>
                  <a:pt x="10368" y="1984"/>
                </a:moveTo>
                <a:cubicBezTo>
                  <a:pt x="10426" y="2133"/>
                  <a:pt x="10457" y="2271"/>
                  <a:pt x="10468" y="2431"/>
                </a:cubicBezTo>
              </a:path>
              <a:path w="671" h="473">
                <a:moveTo>
                  <a:pt x="9922" y="2232"/>
                </a:moveTo>
                <a:cubicBezTo>
                  <a:pt x="10146" y="2232"/>
                  <a:pt x="10372" y="2216"/>
                  <a:pt x="10592" y="2257"/>
                </a:cubicBezTo>
              </a:path>
              <a:path w="671" h="473">
                <a:moveTo>
                  <a:pt x="9922" y="2406"/>
                </a:moveTo>
                <a:cubicBezTo>
                  <a:pt x="10101" y="2425"/>
                  <a:pt x="10283" y="2406"/>
                  <a:pt x="10468" y="2406"/>
                </a:cubicBezTo>
                <a:cubicBezTo>
                  <a:pt x="10501" y="2406"/>
                  <a:pt x="10517" y="2406"/>
                  <a:pt x="10542" y="24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10040" y="696960"/>
            <a:ext cx="1892160" cy="268200"/>
          </a:xfrm>
          <a:custGeom>
            <a:avLst/>
            <a:gdLst/>
            <a:ahLst/>
            <a:rect l="l" t="t" r="r" b="b"/>
            <a:pathLst>
              <a:path w="5260" h="745">
                <a:moveTo>
                  <a:pt x="11162" y="2034"/>
                </a:moveTo>
                <a:cubicBezTo>
                  <a:pt x="11233" y="2176"/>
                  <a:pt x="11319" y="2299"/>
                  <a:pt x="11435" y="2406"/>
                </a:cubicBezTo>
              </a:path>
              <a:path w="5260" h="745">
                <a:moveTo>
                  <a:pt x="11559" y="1935"/>
                </a:moveTo>
                <a:cubicBezTo>
                  <a:pt x="11466" y="2099"/>
                  <a:pt x="11359" y="2251"/>
                  <a:pt x="11261" y="2406"/>
                </a:cubicBezTo>
                <a:cubicBezTo>
                  <a:pt x="11233" y="2450"/>
                  <a:pt x="11180" y="2504"/>
                  <a:pt x="11137" y="2555"/>
                </a:cubicBezTo>
              </a:path>
              <a:path w="5260" h="745">
                <a:moveTo>
                  <a:pt x="11361" y="2282"/>
                </a:moveTo>
                <a:cubicBezTo>
                  <a:pt x="11397" y="2345"/>
                  <a:pt x="11468" y="2434"/>
                  <a:pt x="11485" y="2505"/>
                </a:cubicBezTo>
                <a:cubicBezTo>
                  <a:pt x="11499" y="2566"/>
                  <a:pt x="11500" y="2570"/>
                  <a:pt x="11534" y="2629"/>
                </a:cubicBezTo>
              </a:path>
              <a:path w="5260" h="745">
                <a:moveTo>
                  <a:pt x="12254" y="2332"/>
                </a:moveTo>
                <a:cubicBezTo>
                  <a:pt x="12066" y="2290"/>
                  <a:pt x="11968" y="2312"/>
                  <a:pt x="11857" y="2480"/>
                </a:cubicBezTo>
                <a:cubicBezTo>
                  <a:pt x="12050" y="2537"/>
                  <a:pt x="12041" y="2512"/>
                  <a:pt x="12229" y="2406"/>
                </a:cubicBezTo>
              </a:path>
              <a:path w="5260" h="745">
                <a:moveTo>
                  <a:pt x="12303" y="1984"/>
                </a:moveTo>
                <a:cubicBezTo>
                  <a:pt x="12342" y="2170"/>
                  <a:pt x="12359" y="2319"/>
                  <a:pt x="12328" y="2505"/>
                </a:cubicBezTo>
              </a:path>
              <a:path w="5260" h="745">
                <a:moveTo>
                  <a:pt x="12502" y="2381"/>
                </a:moveTo>
                <a:cubicBezTo>
                  <a:pt x="12582" y="2341"/>
                  <a:pt x="12628" y="2349"/>
                  <a:pt x="12650" y="2282"/>
                </a:cubicBezTo>
                <a:cubicBezTo>
                  <a:pt x="12552" y="2207"/>
                  <a:pt x="12488" y="2260"/>
                  <a:pt x="12427" y="2381"/>
                </a:cubicBezTo>
                <a:cubicBezTo>
                  <a:pt x="12338" y="2558"/>
                  <a:pt x="12520" y="2536"/>
                  <a:pt x="12626" y="2530"/>
                </a:cubicBezTo>
              </a:path>
              <a:path w="5260" h="745">
                <a:moveTo>
                  <a:pt x="12849" y="2282"/>
                </a:moveTo>
                <a:cubicBezTo>
                  <a:pt x="12849" y="2365"/>
                  <a:pt x="12849" y="2398"/>
                  <a:pt x="12849" y="2456"/>
                </a:cubicBezTo>
                <a:cubicBezTo>
                  <a:pt x="12849" y="2585"/>
                  <a:pt x="12855" y="2309"/>
                  <a:pt x="12898" y="2282"/>
                </a:cubicBezTo>
                <a:cubicBezTo>
                  <a:pt x="13042" y="2192"/>
                  <a:pt x="13102" y="2333"/>
                  <a:pt x="13122" y="2456"/>
                </a:cubicBezTo>
                <a:cubicBezTo>
                  <a:pt x="13122" y="2481"/>
                  <a:pt x="13122" y="2505"/>
                  <a:pt x="13122" y="2530"/>
                </a:cubicBezTo>
              </a:path>
              <a:path w="5260" h="745">
                <a:moveTo>
                  <a:pt x="13419" y="2232"/>
                </a:moveTo>
                <a:cubicBezTo>
                  <a:pt x="13284" y="2203"/>
                  <a:pt x="13267" y="2253"/>
                  <a:pt x="13246" y="2381"/>
                </a:cubicBezTo>
                <a:cubicBezTo>
                  <a:pt x="13331" y="2402"/>
                  <a:pt x="13533" y="2439"/>
                  <a:pt x="13494" y="2257"/>
                </a:cubicBezTo>
                <a:cubicBezTo>
                  <a:pt x="13486" y="2249"/>
                  <a:pt x="13477" y="2240"/>
                  <a:pt x="13469" y="2232"/>
                </a:cubicBezTo>
              </a:path>
              <a:path w="5260" h="745">
                <a:moveTo>
                  <a:pt x="13643" y="2381"/>
                </a:moveTo>
                <a:cubicBezTo>
                  <a:pt x="13643" y="2414"/>
                  <a:pt x="13643" y="2447"/>
                  <a:pt x="13643" y="2480"/>
                </a:cubicBezTo>
                <a:cubicBezTo>
                  <a:pt x="13628" y="2405"/>
                  <a:pt x="13713" y="2158"/>
                  <a:pt x="13816" y="2307"/>
                </a:cubicBezTo>
                <a:cubicBezTo>
                  <a:pt x="13839" y="2422"/>
                  <a:pt x="13848" y="2454"/>
                  <a:pt x="13841" y="2530"/>
                </a:cubicBezTo>
                <a:cubicBezTo>
                  <a:pt x="13850" y="2392"/>
                  <a:pt x="13830" y="2397"/>
                  <a:pt x="13940" y="2332"/>
                </a:cubicBezTo>
                <a:cubicBezTo>
                  <a:pt x="14048" y="2371"/>
                  <a:pt x="14086" y="2430"/>
                  <a:pt x="14114" y="2555"/>
                </a:cubicBezTo>
              </a:path>
              <a:path w="5260" h="745">
                <a:moveTo>
                  <a:pt x="14288" y="2431"/>
                </a:moveTo>
                <a:cubicBezTo>
                  <a:pt x="14288" y="2516"/>
                  <a:pt x="14294" y="2536"/>
                  <a:pt x="14263" y="2580"/>
                </a:cubicBezTo>
              </a:path>
              <a:path w="5260" h="745">
                <a:moveTo>
                  <a:pt x="14263" y="2232"/>
                </a:moveTo>
                <a:lnTo>
                  <a:pt x="14263" y="2232"/>
                </a:lnTo>
              </a:path>
              <a:path w="5260" h="745">
                <a:moveTo>
                  <a:pt x="14436" y="2530"/>
                </a:moveTo>
                <a:cubicBezTo>
                  <a:pt x="14444" y="2555"/>
                  <a:pt x="14453" y="2579"/>
                  <a:pt x="14461" y="2604"/>
                </a:cubicBezTo>
                <a:cubicBezTo>
                  <a:pt x="14484" y="2503"/>
                  <a:pt x="14496" y="2322"/>
                  <a:pt x="14660" y="2356"/>
                </a:cubicBezTo>
                <a:cubicBezTo>
                  <a:pt x="14810" y="2387"/>
                  <a:pt x="14759" y="2556"/>
                  <a:pt x="14709" y="2629"/>
                </a:cubicBezTo>
              </a:path>
              <a:path w="5260" h="745">
                <a:moveTo>
                  <a:pt x="15056" y="2480"/>
                </a:moveTo>
                <a:cubicBezTo>
                  <a:pt x="15038" y="2333"/>
                  <a:pt x="14943" y="2331"/>
                  <a:pt x="14833" y="2431"/>
                </a:cubicBezTo>
                <a:cubicBezTo>
                  <a:pt x="14769" y="2517"/>
                  <a:pt x="14744" y="2533"/>
                  <a:pt x="14759" y="2604"/>
                </a:cubicBezTo>
                <a:cubicBezTo>
                  <a:pt x="14979" y="2690"/>
                  <a:pt x="14895" y="2553"/>
                  <a:pt x="15007" y="2480"/>
                </a:cubicBezTo>
                <a:cubicBezTo>
                  <a:pt x="15124" y="2404"/>
                  <a:pt x="15168" y="2658"/>
                  <a:pt x="15304" y="2629"/>
                </a:cubicBezTo>
              </a:path>
              <a:path w="5260" h="745">
                <a:moveTo>
                  <a:pt x="15379" y="2133"/>
                </a:moveTo>
                <a:cubicBezTo>
                  <a:pt x="15379" y="2274"/>
                  <a:pt x="15399" y="2414"/>
                  <a:pt x="15404" y="2555"/>
                </a:cubicBezTo>
                <a:cubicBezTo>
                  <a:pt x="15404" y="2563"/>
                  <a:pt x="15404" y="2572"/>
                  <a:pt x="15404" y="2580"/>
                </a:cubicBezTo>
              </a:path>
              <a:path w="5260" h="745">
                <a:moveTo>
                  <a:pt x="15180" y="2232"/>
                </a:moveTo>
                <a:cubicBezTo>
                  <a:pt x="15356" y="2306"/>
                  <a:pt x="15487" y="2332"/>
                  <a:pt x="15677" y="2332"/>
                </a:cubicBezTo>
                <a:cubicBezTo>
                  <a:pt x="15612" y="2450"/>
                  <a:pt x="15547" y="2605"/>
                  <a:pt x="15776" y="2555"/>
                </a:cubicBezTo>
                <a:cubicBezTo>
                  <a:pt x="15869" y="2508"/>
                  <a:pt x="15898" y="2498"/>
                  <a:pt x="15925" y="2431"/>
                </a:cubicBezTo>
                <a:cubicBezTo>
                  <a:pt x="15876" y="2334"/>
                  <a:pt x="15827" y="2313"/>
                  <a:pt x="15726" y="2257"/>
                </a:cubicBezTo>
              </a:path>
              <a:path w="5260" h="745">
                <a:moveTo>
                  <a:pt x="16173" y="2505"/>
                </a:moveTo>
                <a:cubicBezTo>
                  <a:pt x="16173" y="2522"/>
                  <a:pt x="16173" y="2538"/>
                  <a:pt x="16173" y="2555"/>
                </a:cubicBezTo>
                <a:cubicBezTo>
                  <a:pt x="16173" y="2420"/>
                  <a:pt x="16146" y="2297"/>
                  <a:pt x="16297" y="2232"/>
                </a:cubicBezTo>
                <a:cubicBezTo>
                  <a:pt x="16358" y="2232"/>
                  <a:pt x="16374" y="2223"/>
                  <a:pt x="16396" y="22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54840" y="704880"/>
            <a:ext cx="1482480" cy="250920"/>
          </a:xfrm>
          <a:custGeom>
            <a:avLst/>
            <a:gdLst/>
            <a:ahLst/>
            <a:rect l="l" t="t" r="r" b="b"/>
            <a:pathLst>
              <a:path w="4118" h="695">
                <a:moveTo>
                  <a:pt x="17066" y="2009"/>
                </a:moveTo>
                <a:cubicBezTo>
                  <a:pt x="17085" y="2153"/>
                  <a:pt x="17049" y="2284"/>
                  <a:pt x="17041" y="2431"/>
                </a:cubicBezTo>
                <a:cubicBezTo>
                  <a:pt x="17041" y="2439"/>
                  <a:pt x="17041" y="2448"/>
                  <a:pt x="17041" y="2456"/>
                </a:cubicBezTo>
              </a:path>
              <a:path w="4118" h="695">
                <a:moveTo>
                  <a:pt x="16818" y="2208"/>
                </a:moveTo>
                <a:cubicBezTo>
                  <a:pt x="16958" y="2239"/>
                  <a:pt x="17106" y="2245"/>
                  <a:pt x="17239" y="2282"/>
                </a:cubicBezTo>
              </a:path>
              <a:path w="4118" h="695">
                <a:moveTo>
                  <a:pt x="17487" y="2183"/>
                </a:moveTo>
                <a:cubicBezTo>
                  <a:pt x="17487" y="2212"/>
                  <a:pt x="17487" y="2662"/>
                  <a:pt x="17487" y="2456"/>
                </a:cubicBezTo>
                <a:cubicBezTo>
                  <a:pt x="17487" y="2316"/>
                  <a:pt x="17526" y="2163"/>
                  <a:pt x="17686" y="2133"/>
                </a:cubicBezTo>
                <a:cubicBezTo>
                  <a:pt x="17840" y="2104"/>
                  <a:pt x="17862" y="2211"/>
                  <a:pt x="17884" y="2356"/>
                </a:cubicBezTo>
                <a:cubicBezTo>
                  <a:pt x="17884" y="2455"/>
                  <a:pt x="17884" y="2472"/>
                  <a:pt x="17884" y="2530"/>
                </a:cubicBezTo>
              </a:path>
              <a:path w="4118" h="695">
                <a:moveTo>
                  <a:pt x="18058" y="2208"/>
                </a:moveTo>
                <a:cubicBezTo>
                  <a:pt x="18049" y="2325"/>
                  <a:pt x="18046" y="2414"/>
                  <a:pt x="18058" y="2530"/>
                </a:cubicBezTo>
                <a:cubicBezTo>
                  <a:pt x="18191" y="2530"/>
                  <a:pt x="18250" y="2529"/>
                  <a:pt x="18281" y="2381"/>
                </a:cubicBezTo>
                <a:cubicBezTo>
                  <a:pt x="18314" y="2223"/>
                  <a:pt x="18271" y="2476"/>
                  <a:pt x="18306" y="2555"/>
                </a:cubicBezTo>
                <a:cubicBezTo>
                  <a:pt x="18340" y="2589"/>
                  <a:pt x="18361" y="2597"/>
                  <a:pt x="18405" y="2580"/>
                </a:cubicBezTo>
              </a:path>
              <a:path w="4118" h="695">
                <a:moveTo>
                  <a:pt x="18479" y="2332"/>
                </a:moveTo>
                <a:cubicBezTo>
                  <a:pt x="18479" y="2415"/>
                  <a:pt x="18479" y="2497"/>
                  <a:pt x="18479" y="2580"/>
                </a:cubicBezTo>
                <a:cubicBezTo>
                  <a:pt x="18516" y="2417"/>
                  <a:pt x="18559" y="2200"/>
                  <a:pt x="18703" y="2431"/>
                </a:cubicBezTo>
                <a:cubicBezTo>
                  <a:pt x="18743" y="2512"/>
                  <a:pt x="18759" y="2525"/>
                  <a:pt x="18752" y="2580"/>
                </a:cubicBezTo>
                <a:cubicBezTo>
                  <a:pt x="18758" y="2500"/>
                  <a:pt x="18762" y="2286"/>
                  <a:pt x="18901" y="2307"/>
                </a:cubicBezTo>
                <a:cubicBezTo>
                  <a:pt x="19052" y="2329"/>
                  <a:pt x="19003" y="2562"/>
                  <a:pt x="18976" y="2654"/>
                </a:cubicBezTo>
              </a:path>
              <a:path w="4118" h="695">
                <a:moveTo>
                  <a:pt x="19124" y="2480"/>
                </a:moveTo>
                <a:cubicBezTo>
                  <a:pt x="19194" y="2450"/>
                  <a:pt x="19239" y="2427"/>
                  <a:pt x="19298" y="2381"/>
                </a:cubicBezTo>
                <a:cubicBezTo>
                  <a:pt x="19237" y="2279"/>
                  <a:pt x="19106" y="2225"/>
                  <a:pt x="19025" y="2381"/>
                </a:cubicBezTo>
                <a:cubicBezTo>
                  <a:pt x="18914" y="2596"/>
                  <a:pt x="19140" y="2629"/>
                  <a:pt x="19273" y="2629"/>
                </a:cubicBezTo>
              </a:path>
              <a:path w="4118" h="695">
                <a:moveTo>
                  <a:pt x="19397" y="2431"/>
                </a:moveTo>
                <a:cubicBezTo>
                  <a:pt x="19375" y="2496"/>
                  <a:pt x="19367" y="2511"/>
                  <a:pt x="19372" y="2555"/>
                </a:cubicBezTo>
                <a:cubicBezTo>
                  <a:pt x="19372" y="2364"/>
                  <a:pt x="19367" y="2317"/>
                  <a:pt x="19521" y="2208"/>
                </a:cubicBezTo>
              </a:path>
              <a:path w="4118" h="695">
                <a:moveTo>
                  <a:pt x="19869" y="2431"/>
                </a:moveTo>
                <a:cubicBezTo>
                  <a:pt x="19669" y="2353"/>
                  <a:pt x="19577" y="2381"/>
                  <a:pt x="19472" y="2580"/>
                </a:cubicBezTo>
                <a:cubicBezTo>
                  <a:pt x="19613" y="2620"/>
                  <a:pt x="19791" y="2656"/>
                  <a:pt x="19844" y="2456"/>
                </a:cubicBezTo>
                <a:cubicBezTo>
                  <a:pt x="19861" y="2392"/>
                  <a:pt x="19758" y="2473"/>
                  <a:pt x="19943" y="2604"/>
                </a:cubicBezTo>
              </a:path>
              <a:path w="4118" h="695">
                <a:moveTo>
                  <a:pt x="20166" y="1960"/>
                </a:moveTo>
                <a:cubicBezTo>
                  <a:pt x="20166" y="2159"/>
                  <a:pt x="20178" y="2280"/>
                  <a:pt x="20265" y="2456"/>
                </a:cubicBezTo>
              </a:path>
              <a:path w="4118" h="695">
                <a:moveTo>
                  <a:pt x="19993" y="2208"/>
                </a:moveTo>
                <a:cubicBezTo>
                  <a:pt x="20140" y="2230"/>
                  <a:pt x="20269" y="2247"/>
                  <a:pt x="20414" y="2282"/>
                </a:cubicBezTo>
              </a:path>
              <a:path w="4118" h="695">
                <a:moveTo>
                  <a:pt x="20489" y="2307"/>
                </a:moveTo>
                <a:cubicBezTo>
                  <a:pt x="20356" y="2356"/>
                  <a:pt x="20311" y="2411"/>
                  <a:pt x="20241" y="2530"/>
                </a:cubicBezTo>
                <a:cubicBezTo>
                  <a:pt x="20347" y="2559"/>
                  <a:pt x="20518" y="2598"/>
                  <a:pt x="20538" y="2431"/>
                </a:cubicBezTo>
                <a:cubicBezTo>
                  <a:pt x="20514" y="2336"/>
                  <a:pt x="20508" y="2307"/>
                  <a:pt x="20464" y="2257"/>
                </a:cubicBezTo>
              </a:path>
              <a:path w="4118" h="695">
                <a:moveTo>
                  <a:pt x="20613" y="2530"/>
                </a:moveTo>
                <a:cubicBezTo>
                  <a:pt x="20613" y="2547"/>
                  <a:pt x="20613" y="2563"/>
                  <a:pt x="20613" y="2580"/>
                </a:cubicBezTo>
                <a:cubicBezTo>
                  <a:pt x="20660" y="2457"/>
                  <a:pt x="20701" y="2312"/>
                  <a:pt x="20861" y="2307"/>
                </a:cubicBezTo>
                <a:cubicBezTo>
                  <a:pt x="20886" y="2315"/>
                  <a:pt x="20910" y="2324"/>
                  <a:pt x="20935" y="23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05160" y="1285920"/>
            <a:ext cx="1822680" cy="223920"/>
          </a:xfrm>
          <a:custGeom>
            <a:avLst/>
            <a:gdLst/>
            <a:ahLst/>
            <a:rect l="l" t="t" r="r" b="b"/>
            <a:pathLst>
              <a:path w="5061" h="621">
                <a:moveTo>
                  <a:pt x="12105" y="4068"/>
                </a:moveTo>
                <a:cubicBezTo>
                  <a:pt x="12158" y="3987"/>
                  <a:pt x="12195" y="3893"/>
                  <a:pt x="12055" y="3870"/>
                </a:cubicBezTo>
                <a:cubicBezTo>
                  <a:pt x="11886" y="3842"/>
                  <a:pt x="11779" y="3980"/>
                  <a:pt x="11683" y="4093"/>
                </a:cubicBezTo>
                <a:cubicBezTo>
                  <a:pt x="11847" y="4128"/>
                  <a:pt x="11962" y="4130"/>
                  <a:pt x="12129" y="4118"/>
                </a:cubicBezTo>
              </a:path>
              <a:path w="5061" h="621">
                <a:moveTo>
                  <a:pt x="12229" y="3572"/>
                </a:moveTo>
                <a:cubicBezTo>
                  <a:pt x="12257" y="3738"/>
                  <a:pt x="12254" y="3899"/>
                  <a:pt x="12254" y="4068"/>
                </a:cubicBezTo>
              </a:path>
              <a:path w="5061" h="621">
                <a:moveTo>
                  <a:pt x="12452" y="3969"/>
                </a:moveTo>
                <a:cubicBezTo>
                  <a:pt x="12536" y="3969"/>
                  <a:pt x="12570" y="3967"/>
                  <a:pt x="12626" y="3944"/>
                </a:cubicBezTo>
                <a:cubicBezTo>
                  <a:pt x="12591" y="3856"/>
                  <a:pt x="12528" y="3757"/>
                  <a:pt x="12427" y="3870"/>
                </a:cubicBezTo>
                <a:cubicBezTo>
                  <a:pt x="12361" y="3981"/>
                  <a:pt x="12336" y="4007"/>
                  <a:pt x="12353" y="4093"/>
                </a:cubicBezTo>
                <a:cubicBezTo>
                  <a:pt x="12474" y="4134"/>
                  <a:pt x="12571" y="4137"/>
                  <a:pt x="12700" y="4142"/>
                </a:cubicBezTo>
              </a:path>
              <a:path w="5061" h="621">
                <a:moveTo>
                  <a:pt x="12849" y="3894"/>
                </a:moveTo>
                <a:cubicBezTo>
                  <a:pt x="12849" y="3994"/>
                  <a:pt x="12849" y="4027"/>
                  <a:pt x="12849" y="4093"/>
                </a:cubicBezTo>
                <a:cubicBezTo>
                  <a:pt x="12835" y="4036"/>
                  <a:pt x="12828" y="3828"/>
                  <a:pt x="12948" y="3820"/>
                </a:cubicBezTo>
                <a:cubicBezTo>
                  <a:pt x="13132" y="3807"/>
                  <a:pt x="13140" y="4024"/>
                  <a:pt x="13122" y="4142"/>
                </a:cubicBezTo>
              </a:path>
              <a:path w="5061" h="621">
                <a:moveTo>
                  <a:pt x="13395" y="3870"/>
                </a:moveTo>
                <a:cubicBezTo>
                  <a:pt x="13263" y="3927"/>
                  <a:pt x="13238" y="3932"/>
                  <a:pt x="13196" y="4068"/>
                </a:cubicBezTo>
                <a:cubicBezTo>
                  <a:pt x="13278" y="4134"/>
                  <a:pt x="13492" y="4223"/>
                  <a:pt x="13519" y="4018"/>
                </a:cubicBezTo>
                <a:cubicBezTo>
                  <a:pt x="13495" y="3901"/>
                  <a:pt x="13492" y="3865"/>
                  <a:pt x="13419" y="3820"/>
                </a:cubicBezTo>
              </a:path>
              <a:path w="5061" h="621">
                <a:moveTo>
                  <a:pt x="13643" y="4043"/>
                </a:moveTo>
                <a:cubicBezTo>
                  <a:pt x="13643" y="4068"/>
                  <a:pt x="13643" y="4093"/>
                  <a:pt x="13643" y="4118"/>
                </a:cubicBezTo>
                <a:cubicBezTo>
                  <a:pt x="13656" y="4067"/>
                  <a:pt x="13652" y="3849"/>
                  <a:pt x="13742" y="3845"/>
                </a:cubicBezTo>
                <a:cubicBezTo>
                  <a:pt x="13851" y="3840"/>
                  <a:pt x="13892" y="3993"/>
                  <a:pt x="13940" y="4068"/>
                </a:cubicBezTo>
                <a:cubicBezTo>
                  <a:pt x="13916" y="3973"/>
                  <a:pt x="13885" y="3852"/>
                  <a:pt x="14039" y="3870"/>
                </a:cubicBezTo>
                <a:cubicBezTo>
                  <a:pt x="14167" y="3885"/>
                  <a:pt x="14183" y="4013"/>
                  <a:pt x="14188" y="4118"/>
                </a:cubicBezTo>
                <a:cubicBezTo>
                  <a:pt x="14188" y="4134"/>
                  <a:pt x="14188" y="4151"/>
                  <a:pt x="14188" y="4167"/>
                </a:cubicBezTo>
              </a:path>
              <a:path w="5061" h="621">
                <a:moveTo>
                  <a:pt x="14536" y="3870"/>
                </a:moveTo>
                <a:cubicBezTo>
                  <a:pt x="14536" y="3953"/>
                  <a:pt x="14536" y="4035"/>
                  <a:pt x="14536" y="4118"/>
                </a:cubicBezTo>
              </a:path>
              <a:path w="5061" h="621">
                <a:moveTo>
                  <a:pt x="14536" y="3721"/>
                </a:moveTo>
                <a:lnTo>
                  <a:pt x="14536" y="3721"/>
                </a:lnTo>
              </a:path>
              <a:path w="5061" h="621">
                <a:moveTo>
                  <a:pt x="14709" y="4068"/>
                </a:moveTo>
                <a:cubicBezTo>
                  <a:pt x="14734" y="4068"/>
                  <a:pt x="14737" y="3903"/>
                  <a:pt x="14808" y="3845"/>
                </a:cubicBezTo>
                <a:cubicBezTo>
                  <a:pt x="14947" y="3732"/>
                  <a:pt x="15017" y="3986"/>
                  <a:pt x="15032" y="4068"/>
                </a:cubicBezTo>
                <a:cubicBezTo>
                  <a:pt x="15032" y="4093"/>
                  <a:pt x="15032" y="4117"/>
                  <a:pt x="15032" y="4142"/>
                </a:cubicBezTo>
              </a:path>
              <a:path w="5061" h="621">
                <a:moveTo>
                  <a:pt x="15478" y="3994"/>
                </a:moveTo>
                <a:cubicBezTo>
                  <a:pt x="15478" y="3916"/>
                  <a:pt x="15494" y="3898"/>
                  <a:pt x="15453" y="3870"/>
                </a:cubicBezTo>
                <a:cubicBezTo>
                  <a:pt x="15251" y="3870"/>
                  <a:pt x="15193" y="3917"/>
                  <a:pt x="15156" y="4118"/>
                </a:cubicBezTo>
                <a:cubicBezTo>
                  <a:pt x="15337" y="4128"/>
                  <a:pt x="15381" y="4107"/>
                  <a:pt x="15478" y="3944"/>
                </a:cubicBezTo>
                <a:cubicBezTo>
                  <a:pt x="15528" y="4143"/>
                  <a:pt x="15621" y="4113"/>
                  <a:pt x="15801" y="4068"/>
                </a:cubicBezTo>
              </a:path>
              <a:path w="5061" h="621">
                <a:moveTo>
                  <a:pt x="15776" y="3572"/>
                </a:moveTo>
                <a:cubicBezTo>
                  <a:pt x="15803" y="3751"/>
                  <a:pt x="15822" y="3939"/>
                  <a:pt x="15850" y="4118"/>
                </a:cubicBezTo>
                <a:cubicBezTo>
                  <a:pt x="15858" y="4143"/>
                  <a:pt x="15867" y="4167"/>
                  <a:pt x="15875" y="4192"/>
                </a:cubicBezTo>
              </a:path>
              <a:path w="5061" h="621">
                <a:moveTo>
                  <a:pt x="15602" y="3746"/>
                </a:moveTo>
                <a:cubicBezTo>
                  <a:pt x="15782" y="3795"/>
                  <a:pt x="15938" y="3831"/>
                  <a:pt x="16123" y="3845"/>
                </a:cubicBezTo>
                <a:cubicBezTo>
                  <a:pt x="16078" y="3928"/>
                  <a:pt x="16058" y="3973"/>
                  <a:pt x="16049" y="4068"/>
                </a:cubicBezTo>
                <a:cubicBezTo>
                  <a:pt x="16148" y="4108"/>
                  <a:pt x="16307" y="4162"/>
                  <a:pt x="16321" y="3994"/>
                </a:cubicBezTo>
                <a:cubicBezTo>
                  <a:pt x="16328" y="3902"/>
                  <a:pt x="16234" y="3879"/>
                  <a:pt x="16173" y="3845"/>
                </a:cubicBezTo>
              </a:path>
              <a:path w="5061" h="621">
                <a:moveTo>
                  <a:pt x="16446" y="3969"/>
                </a:moveTo>
                <a:cubicBezTo>
                  <a:pt x="16462" y="4010"/>
                  <a:pt x="16479" y="4052"/>
                  <a:pt x="16495" y="4093"/>
                </a:cubicBezTo>
                <a:cubicBezTo>
                  <a:pt x="16495" y="4100"/>
                  <a:pt x="16574" y="3981"/>
                  <a:pt x="16619" y="3919"/>
                </a:cubicBezTo>
                <a:cubicBezTo>
                  <a:pt x="16651" y="3856"/>
                  <a:pt x="16675" y="3836"/>
                  <a:pt x="16743" y="38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9240" y="3643200"/>
            <a:ext cx="544680" cy="1295640"/>
          </a:xfrm>
          <a:custGeom>
            <a:avLst/>
            <a:gdLst/>
            <a:ahLst/>
            <a:rect l="l" t="t" r="r" b="b"/>
            <a:pathLst>
              <a:path w="1514" h="3598">
                <a:moveTo>
                  <a:pt x="21282" y="10269"/>
                </a:moveTo>
                <a:cubicBezTo>
                  <a:pt x="21314" y="10476"/>
                  <a:pt x="21350" y="10711"/>
                  <a:pt x="21406" y="10914"/>
                </a:cubicBezTo>
                <a:cubicBezTo>
                  <a:pt x="21414" y="10922"/>
                  <a:pt x="21423" y="10931"/>
                  <a:pt x="21431" y="10939"/>
                </a:cubicBezTo>
              </a:path>
              <a:path w="1514" h="3598">
                <a:moveTo>
                  <a:pt x="21630" y="10344"/>
                </a:moveTo>
                <a:cubicBezTo>
                  <a:pt x="21649" y="10502"/>
                  <a:pt x="21839" y="10383"/>
                  <a:pt x="21903" y="10542"/>
                </a:cubicBezTo>
                <a:cubicBezTo>
                  <a:pt x="22011" y="10810"/>
                  <a:pt x="21788" y="10786"/>
                  <a:pt x="21654" y="10716"/>
                </a:cubicBezTo>
              </a:path>
              <a:path w="1514" h="3598">
                <a:moveTo>
                  <a:pt x="21704" y="10244"/>
                </a:moveTo>
                <a:cubicBezTo>
                  <a:pt x="21795" y="10200"/>
                  <a:pt x="21884" y="10159"/>
                  <a:pt x="21977" y="10120"/>
                </a:cubicBezTo>
              </a:path>
              <a:path w="1514" h="3598">
                <a:moveTo>
                  <a:pt x="21109" y="11286"/>
                </a:moveTo>
                <a:cubicBezTo>
                  <a:pt x="21305" y="11240"/>
                  <a:pt x="21407" y="11245"/>
                  <a:pt x="21580" y="11361"/>
                </a:cubicBezTo>
              </a:path>
              <a:path w="1514" h="3598">
                <a:moveTo>
                  <a:pt x="21431" y="11063"/>
                </a:moveTo>
                <a:cubicBezTo>
                  <a:pt x="21362" y="11201"/>
                  <a:pt x="21321" y="11330"/>
                  <a:pt x="21307" y="11485"/>
                </a:cubicBezTo>
              </a:path>
              <a:path w="1514" h="3598">
                <a:moveTo>
                  <a:pt x="22027" y="10939"/>
                </a:moveTo>
                <a:cubicBezTo>
                  <a:pt x="21977" y="10959"/>
                  <a:pt x="21805" y="10964"/>
                  <a:pt x="21779" y="10988"/>
                </a:cubicBezTo>
                <a:cubicBezTo>
                  <a:pt x="21757" y="11032"/>
                  <a:pt x="21754" y="11044"/>
                  <a:pt x="21729" y="11063"/>
                </a:cubicBezTo>
                <a:cubicBezTo>
                  <a:pt x="21814" y="11123"/>
                  <a:pt x="21914" y="11044"/>
                  <a:pt x="22027" y="11112"/>
                </a:cubicBezTo>
                <a:cubicBezTo>
                  <a:pt x="22230" y="11234"/>
                  <a:pt x="21957" y="11376"/>
                  <a:pt x="21853" y="11410"/>
                </a:cubicBezTo>
                <a:cubicBezTo>
                  <a:pt x="21812" y="11418"/>
                  <a:pt x="21770" y="11427"/>
                  <a:pt x="21729" y="11435"/>
                </a:cubicBezTo>
              </a:path>
              <a:path w="1514" h="3598">
                <a:moveTo>
                  <a:pt x="21158" y="11757"/>
                </a:moveTo>
                <a:cubicBezTo>
                  <a:pt x="21552" y="11643"/>
                  <a:pt x="21954" y="11503"/>
                  <a:pt x="22349" y="11410"/>
                </a:cubicBezTo>
              </a:path>
              <a:path w="1514" h="3598">
                <a:moveTo>
                  <a:pt x="21506" y="11857"/>
                </a:moveTo>
                <a:cubicBezTo>
                  <a:pt x="21617" y="11851"/>
                  <a:pt x="21657" y="11850"/>
                  <a:pt x="21754" y="11807"/>
                </a:cubicBezTo>
                <a:cubicBezTo>
                  <a:pt x="21760" y="11925"/>
                  <a:pt x="21643" y="12243"/>
                  <a:pt x="21679" y="12328"/>
                </a:cubicBezTo>
                <a:cubicBezTo>
                  <a:pt x="21696" y="12328"/>
                  <a:pt x="21712" y="12328"/>
                  <a:pt x="21729" y="12328"/>
                </a:cubicBezTo>
              </a:path>
              <a:path w="1514" h="3598">
                <a:moveTo>
                  <a:pt x="22175" y="11683"/>
                </a:moveTo>
                <a:cubicBezTo>
                  <a:pt x="22038" y="11726"/>
                  <a:pt x="22023" y="11750"/>
                  <a:pt x="21952" y="11881"/>
                </a:cubicBezTo>
                <a:cubicBezTo>
                  <a:pt x="21944" y="11898"/>
                  <a:pt x="21935" y="11914"/>
                  <a:pt x="21927" y="11931"/>
                </a:cubicBezTo>
                <a:cubicBezTo>
                  <a:pt x="22032" y="11918"/>
                  <a:pt x="22086" y="11844"/>
                  <a:pt x="22200" y="11857"/>
                </a:cubicBezTo>
                <a:cubicBezTo>
                  <a:pt x="22318" y="11870"/>
                  <a:pt x="22279" y="12013"/>
                  <a:pt x="22225" y="12055"/>
                </a:cubicBezTo>
                <a:cubicBezTo>
                  <a:pt x="22145" y="12116"/>
                  <a:pt x="22097" y="12105"/>
                  <a:pt x="22002" y="12105"/>
                </a:cubicBezTo>
              </a:path>
              <a:path w="1514" h="3598">
                <a:moveTo>
                  <a:pt x="21481" y="12576"/>
                </a:moveTo>
                <a:cubicBezTo>
                  <a:pt x="21520" y="12688"/>
                  <a:pt x="21534" y="12779"/>
                  <a:pt x="21555" y="12898"/>
                </a:cubicBezTo>
              </a:path>
              <a:path w="1514" h="3598">
                <a:moveTo>
                  <a:pt x="21406" y="12824"/>
                </a:moveTo>
                <a:cubicBezTo>
                  <a:pt x="21522" y="12766"/>
                  <a:pt x="21638" y="12708"/>
                  <a:pt x="21754" y="12650"/>
                </a:cubicBezTo>
              </a:path>
              <a:path w="1514" h="3598">
                <a:moveTo>
                  <a:pt x="22126" y="12328"/>
                </a:moveTo>
                <a:cubicBezTo>
                  <a:pt x="22207" y="12287"/>
                  <a:pt x="22220" y="12270"/>
                  <a:pt x="22275" y="12278"/>
                </a:cubicBezTo>
                <a:cubicBezTo>
                  <a:pt x="22357" y="12383"/>
                  <a:pt x="22301" y="12535"/>
                  <a:pt x="22275" y="12675"/>
                </a:cubicBezTo>
              </a:path>
              <a:path w="1514" h="3598">
                <a:moveTo>
                  <a:pt x="21431" y="13246"/>
                </a:moveTo>
                <a:cubicBezTo>
                  <a:pt x="21820" y="13039"/>
                  <a:pt x="22227" y="12873"/>
                  <a:pt x="22622" y="12675"/>
                </a:cubicBezTo>
              </a:path>
              <a:path w="1514" h="3598">
                <a:moveTo>
                  <a:pt x="22076" y="13221"/>
                </a:moveTo>
                <a:cubicBezTo>
                  <a:pt x="21883" y="13231"/>
                  <a:pt x="21842" y="13257"/>
                  <a:pt x="21704" y="13395"/>
                </a:cubicBezTo>
                <a:cubicBezTo>
                  <a:pt x="21792" y="13442"/>
                  <a:pt x="22090" y="13411"/>
                  <a:pt x="22101" y="13543"/>
                </a:cubicBezTo>
                <a:cubicBezTo>
                  <a:pt x="22057" y="13653"/>
                  <a:pt x="22052" y="13686"/>
                  <a:pt x="21977" y="13717"/>
                </a:cubicBezTo>
                <a:cubicBezTo>
                  <a:pt x="21951" y="13561"/>
                  <a:pt x="22016" y="13449"/>
                  <a:pt x="22051" y="13295"/>
                </a:cubicBezTo>
              </a:path>
              <a:path w="1514" h="3598">
                <a:moveTo>
                  <a:pt x="22299" y="13171"/>
                </a:moveTo>
                <a:cubicBezTo>
                  <a:pt x="22421" y="13190"/>
                  <a:pt x="22616" y="13257"/>
                  <a:pt x="22523" y="13444"/>
                </a:cubicBezTo>
                <a:cubicBezTo>
                  <a:pt x="22406" y="13561"/>
                  <a:pt x="22374" y="13597"/>
                  <a:pt x="22275" y="13643"/>
                </a:cubicBezTo>
                <a:cubicBezTo>
                  <a:pt x="22264" y="13528"/>
                  <a:pt x="22344" y="13316"/>
                  <a:pt x="22523" y="13395"/>
                </a:cubicBezTo>
                <a:cubicBezTo>
                  <a:pt x="22539" y="13420"/>
                  <a:pt x="22556" y="13444"/>
                  <a:pt x="22572" y="134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00160" y="4464000"/>
            <a:ext cx="295200" cy="19080"/>
          </a:xfrm>
          <a:custGeom>
            <a:avLst/>
            <a:gdLst/>
            <a:ahLst/>
            <a:rect l="l" t="t" r="r" b="b"/>
            <a:pathLst>
              <a:path w="820" h="51">
                <a:moveTo>
                  <a:pt x="5556" y="12402"/>
                </a:moveTo>
                <a:cubicBezTo>
                  <a:pt x="5804" y="12428"/>
                  <a:pt x="6052" y="12434"/>
                  <a:pt x="6300" y="12452"/>
                </a:cubicBezTo>
                <a:cubicBezTo>
                  <a:pt x="6325" y="12452"/>
                  <a:pt x="6350" y="12452"/>
                  <a:pt x="6375" y="124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89080" y="4545000"/>
            <a:ext cx="27000" cy="162000"/>
          </a:xfrm>
          <a:custGeom>
            <a:avLst/>
            <a:gdLst/>
            <a:ahLst/>
            <a:rect l="l" t="t" r="r" b="b"/>
            <a:pathLst>
              <a:path w="76" h="447">
                <a:moveTo>
                  <a:pt x="5829" y="12626"/>
                </a:moveTo>
                <a:cubicBezTo>
                  <a:pt x="5900" y="12754"/>
                  <a:pt x="5883" y="12873"/>
                  <a:pt x="5829" y="13022"/>
                </a:cubicBezTo>
                <a:cubicBezTo>
                  <a:pt x="5821" y="13039"/>
                  <a:pt x="5812" y="13055"/>
                  <a:pt x="5804" y="130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43120" y="4375080"/>
            <a:ext cx="27000" cy="216000"/>
          </a:xfrm>
          <a:custGeom>
            <a:avLst/>
            <a:gdLst/>
            <a:ahLst/>
            <a:rect l="l" t="t" r="r" b="b"/>
            <a:pathLst>
              <a:path w="76" h="597">
                <a:moveTo>
                  <a:pt x="7417" y="12154"/>
                </a:moveTo>
                <a:cubicBezTo>
                  <a:pt x="7417" y="12357"/>
                  <a:pt x="7378" y="12527"/>
                  <a:pt x="7342" y="12725"/>
                </a:cubicBezTo>
                <a:cubicBezTo>
                  <a:pt x="7342" y="12733"/>
                  <a:pt x="7342" y="12742"/>
                  <a:pt x="7342" y="127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3040" y="4429080"/>
            <a:ext cx="152280" cy="169920"/>
          </a:xfrm>
          <a:custGeom>
            <a:avLst/>
            <a:gdLst/>
            <a:ahLst/>
            <a:rect l="l" t="t" r="r" b="b"/>
            <a:pathLst>
              <a:path w="423" h="472">
                <a:moveTo>
                  <a:pt x="7838" y="12303"/>
                </a:moveTo>
                <a:cubicBezTo>
                  <a:pt x="7829" y="12415"/>
                  <a:pt x="7793" y="12536"/>
                  <a:pt x="7813" y="12650"/>
                </a:cubicBezTo>
                <a:cubicBezTo>
                  <a:pt x="7837" y="12722"/>
                  <a:pt x="7843" y="12745"/>
                  <a:pt x="7888" y="12774"/>
                </a:cubicBezTo>
                <a:cubicBezTo>
                  <a:pt x="8048" y="12718"/>
                  <a:pt x="8151" y="12671"/>
                  <a:pt x="8235" y="12526"/>
                </a:cubicBezTo>
                <a:cubicBezTo>
                  <a:pt x="8101" y="12459"/>
                  <a:pt x="7988" y="12471"/>
                  <a:pt x="7938" y="12650"/>
                </a:cubicBezTo>
                <a:cubicBezTo>
                  <a:pt x="7938" y="12683"/>
                  <a:pt x="7938" y="12717"/>
                  <a:pt x="7938" y="127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16120" y="4276800"/>
            <a:ext cx="366840" cy="63360"/>
          </a:xfrm>
          <a:custGeom>
            <a:avLst/>
            <a:gdLst/>
            <a:ahLst/>
            <a:rect l="l" t="t" r="r" b="b"/>
            <a:pathLst>
              <a:path w="1018" h="175">
                <a:moveTo>
                  <a:pt x="7268" y="12055"/>
                </a:moveTo>
                <a:cubicBezTo>
                  <a:pt x="7541" y="11951"/>
                  <a:pt x="7841" y="11912"/>
                  <a:pt x="8136" y="11881"/>
                </a:cubicBezTo>
                <a:cubicBezTo>
                  <a:pt x="8227" y="11881"/>
                  <a:pt x="8235" y="11881"/>
                  <a:pt x="8285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3160" y="5446800"/>
            <a:ext cx="9720" cy="250560"/>
          </a:xfrm>
          <a:custGeom>
            <a:avLst/>
            <a:gdLst/>
            <a:ahLst/>
            <a:rect l="l" t="t" r="r" b="b"/>
            <a:pathLst>
              <a:path w="26" h="695">
                <a:moveTo>
                  <a:pt x="5482" y="15131"/>
                </a:moveTo>
                <a:cubicBezTo>
                  <a:pt x="5488" y="15367"/>
                  <a:pt x="5506" y="15592"/>
                  <a:pt x="5482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16080" y="5446800"/>
            <a:ext cx="162000" cy="214200"/>
          </a:xfrm>
          <a:custGeom>
            <a:avLst/>
            <a:gdLst/>
            <a:ahLst/>
            <a:rect l="l" t="t" r="r" b="b"/>
            <a:pathLst>
              <a:path w="447" h="596">
                <a:moveTo>
                  <a:pt x="5978" y="15131"/>
                </a:moveTo>
                <a:cubicBezTo>
                  <a:pt x="6122" y="15224"/>
                  <a:pt x="6373" y="15386"/>
                  <a:pt x="6251" y="15602"/>
                </a:cubicBezTo>
                <a:cubicBezTo>
                  <a:pt x="6131" y="15813"/>
                  <a:pt x="5925" y="15738"/>
                  <a:pt x="5879" y="15577"/>
                </a:cubicBezTo>
                <a:cubicBezTo>
                  <a:pt x="6058" y="15529"/>
                  <a:pt x="6124" y="15588"/>
                  <a:pt x="6276" y="15677"/>
                </a:cubicBezTo>
                <a:cubicBezTo>
                  <a:pt x="6292" y="15685"/>
                  <a:pt x="6309" y="15693"/>
                  <a:pt x="6325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84280" y="5429160"/>
            <a:ext cx="169920" cy="231840"/>
          </a:xfrm>
          <a:custGeom>
            <a:avLst/>
            <a:gdLst/>
            <a:ahLst/>
            <a:rect l="l" t="t" r="r" b="b"/>
            <a:pathLst>
              <a:path w="472" h="646">
                <a:moveTo>
                  <a:pt x="6821" y="15131"/>
                </a:moveTo>
                <a:cubicBezTo>
                  <a:pt x="6663" y="15342"/>
                  <a:pt x="6597" y="15462"/>
                  <a:pt x="6697" y="15701"/>
                </a:cubicBezTo>
                <a:cubicBezTo>
                  <a:pt x="7011" y="15702"/>
                  <a:pt x="7151" y="15617"/>
                  <a:pt x="7069" y="15255"/>
                </a:cubicBezTo>
                <a:cubicBezTo>
                  <a:pt x="7001" y="15118"/>
                  <a:pt x="6989" y="15071"/>
                  <a:pt x="6871" y="150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12960" y="5375160"/>
            <a:ext cx="1081080" cy="358920"/>
          </a:xfrm>
          <a:custGeom>
            <a:avLst/>
            <a:gdLst/>
            <a:ahLst/>
            <a:rect l="l" t="t" r="r" b="b"/>
            <a:pathLst>
              <a:path w="3003" h="994">
                <a:moveTo>
                  <a:pt x="5035" y="15925"/>
                </a:moveTo>
                <a:cubicBezTo>
                  <a:pt x="5067" y="15679"/>
                  <a:pt x="5050" y="15451"/>
                  <a:pt x="5035" y="15205"/>
                </a:cubicBezTo>
                <a:cubicBezTo>
                  <a:pt x="5030" y="15123"/>
                  <a:pt x="5035" y="15039"/>
                  <a:pt x="5035" y="14957"/>
                </a:cubicBezTo>
                <a:cubicBezTo>
                  <a:pt x="5125" y="14940"/>
                  <a:pt x="5228" y="14932"/>
                  <a:pt x="5333" y="14932"/>
                </a:cubicBezTo>
                <a:cubicBezTo>
                  <a:pt x="5671" y="14932"/>
                  <a:pt x="5989" y="14952"/>
                  <a:pt x="6325" y="14982"/>
                </a:cubicBezTo>
                <a:cubicBezTo>
                  <a:pt x="6738" y="15019"/>
                  <a:pt x="7152" y="15071"/>
                  <a:pt x="7565" y="15081"/>
                </a:cubicBezTo>
                <a:cubicBezTo>
                  <a:pt x="7729" y="15085"/>
                  <a:pt x="7877" y="15081"/>
                  <a:pt x="8037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55840" y="5419800"/>
            <a:ext cx="17280" cy="216000"/>
          </a:xfrm>
          <a:custGeom>
            <a:avLst/>
            <a:gdLst/>
            <a:ahLst/>
            <a:rect l="l" t="t" r="r" b="b"/>
            <a:pathLst>
              <a:path w="51" h="597">
                <a:moveTo>
                  <a:pt x="4068" y="15056"/>
                </a:moveTo>
                <a:cubicBezTo>
                  <a:pt x="4100" y="15259"/>
                  <a:pt x="4076" y="15424"/>
                  <a:pt x="4043" y="15627"/>
                </a:cubicBezTo>
                <a:cubicBezTo>
                  <a:pt x="4043" y="15635"/>
                  <a:pt x="4043" y="15644"/>
                  <a:pt x="4043" y="156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89040" y="5419800"/>
            <a:ext cx="142920" cy="223920"/>
          </a:xfrm>
          <a:custGeom>
            <a:avLst/>
            <a:gdLst/>
            <a:ahLst/>
            <a:rect l="l" t="t" r="r" b="b"/>
            <a:pathLst>
              <a:path w="398" h="622">
                <a:moveTo>
                  <a:pt x="4465" y="15056"/>
                </a:moveTo>
                <a:cubicBezTo>
                  <a:pt x="4436" y="15193"/>
                  <a:pt x="4419" y="15336"/>
                  <a:pt x="4415" y="15478"/>
                </a:cubicBezTo>
                <a:cubicBezTo>
                  <a:pt x="4413" y="15551"/>
                  <a:pt x="4442" y="15652"/>
                  <a:pt x="4539" y="15652"/>
                </a:cubicBezTo>
                <a:cubicBezTo>
                  <a:pt x="4647" y="15652"/>
                  <a:pt x="4708" y="15549"/>
                  <a:pt x="4762" y="15478"/>
                </a:cubicBezTo>
                <a:cubicBezTo>
                  <a:pt x="4789" y="15443"/>
                  <a:pt x="4803" y="15422"/>
                  <a:pt x="4812" y="15379"/>
                </a:cubicBezTo>
                <a:cubicBezTo>
                  <a:pt x="4736" y="15350"/>
                  <a:pt x="4705" y="15349"/>
                  <a:pt x="4638" y="15404"/>
                </a:cubicBezTo>
                <a:cubicBezTo>
                  <a:pt x="4561" y="15467"/>
                  <a:pt x="4564" y="15537"/>
                  <a:pt x="4564" y="15627"/>
                </a:cubicBezTo>
                <a:cubicBezTo>
                  <a:pt x="4564" y="15644"/>
                  <a:pt x="4564" y="15660"/>
                  <a:pt x="4564" y="156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01920" y="5089680"/>
            <a:ext cx="108000" cy="233280"/>
          </a:xfrm>
          <a:custGeom>
            <a:avLst/>
            <a:gdLst/>
            <a:ahLst/>
            <a:rect l="l" t="t" r="r" b="b"/>
            <a:pathLst>
              <a:path w="299" h="646">
                <a:moveTo>
                  <a:pt x="6722" y="14312"/>
                </a:moveTo>
                <a:cubicBezTo>
                  <a:pt x="6722" y="14329"/>
                  <a:pt x="6722" y="14345"/>
                  <a:pt x="6722" y="14362"/>
                </a:cubicBezTo>
                <a:cubicBezTo>
                  <a:pt x="6664" y="14275"/>
                  <a:pt x="6630" y="14221"/>
                  <a:pt x="6747" y="14163"/>
                </a:cubicBezTo>
                <a:cubicBezTo>
                  <a:pt x="6834" y="14120"/>
                  <a:pt x="6905" y="14123"/>
                  <a:pt x="6970" y="14188"/>
                </a:cubicBezTo>
                <a:cubicBezTo>
                  <a:pt x="6920" y="14387"/>
                  <a:pt x="6867" y="14584"/>
                  <a:pt x="6821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9200" y="5749920"/>
            <a:ext cx="223920" cy="206280"/>
          </a:xfrm>
          <a:custGeom>
            <a:avLst/>
            <a:gdLst/>
            <a:ahLst/>
            <a:rect l="l" t="t" r="r" b="b"/>
            <a:pathLst>
              <a:path w="621" h="572">
                <a:moveTo>
                  <a:pt x="6871" y="16049"/>
                </a:moveTo>
                <a:cubicBezTo>
                  <a:pt x="6953" y="16008"/>
                  <a:pt x="6985" y="15978"/>
                  <a:pt x="7069" y="15999"/>
                </a:cubicBezTo>
                <a:cubicBezTo>
                  <a:pt x="7084" y="16147"/>
                  <a:pt x="6988" y="16204"/>
                  <a:pt x="6896" y="16321"/>
                </a:cubicBezTo>
                <a:cubicBezTo>
                  <a:pt x="6844" y="16387"/>
                  <a:pt x="6803" y="16456"/>
                  <a:pt x="6747" y="16520"/>
                </a:cubicBezTo>
                <a:cubicBezTo>
                  <a:pt x="6682" y="16585"/>
                  <a:pt x="6885" y="16365"/>
                  <a:pt x="6921" y="16346"/>
                </a:cubicBezTo>
                <a:cubicBezTo>
                  <a:pt x="6981" y="16315"/>
                  <a:pt x="7052" y="16524"/>
                  <a:pt x="7218" y="16446"/>
                </a:cubicBezTo>
                <a:cubicBezTo>
                  <a:pt x="7285" y="16379"/>
                  <a:pt x="7301" y="16363"/>
                  <a:pt x="7342" y="163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5081760"/>
            <a:ext cx="81000" cy="71280"/>
          </a:xfrm>
          <a:custGeom>
            <a:avLst/>
            <a:gdLst/>
            <a:ahLst/>
            <a:rect l="l" t="t" r="r" b="b"/>
            <a:pathLst>
              <a:path w="224" h="199">
                <a:moveTo>
                  <a:pt x="3125" y="14114"/>
                </a:moveTo>
                <a:cubicBezTo>
                  <a:pt x="3125" y="14194"/>
                  <a:pt x="3136" y="14228"/>
                  <a:pt x="3101" y="14288"/>
                </a:cubicBezTo>
                <a:cubicBezTo>
                  <a:pt x="3214" y="14305"/>
                  <a:pt x="3230" y="14303"/>
                  <a:pt x="3324" y="142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52360" y="5054760"/>
            <a:ext cx="54000" cy="214200"/>
          </a:xfrm>
          <a:custGeom>
            <a:avLst/>
            <a:gdLst/>
            <a:ahLst/>
            <a:rect l="l" t="t" r="r" b="b"/>
            <a:pathLst>
              <a:path w="150" h="597">
                <a:moveTo>
                  <a:pt x="3349" y="14039"/>
                </a:moveTo>
                <a:cubicBezTo>
                  <a:pt x="3273" y="14221"/>
                  <a:pt x="3272" y="14396"/>
                  <a:pt x="3225" y="14585"/>
                </a:cubicBezTo>
                <a:cubicBezTo>
                  <a:pt x="3217" y="14602"/>
                  <a:pt x="3208" y="14618"/>
                  <a:pt x="3200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27160" y="5823000"/>
            <a:ext cx="27000" cy="169920"/>
          </a:xfrm>
          <a:custGeom>
            <a:avLst/>
            <a:gdLst/>
            <a:ahLst/>
            <a:rect l="l" t="t" r="r" b="b"/>
            <a:pathLst>
              <a:path w="75" h="472">
                <a:moveTo>
                  <a:pt x="5680" y="16173"/>
                </a:moveTo>
                <a:cubicBezTo>
                  <a:pt x="5719" y="16313"/>
                  <a:pt x="5697" y="16451"/>
                  <a:pt x="5655" y="16594"/>
                </a:cubicBezTo>
                <a:cubicBezTo>
                  <a:pt x="5647" y="16611"/>
                  <a:pt x="5639" y="16627"/>
                  <a:pt x="5631" y="166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14720" y="5830920"/>
            <a:ext cx="27000" cy="142920"/>
          </a:xfrm>
          <a:custGeom>
            <a:avLst/>
            <a:gdLst/>
            <a:ahLst/>
            <a:rect l="l" t="t" r="r" b="b"/>
            <a:pathLst>
              <a:path w="75" h="398">
                <a:moveTo>
                  <a:pt x="6201" y="16197"/>
                </a:moveTo>
                <a:cubicBezTo>
                  <a:pt x="6225" y="16318"/>
                  <a:pt x="6194" y="16465"/>
                  <a:pt x="6152" y="165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85960" y="5867280"/>
            <a:ext cx="36360" cy="7920"/>
          </a:xfrm>
          <a:custGeom>
            <a:avLst/>
            <a:gdLst/>
            <a:ahLst/>
            <a:rect l="l" t="t" r="r" b="b"/>
            <a:pathLst>
              <a:path w="100" h="25">
                <a:moveTo>
                  <a:pt x="4961" y="16297"/>
                </a:moveTo>
                <a:cubicBezTo>
                  <a:pt x="5013" y="16297"/>
                  <a:pt x="5031" y="16298"/>
                  <a:pt x="5060" y="163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5320" y="6045120"/>
            <a:ext cx="982800" cy="36720"/>
          </a:xfrm>
          <a:custGeom>
            <a:avLst/>
            <a:gdLst/>
            <a:ahLst/>
            <a:rect l="l" t="t" r="r" b="b"/>
            <a:pathLst>
              <a:path w="2729" h="100">
                <a:moveTo>
                  <a:pt x="4986" y="16842"/>
                </a:moveTo>
                <a:cubicBezTo>
                  <a:pt x="5125" y="16787"/>
                  <a:pt x="5308" y="16786"/>
                  <a:pt x="5457" y="16793"/>
                </a:cubicBezTo>
                <a:cubicBezTo>
                  <a:pt x="5735" y="16805"/>
                  <a:pt x="5999" y="16860"/>
                  <a:pt x="6276" y="16867"/>
                </a:cubicBezTo>
                <a:cubicBezTo>
                  <a:pt x="6607" y="16875"/>
                  <a:pt x="6938" y="16879"/>
                  <a:pt x="7268" y="16892"/>
                </a:cubicBezTo>
                <a:cubicBezTo>
                  <a:pt x="7416" y="16898"/>
                  <a:pt x="7566" y="16892"/>
                  <a:pt x="7714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03240" y="5867280"/>
            <a:ext cx="46080" cy="7920"/>
          </a:xfrm>
          <a:custGeom>
            <a:avLst/>
            <a:gdLst/>
            <a:ahLst/>
            <a:rect l="l" t="t" r="r" b="b"/>
            <a:pathLst>
              <a:path w="125" h="25">
                <a:moveTo>
                  <a:pt x="5011" y="16297"/>
                </a:moveTo>
                <a:cubicBezTo>
                  <a:pt x="5076" y="16318"/>
                  <a:pt x="5092" y="16326"/>
                  <a:pt x="5135" y="163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17840" y="6153120"/>
            <a:ext cx="125280" cy="177840"/>
          </a:xfrm>
          <a:custGeom>
            <a:avLst/>
            <a:gdLst/>
            <a:ahLst/>
            <a:rect l="l" t="t" r="r" b="b"/>
            <a:pathLst>
              <a:path w="348" h="498">
                <a:moveTo>
                  <a:pt x="7293" y="17140"/>
                </a:moveTo>
                <a:cubicBezTo>
                  <a:pt x="7371" y="17059"/>
                  <a:pt x="7168" y="17101"/>
                  <a:pt x="7094" y="17140"/>
                </a:cubicBezTo>
                <a:cubicBezTo>
                  <a:pt x="6977" y="17201"/>
                  <a:pt x="6974" y="17294"/>
                  <a:pt x="7069" y="17388"/>
                </a:cubicBezTo>
                <a:cubicBezTo>
                  <a:pt x="7143" y="17462"/>
                  <a:pt x="7190" y="17477"/>
                  <a:pt x="7243" y="17562"/>
                </a:cubicBezTo>
                <a:cubicBezTo>
                  <a:pt x="7177" y="17579"/>
                  <a:pt x="7011" y="17627"/>
                  <a:pt x="7045" y="17487"/>
                </a:cubicBezTo>
                <a:cubicBezTo>
                  <a:pt x="7082" y="17332"/>
                  <a:pt x="7180" y="17261"/>
                  <a:pt x="7293" y="171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52840" y="5062680"/>
            <a:ext cx="115920" cy="98280"/>
          </a:xfrm>
          <a:custGeom>
            <a:avLst/>
            <a:gdLst/>
            <a:ahLst/>
            <a:rect l="l" t="t" r="r" b="b"/>
            <a:pathLst>
              <a:path w="323" h="274">
                <a:moveTo>
                  <a:pt x="7689" y="14064"/>
                </a:moveTo>
                <a:cubicBezTo>
                  <a:pt x="7583" y="14165"/>
                  <a:pt x="7485" y="14252"/>
                  <a:pt x="7367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33760" y="5000760"/>
            <a:ext cx="108000" cy="250560"/>
          </a:xfrm>
          <a:custGeom>
            <a:avLst/>
            <a:gdLst/>
            <a:ahLst/>
            <a:rect l="l" t="t" r="r" b="b"/>
            <a:pathLst>
              <a:path w="299" h="695">
                <a:moveTo>
                  <a:pt x="7590" y="13891"/>
                </a:moveTo>
                <a:cubicBezTo>
                  <a:pt x="7512" y="14046"/>
                  <a:pt x="7431" y="14191"/>
                  <a:pt x="7342" y="14337"/>
                </a:cubicBezTo>
                <a:cubicBezTo>
                  <a:pt x="7334" y="14354"/>
                  <a:pt x="7325" y="14370"/>
                  <a:pt x="7317" y="14387"/>
                </a:cubicBezTo>
                <a:cubicBezTo>
                  <a:pt x="7380" y="14511"/>
                  <a:pt x="7489" y="14448"/>
                  <a:pt x="7590" y="14536"/>
                </a:cubicBezTo>
                <a:cubicBezTo>
                  <a:pt x="7598" y="14552"/>
                  <a:pt x="7607" y="14569"/>
                  <a:pt x="7615" y="145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70120" y="5010120"/>
            <a:ext cx="285840" cy="160200"/>
          </a:xfrm>
          <a:custGeom>
            <a:avLst/>
            <a:gdLst/>
            <a:ahLst/>
            <a:rect l="l" t="t" r="r" b="b"/>
            <a:pathLst>
              <a:path w="794" h="448">
                <a:moveTo>
                  <a:pt x="7417" y="14362"/>
                </a:moveTo>
                <a:cubicBezTo>
                  <a:pt x="7658" y="14309"/>
                  <a:pt x="7847" y="14126"/>
                  <a:pt x="8062" y="13990"/>
                </a:cubicBezTo>
                <a:cubicBezTo>
                  <a:pt x="8152" y="13936"/>
                  <a:pt x="8153" y="13911"/>
                  <a:pt x="8210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51120" y="6269040"/>
            <a:ext cx="142920" cy="61920"/>
          </a:xfrm>
          <a:custGeom>
            <a:avLst/>
            <a:gdLst/>
            <a:ahLst/>
            <a:rect l="l" t="t" r="r" b="b"/>
            <a:pathLst>
              <a:path w="398" h="175">
                <a:moveTo>
                  <a:pt x="7640" y="17413"/>
                </a:moveTo>
                <a:cubicBezTo>
                  <a:pt x="7703" y="17438"/>
                  <a:pt x="7778" y="17455"/>
                  <a:pt x="7838" y="17487"/>
                </a:cubicBezTo>
                <a:cubicBezTo>
                  <a:pt x="7905" y="17522"/>
                  <a:pt x="7975" y="17551"/>
                  <a:pt x="8037" y="175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6286680"/>
            <a:ext cx="169920" cy="115560"/>
          </a:xfrm>
          <a:custGeom>
            <a:avLst/>
            <a:gdLst/>
            <a:ahLst/>
            <a:rect l="l" t="t" r="r" b="b"/>
            <a:pathLst>
              <a:path w="473" h="324">
                <a:moveTo>
                  <a:pt x="8334" y="17562"/>
                </a:moveTo>
                <a:cubicBezTo>
                  <a:pt x="8368" y="17624"/>
                  <a:pt x="8419" y="17850"/>
                  <a:pt x="8409" y="17735"/>
                </a:cubicBezTo>
                <a:cubicBezTo>
                  <a:pt x="8400" y="17625"/>
                  <a:pt x="8422" y="17441"/>
                  <a:pt x="8582" y="17462"/>
                </a:cubicBezTo>
                <a:cubicBezTo>
                  <a:pt x="8726" y="17481"/>
                  <a:pt x="8797" y="17581"/>
                  <a:pt x="8806" y="17711"/>
                </a:cubicBezTo>
                <a:cubicBezTo>
                  <a:pt x="8806" y="17719"/>
                  <a:pt x="8806" y="17727"/>
                  <a:pt x="8806" y="177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81120" y="5089680"/>
            <a:ext cx="27000" cy="169560"/>
          </a:xfrm>
          <a:custGeom>
            <a:avLst/>
            <a:gdLst/>
            <a:ahLst/>
            <a:rect l="l" t="t" r="r" b="b"/>
            <a:pathLst>
              <a:path w="76" h="472">
                <a:moveTo>
                  <a:pt x="4465" y="14139"/>
                </a:moveTo>
                <a:cubicBezTo>
                  <a:pt x="4434" y="14295"/>
                  <a:pt x="4404" y="14452"/>
                  <a:pt x="4390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44760" y="5180040"/>
            <a:ext cx="152280" cy="88920"/>
          </a:xfrm>
          <a:custGeom>
            <a:avLst/>
            <a:gdLst/>
            <a:ahLst/>
            <a:rect l="l" t="t" r="r" b="b"/>
            <a:pathLst>
              <a:path w="423" h="249">
                <a:moveTo>
                  <a:pt x="4291" y="14511"/>
                </a:moveTo>
                <a:cubicBezTo>
                  <a:pt x="4376" y="14539"/>
                  <a:pt x="4406" y="14557"/>
                  <a:pt x="4415" y="14635"/>
                </a:cubicBezTo>
                <a:cubicBezTo>
                  <a:pt x="4525" y="14559"/>
                  <a:pt x="4618" y="14481"/>
                  <a:pt x="4713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33680" y="4875120"/>
            <a:ext cx="107640" cy="108000"/>
          </a:xfrm>
          <a:custGeom>
            <a:avLst/>
            <a:gdLst/>
            <a:ahLst/>
            <a:rect l="l" t="t" r="r" b="b"/>
            <a:pathLst>
              <a:path w="299" h="299">
                <a:moveTo>
                  <a:pt x="4837" y="13568"/>
                </a:moveTo>
                <a:cubicBezTo>
                  <a:pt x="4714" y="13543"/>
                  <a:pt x="4579" y="13499"/>
                  <a:pt x="4539" y="13667"/>
                </a:cubicBezTo>
                <a:cubicBezTo>
                  <a:pt x="4539" y="13773"/>
                  <a:pt x="4526" y="13802"/>
                  <a:pt x="4589" y="13841"/>
                </a:cubicBezTo>
                <a:cubicBezTo>
                  <a:pt x="4762" y="13795"/>
                  <a:pt x="4737" y="13775"/>
                  <a:pt x="4812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77960" y="4786200"/>
            <a:ext cx="46080" cy="142920"/>
          </a:xfrm>
          <a:custGeom>
            <a:avLst/>
            <a:gdLst/>
            <a:ahLst/>
            <a:rect l="l" t="t" r="r" b="b"/>
            <a:pathLst>
              <a:path w="125" h="398">
                <a:moveTo>
                  <a:pt x="4663" y="13295"/>
                </a:moveTo>
                <a:cubicBezTo>
                  <a:pt x="4714" y="13496"/>
                  <a:pt x="4731" y="13564"/>
                  <a:pt x="4787" y="136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41760" y="6188040"/>
            <a:ext cx="71280" cy="135000"/>
          </a:xfrm>
          <a:custGeom>
            <a:avLst/>
            <a:gdLst/>
            <a:ahLst/>
            <a:rect l="l" t="t" r="r" b="b"/>
            <a:pathLst>
              <a:path w="199" h="373">
                <a:moveTo>
                  <a:pt x="7615" y="17462"/>
                </a:moveTo>
                <a:cubicBezTo>
                  <a:pt x="7615" y="17519"/>
                  <a:pt x="7620" y="17540"/>
                  <a:pt x="7665" y="17562"/>
                </a:cubicBezTo>
                <a:cubicBezTo>
                  <a:pt x="7660" y="17512"/>
                  <a:pt x="7592" y="17325"/>
                  <a:pt x="7615" y="17289"/>
                </a:cubicBezTo>
                <a:cubicBezTo>
                  <a:pt x="7672" y="17203"/>
                  <a:pt x="7724" y="17200"/>
                  <a:pt x="7813" y="171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47840" y="4680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746" y="12998"/>
                </a:moveTo>
                <a:lnTo>
                  <a:pt x="3746" y="1299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67040" y="3705120"/>
            <a:ext cx="571320" cy="233640"/>
          </a:xfrm>
          <a:custGeom>
            <a:avLst/>
            <a:gdLst/>
            <a:ahLst/>
            <a:rect l="l" t="t" r="r" b="b"/>
            <a:pathLst>
              <a:path w="1589" h="646">
                <a:moveTo>
                  <a:pt x="8012" y="10666"/>
                </a:moveTo>
                <a:cubicBezTo>
                  <a:pt x="8012" y="10709"/>
                  <a:pt x="8006" y="10734"/>
                  <a:pt x="7987" y="10765"/>
                </a:cubicBezTo>
                <a:cubicBezTo>
                  <a:pt x="7964" y="10673"/>
                  <a:pt x="7993" y="10640"/>
                  <a:pt x="8062" y="10567"/>
                </a:cubicBezTo>
                <a:cubicBezTo>
                  <a:pt x="8123" y="10502"/>
                  <a:pt x="8167" y="10449"/>
                  <a:pt x="8235" y="10393"/>
                </a:cubicBezTo>
                <a:cubicBezTo>
                  <a:pt x="8305" y="10335"/>
                  <a:pt x="8320" y="10323"/>
                  <a:pt x="8409" y="10319"/>
                </a:cubicBezTo>
                <a:cubicBezTo>
                  <a:pt x="8467" y="10316"/>
                  <a:pt x="8511" y="10303"/>
                  <a:pt x="8558" y="10294"/>
                </a:cubicBezTo>
                <a:cubicBezTo>
                  <a:pt x="8673" y="10271"/>
                  <a:pt x="8798" y="10301"/>
                  <a:pt x="8905" y="10319"/>
                </a:cubicBezTo>
                <a:cubicBezTo>
                  <a:pt x="8961" y="10328"/>
                  <a:pt x="9024" y="10330"/>
                  <a:pt x="9079" y="10344"/>
                </a:cubicBezTo>
                <a:cubicBezTo>
                  <a:pt x="9155" y="10363"/>
                  <a:pt x="9196" y="10417"/>
                  <a:pt x="9252" y="10468"/>
                </a:cubicBezTo>
                <a:cubicBezTo>
                  <a:pt x="9349" y="10556"/>
                  <a:pt x="9403" y="10666"/>
                  <a:pt x="9475" y="10765"/>
                </a:cubicBezTo>
                <a:cubicBezTo>
                  <a:pt x="9522" y="10830"/>
                  <a:pt x="9529" y="10861"/>
                  <a:pt x="9550" y="109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3840120"/>
            <a:ext cx="117360" cy="108000"/>
          </a:xfrm>
          <a:custGeom>
            <a:avLst/>
            <a:gdLst/>
            <a:ahLst/>
            <a:rect l="l" t="t" r="r" b="b"/>
            <a:pathLst>
              <a:path w="323" h="299">
                <a:moveTo>
                  <a:pt x="9302" y="10840"/>
                </a:moveTo>
                <a:cubicBezTo>
                  <a:pt x="9332" y="10862"/>
                  <a:pt x="9486" y="11017"/>
                  <a:pt x="9550" y="10964"/>
                </a:cubicBezTo>
                <a:cubicBezTo>
                  <a:pt x="9611" y="10913"/>
                  <a:pt x="9616" y="10732"/>
                  <a:pt x="9624" y="106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29000" y="3929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525" y="10914"/>
                </a:moveTo>
                <a:lnTo>
                  <a:pt x="9525" y="1091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13040" y="3813120"/>
            <a:ext cx="135000" cy="115920"/>
          </a:xfrm>
          <a:custGeom>
            <a:avLst/>
            <a:gdLst/>
            <a:ahLst/>
            <a:rect l="l" t="t" r="r" b="b"/>
            <a:pathLst>
              <a:path w="374" h="323">
                <a:moveTo>
                  <a:pt x="7813" y="10592"/>
                </a:moveTo>
                <a:cubicBezTo>
                  <a:pt x="7839" y="10701"/>
                  <a:pt x="7838" y="10801"/>
                  <a:pt x="7838" y="10914"/>
                </a:cubicBezTo>
                <a:cubicBezTo>
                  <a:pt x="7965" y="10897"/>
                  <a:pt x="8020" y="10824"/>
                  <a:pt x="8136" y="10790"/>
                </a:cubicBezTo>
                <a:cubicBezTo>
                  <a:pt x="8153" y="10790"/>
                  <a:pt x="8169" y="10790"/>
                  <a:pt x="8186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25840" y="1000080"/>
            <a:ext cx="4964040" cy="214200"/>
          </a:xfrm>
          <a:custGeom>
            <a:avLst/>
            <a:gdLst/>
            <a:ahLst/>
            <a:rect l="l" t="t" r="r" b="b"/>
            <a:pathLst>
              <a:path w="13792" h="596">
                <a:moveTo>
                  <a:pt x="7293" y="2778"/>
                </a:moveTo>
                <a:cubicBezTo>
                  <a:pt x="7401" y="2834"/>
                  <a:pt x="7448" y="2885"/>
                  <a:pt x="7565" y="2927"/>
                </a:cubicBezTo>
                <a:cubicBezTo>
                  <a:pt x="7665" y="2963"/>
                  <a:pt x="7782" y="2978"/>
                  <a:pt x="7888" y="3001"/>
                </a:cubicBezTo>
                <a:cubicBezTo>
                  <a:pt x="8025" y="3030"/>
                  <a:pt x="8170" y="3055"/>
                  <a:pt x="8310" y="3076"/>
                </a:cubicBezTo>
                <a:cubicBezTo>
                  <a:pt x="8410" y="3091"/>
                  <a:pt x="8508" y="3085"/>
                  <a:pt x="8607" y="3101"/>
                </a:cubicBezTo>
                <a:cubicBezTo>
                  <a:pt x="8715" y="3118"/>
                  <a:pt x="8823" y="3155"/>
                  <a:pt x="8930" y="3175"/>
                </a:cubicBezTo>
                <a:cubicBezTo>
                  <a:pt x="9021" y="3192"/>
                  <a:pt x="9112" y="3211"/>
                  <a:pt x="9203" y="3225"/>
                </a:cubicBezTo>
                <a:cubicBezTo>
                  <a:pt x="9341" y="3246"/>
                  <a:pt x="9487" y="3229"/>
                  <a:pt x="9624" y="3249"/>
                </a:cubicBezTo>
                <a:cubicBezTo>
                  <a:pt x="9733" y="3265"/>
                  <a:pt x="9837" y="3309"/>
                  <a:pt x="9947" y="3324"/>
                </a:cubicBezTo>
                <a:cubicBezTo>
                  <a:pt x="10123" y="3347"/>
                  <a:pt x="10315" y="3365"/>
                  <a:pt x="10492" y="3373"/>
                </a:cubicBezTo>
                <a:cubicBezTo>
                  <a:pt x="11006" y="3395"/>
                  <a:pt x="11520" y="3354"/>
                  <a:pt x="12030" y="3349"/>
                </a:cubicBezTo>
                <a:cubicBezTo>
                  <a:pt x="12306" y="3347"/>
                  <a:pt x="12574" y="3327"/>
                  <a:pt x="12849" y="3324"/>
                </a:cubicBezTo>
                <a:cubicBezTo>
                  <a:pt x="13009" y="3322"/>
                  <a:pt x="13162" y="3305"/>
                  <a:pt x="13320" y="3299"/>
                </a:cubicBezTo>
                <a:cubicBezTo>
                  <a:pt x="13466" y="3294"/>
                  <a:pt x="13600" y="3319"/>
                  <a:pt x="13742" y="3324"/>
                </a:cubicBezTo>
                <a:cubicBezTo>
                  <a:pt x="13934" y="3331"/>
                  <a:pt x="14120" y="3344"/>
                  <a:pt x="14312" y="3349"/>
                </a:cubicBezTo>
                <a:cubicBezTo>
                  <a:pt x="14531" y="3355"/>
                  <a:pt x="14742" y="3340"/>
                  <a:pt x="14957" y="3324"/>
                </a:cubicBezTo>
                <a:cubicBezTo>
                  <a:pt x="15107" y="3313"/>
                  <a:pt x="15255" y="3311"/>
                  <a:pt x="15404" y="3299"/>
                </a:cubicBezTo>
                <a:cubicBezTo>
                  <a:pt x="15602" y="3283"/>
                  <a:pt x="15801" y="3268"/>
                  <a:pt x="15999" y="3249"/>
                </a:cubicBezTo>
                <a:cubicBezTo>
                  <a:pt x="16173" y="3232"/>
                  <a:pt x="16344" y="3236"/>
                  <a:pt x="16520" y="3225"/>
                </a:cubicBezTo>
                <a:cubicBezTo>
                  <a:pt x="16702" y="3214"/>
                  <a:pt x="16883" y="3211"/>
                  <a:pt x="17066" y="3200"/>
                </a:cubicBezTo>
                <a:cubicBezTo>
                  <a:pt x="17288" y="3186"/>
                  <a:pt x="17490" y="3195"/>
                  <a:pt x="17711" y="3200"/>
                </a:cubicBezTo>
                <a:cubicBezTo>
                  <a:pt x="17969" y="3206"/>
                  <a:pt x="18222" y="3223"/>
                  <a:pt x="18479" y="3225"/>
                </a:cubicBezTo>
                <a:cubicBezTo>
                  <a:pt x="18790" y="3228"/>
                  <a:pt x="19089" y="3203"/>
                  <a:pt x="19397" y="3175"/>
                </a:cubicBezTo>
                <a:cubicBezTo>
                  <a:pt x="19563" y="3160"/>
                  <a:pt x="19726" y="3131"/>
                  <a:pt x="19893" y="3125"/>
                </a:cubicBezTo>
                <a:cubicBezTo>
                  <a:pt x="20291" y="3110"/>
                  <a:pt x="20688" y="3122"/>
                  <a:pt x="21084" y="31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Skill Practice:  Rewrite the number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below as fractions with a numerato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and denominato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15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400800" y="2133720"/>
          <a:ext cx="1027080" cy="167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2133720"/>
                    <a:ext cx="10270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676520" y="3962520"/>
          <a:ext cx="84744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3962520"/>
                    <a:ext cx="8474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168720" y="2209680"/>
          <a:ext cx="422280" cy="68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68720" y="2209680"/>
                    <a:ext cx="4222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867280" y="4800600"/>
          <a:ext cx="530280" cy="91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67280" y="4800600"/>
                    <a:ext cx="5302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1339920" y="2571840"/>
            <a:ext cx="731880" cy="571320"/>
          </a:xfrm>
          <a:custGeom>
            <a:avLst/>
            <a:gdLst/>
            <a:ahLst/>
            <a:rect l="l" t="t" r="r" b="b"/>
            <a:pathLst>
              <a:path w="2035" h="1588">
                <a:moveTo>
                  <a:pt x="3721" y="8037"/>
                </a:moveTo>
                <a:cubicBezTo>
                  <a:pt x="3819" y="8006"/>
                  <a:pt x="3917" y="7977"/>
                  <a:pt x="4018" y="7962"/>
                </a:cubicBezTo>
              </a:path>
              <a:path w="2035" h="1588">
                <a:moveTo>
                  <a:pt x="3795" y="8359"/>
                </a:moveTo>
                <a:cubicBezTo>
                  <a:pt x="3887" y="8336"/>
                  <a:pt x="3973" y="8310"/>
                  <a:pt x="4068" y="8310"/>
                </a:cubicBezTo>
              </a:path>
              <a:path w="2035" h="1588">
                <a:moveTo>
                  <a:pt x="4887" y="7169"/>
                </a:moveTo>
                <a:cubicBezTo>
                  <a:pt x="4893" y="7393"/>
                  <a:pt x="4911" y="7614"/>
                  <a:pt x="4911" y="7838"/>
                </a:cubicBezTo>
              </a:path>
              <a:path w="2035" h="1588">
                <a:moveTo>
                  <a:pt x="5358" y="7144"/>
                </a:moveTo>
                <a:cubicBezTo>
                  <a:pt x="5263" y="7173"/>
                  <a:pt x="5068" y="7171"/>
                  <a:pt x="5060" y="7293"/>
                </a:cubicBezTo>
                <a:cubicBezTo>
                  <a:pt x="5056" y="7351"/>
                  <a:pt x="5099" y="7411"/>
                  <a:pt x="5110" y="7466"/>
                </a:cubicBezTo>
                <a:cubicBezTo>
                  <a:pt x="5214" y="7451"/>
                  <a:pt x="5260" y="7399"/>
                  <a:pt x="5383" y="7392"/>
                </a:cubicBezTo>
                <a:cubicBezTo>
                  <a:pt x="5487" y="7386"/>
                  <a:pt x="5569" y="7487"/>
                  <a:pt x="5507" y="7590"/>
                </a:cubicBezTo>
                <a:cubicBezTo>
                  <a:pt x="5446" y="7690"/>
                  <a:pt x="5311" y="7701"/>
                  <a:pt x="5209" y="7714"/>
                </a:cubicBezTo>
              </a:path>
              <a:path w="2035" h="1588">
                <a:moveTo>
                  <a:pt x="4738" y="8210"/>
                </a:moveTo>
                <a:cubicBezTo>
                  <a:pt x="5036" y="8118"/>
                  <a:pt x="5346" y="7999"/>
                  <a:pt x="5655" y="7962"/>
                </a:cubicBezTo>
                <a:cubicBezTo>
                  <a:pt x="5688" y="7962"/>
                  <a:pt x="5722" y="7962"/>
                  <a:pt x="5755" y="7962"/>
                </a:cubicBezTo>
              </a:path>
              <a:path w="2035" h="1588">
                <a:moveTo>
                  <a:pt x="5333" y="8285"/>
                </a:moveTo>
                <a:cubicBezTo>
                  <a:pt x="5350" y="8447"/>
                  <a:pt x="5389" y="8582"/>
                  <a:pt x="5457" y="87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13160" y="3938760"/>
            <a:ext cx="581040" cy="554040"/>
          </a:xfrm>
          <a:custGeom>
            <a:avLst/>
            <a:gdLst/>
            <a:ahLst/>
            <a:rect l="l" t="t" r="r" b="b"/>
            <a:pathLst>
              <a:path w="1613" h="1539">
                <a:moveTo>
                  <a:pt x="11981" y="11534"/>
                </a:moveTo>
                <a:cubicBezTo>
                  <a:pt x="12093" y="11578"/>
                  <a:pt x="12193" y="11601"/>
                  <a:pt x="12303" y="11633"/>
                </a:cubicBezTo>
              </a:path>
              <a:path w="1613" h="1539">
                <a:moveTo>
                  <a:pt x="12080" y="11832"/>
                </a:moveTo>
                <a:cubicBezTo>
                  <a:pt x="12194" y="11790"/>
                  <a:pt x="12306" y="11766"/>
                  <a:pt x="12427" y="11757"/>
                </a:cubicBezTo>
              </a:path>
              <a:path w="1613" h="1539">
                <a:moveTo>
                  <a:pt x="12824" y="11683"/>
                </a:moveTo>
                <a:cubicBezTo>
                  <a:pt x="13041" y="11683"/>
                  <a:pt x="13254" y="11666"/>
                  <a:pt x="13469" y="11633"/>
                </a:cubicBezTo>
                <a:cubicBezTo>
                  <a:pt x="13510" y="11625"/>
                  <a:pt x="13552" y="11617"/>
                  <a:pt x="13593" y="11609"/>
                </a:cubicBezTo>
              </a:path>
              <a:path w="1613" h="1539">
                <a:moveTo>
                  <a:pt x="13122" y="11981"/>
                </a:moveTo>
                <a:cubicBezTo>
                  <a:pt x="13122" y="12146"/>
                  <a:pt x="13122" y="12312"/>
                  <a:pt x="13122" y="12477"/>
                </a:cubicBezTo>
              </a:path>
              <a:path w="1613" h="1539">
                <a:moveTo>
                  <a:pt x="12799" y="11013"/>
                </a:moveTo>
                <a:cubicBezTo>
                  <a:pt x="12926" y="11001"/>
                  <a:pt x="13048" y="10974"/>
                  <a:pt x="13171" y="10939"/>
                </a:cubicBezTo>
                <a:cubicBezTo>
                  <a:pt x="13215" y="11164"/>
                  <a:pt x="13168" y="11309"/>
                  <a:pt x="13146" y="11534"/>
                </a:cubicBezTo>
                <a:cubicBezTo>
                  <a:pt x="13146" y="11542"/>
                  <a:pt x="13146" y="11551"/>
                  <a:pt x="13146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88160" y="2490840"/>
            <a:ext cx="162000" cy="268200"/>
          </a:xfrm>
          <a:custGeom>
            <a:avLst/>
            <a:gdLst/>
            <a:ahLst/>
            <a:rect l="l" t="t" r="r" b="b"/>
            <a:pathLst>
              <a:path w="447" h="745">
                <a:moveTo>
                  <a:pt x="21679" y="6921"/>
                </a:moveTo>
                <a:cubicBezTo>
                  <a:pt x="21562" y="6942"/>
                  <a:pt x="21461" y="6950"/>
                  <a:pt x="21406" y="7069"/>
                </a:cubicBezTo>
                <a:cubicBezTo>
                  <a:pt x="21373" y="7141"/>
                  <a:pt x="21357" y="7238"/>
                  <a:pt x="21357" y="7317"/>
                </a:cubicBezTo>
                <a:cubicBezTo>
                  <a:pt x="21452" y="7293"/>
                  <a:pt x="21535" y="7213"/>
                  <a:pt x="21654" y="7243"/>
                </a:cubicBezTo>
                <a:cubicBezTo>
                  <a:pt x="21797" y="7279"/>
                  <a:pt x="21869" y="7450"/>
                  <a:pt x="21754" y="7565"/>
                </a:cubicBezTo>
                <a:cubicBezTo>
                  <a:pt x="21654" y="7665"/>
                  <a:pt x="21363" y="7499"/>
                  <a:pt x="21357" y="7640"/>
                </a:cubicBezTo>
                <a:cubicBezTo>
                  <a:pt x="21373" y="7648"/>
                  <a:pt x="21390" y="7657"/>
                  <a:pt x="21406" y="76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61160" y="2919240"/>
            <a:ext cx="295560" cy="331920"/>
          </a:xfrm>
          <a:custGeom>
            <a:avLst/>
            <a:gdLst/>
            <a:ahLst/>
            <a:rect l="l" t="t" r="r" b="b"/>
            <a:pathLst>
              <a:path w="820" h="919">
                <a:moveTo>
                  <a:pt x="21282" y="8260"/>
                </a:moveTo>
                <a:cubicBezTo>
                  <a:pt x="21527" y="8215"/>
                  <a:pt x="21785" y="8195"/>
                  <a:pt x="22027" y="8136"/>
                </a:cubicBezTo>
                <a:cubicBezTo>
                  <a:pt x="22043" y="8128"/>
                  <a:pt x="22060" y="8119"/>
                  <a:pt x="22076" y="8111"/>
                </a:cubicBezTo>
              </a:path>
              <a:path w="820" h="919">
                <a:moveTo>
                  <a:pt x="21530" y="8483"/>
                </a:moveTo>
                <a:cubicBezTo>
                  <a:pt x="21627" y="8395"/>
                  <a:pt x="21676" y="8330"/>
                  <a:pt x="21803" y="8359"/>
                </a:cubicBezTo>
                <a:cubicBezTo>
                  <a:pt x="21792" y="8490"/>
                  <a:pt x="21746" y="8590"/>
                  <a:pt x="21679" y="8706"/>
                </a:cubicBezTo>
                <a:cubicBezTo>
                  <a:pt x="21617" y="8814"/>
                  <a:pt x="21569" y="8911"/>
                  <a:pt x="21530" y="9029"/>
                </a:cubicBezTo>
                <a:cubicBezTo>
                  <a:pt x="21577" y="8959"/>
                  <a:pt x="21650" y="8807"/>
                  <a:pt x="21754" y="8806"/>
                </a:cubicBezTo>
                <a:cubicBezTo>
                  <a:pt x="21852" y="8805"/>
                  <a:pt x="21847" y="8935"/>
                  <a:pt x="22002" y="8855"/>
                </a:cubicBezTo>
                <a:cubicBezTo>
                  <a:pt x="22035" y="8830"/>
                  <a:pt x="22068" y="8806"/>
                  <a:pt x="22101" y="87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412040" y="2938320"/>
            <a:ext cx="115920" cy="1800"/>
          </a:xfrm>
          <a:custGeom>
            <a:avLst/>
            <a:gdLst/>
            <a:ahLst/>
            <a:rect l="l" t="t" r="r" b="b"/>
            <a:pathLst>
              <a:path w="323" h="1">
                <a:moveTo>
                  <a:pt x="20588" y="8161"/>
                </a:moveTo>
                <a:cubicBezTo>
                  <a:pt x="20695" y="8161"/>
                  <a:pt x="20803" y="8161"/>
                  <a:pt x="20910" y="81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429680" y="3044880"/>
            <a:ext cx="90360" cy="9360"/>
          </a:xfrm>
          <a:custGeom>
            <a:avLst/>
            <a:gdLst/>
            <a:ahLst/>
            <a:rect l="l" t="t" r="r" b="b"/>
            <a:pathLst>
              <a:path w="249" h="26">
                <a:moveTo>
                  <a:pt x="20638" y="8483"/>
                </a:moveTo>
                <a:cubicBezTo>
                  <a:pt x="20724" y="8477"/>
                  <a:pt x="20801" y="8458"/>
                  <a:pt x="20886" y="84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59720" y="3259080"/>
            <a:ext cx="107640" cy="125640"/>
          </a:xfrm>
          <a:custGeom>
            <a:avLst/>
            <a:gdLst/>
            <a:ahLst/>
            <a:rect l="l" t="t" r="r" b="b"/>
            <a:pathLst>
              <a:path w="299" h="348">
                <a:moveTo>
                  <a:pt x="18777" y="9153"/>
                </a:moveTo>
                <a:cubicBezTo>
                  <a:pt x="18890" y="9191"/>
                  <a:pt x="18971" y="9244"/>
                  <a:pt x="19075" y="9302"/>
                </a:cubicBezTo>
              </a:path>
              <a:path w="299" h="348">
                <a:moveTo>
                  <a:pt x="19000" y="9054"/>
                </a:moveTo>
                <a:cubicBezTo>
                  <a:pt x="18941" y="9147"/>
                  <a:pt x="18903" y="9261"/>
                  <a:pt x="18876" y="9376"/>
                </a:cubicBezTo>
                <a:cubicBezTo>
                  <a:pt x="18876" y="9384"/>
                  <a:pt x="18876" y="9393"/>
                  <a:pt x="18876" y="94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19920" y="2482920"/>
            <a:ext cx="63360" cy="44280"/>
          </a:xfrm>
          <a:custGeom>
            <a:avLst/>
            <a:gdLst/>
            <a:ahLst/>
            <a:rect l="l" t="t" r="r" b="b"/>
            <a:pathLst>
              <a:path w="174" h="125">
                <a:moveTo>
                  <a:pt x="19224" y="6896"/>
                </a:moveTo>
                <a:cubicBezTo>
                  <a:pt x="19261" y="6943"/>
                  <a:pt x="19266" y="6961"/>
                  <a:pt x="19273" y="7020"/>
                </a:cubicBezTo>
              </a:path>
              <a:path w="174" h="125">
                <a:moveTo>
                  <a:pt x="19224" y="7020"/>
                </a:moveTo>
                <a:cubicBezTo>
                  <a:pt x="19273" y="6990"/>
                  <a:pt x="19335" y="6980"/>
                  <a:pt x="19397" y="69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50000" y="1241280"/>
            <a:ext cx="930240" cy="741600"/>
          </a:xfrm>
          <a:custGeom>
            <a:avLst/>
            <a:gdLst/>
            <a:ahLst/>
            <a:rect l="l" t="t" r="r" b="b"/>
            <a:pathLst>
              <a:path w="2581" h="2060">
                <a:moveTo>
                  <a:pt x="19720" y="4192"/>
                </a:moveTo>
                <a:cubicBezTo>
                  <a:pt x="19602" y="4237"/>
                  <a:pt x="19509" y="4241"/>
                  <a:pt x="19496" y="4366"/>
                </a:cubicBezTo>
                <a:cubicBezTo>
                  <a:pt x="19496" y="4382"/>
                  <a:pt x="19496" y="4399"/>
                  <a:pt x="19496" y="4415"/>
                </a:cubicBezTo>
                <a:cubicBezTo>
                  <a:pt x="19618" y="4403"/>
                  <a:pt x="19683" y="4365"/>
                  <a:pt x="19769" y="4440"/>
                </a:cubicBezTo>
                <a:cubicBezTo>
                  <a:pt x="19724" y="4621"/>
                  <a:pt x="19649" y="4623"/>
                  <a:pt x="19472" y="4614"/>
                </a:cubicBezTo>
              </a:path>
              <a:path w="2581" h="2060">
                <a:moveTo>
                  <a:pt x="19273" y="4911"/>
                </a:moveTo>
                <a:cubicBezTo>
                  <a:pt x="19304" y="4726"/>
                  <a:pt x="19301" y="4528"/>
                  <a:pt x="19273" y="4341"/>
                </a:cubicBezTo>
                <a:cubicBezTo>
                  <a:pt x="19253" y="4209"/>
                  <a:pt x="19192" y="4193"/>
                  <a:pt x="19372" y="4118"/>
                </a:cubicBezTo>
                <a:cubicBezTo>
                  <a:pt x="19609" y="4018"/>
                  <a:pt x="19874" y="3957"/>
                  <a:pt x="20117" y="3870"/>
                </a:cubicBezTo>
                <a:cubicBezTo>
                  <a:pt x="20142" y="3862"/>
                  <a:pt x="20166" y="3853"/>
                  <a:pt x="20191" y="3845"/>
                </a:cubicBezTo>
              </a:path>
              <a:path w="2581" h="2060">
                <a:moveTo>
                  <a:pt x="18852" y="4514"/>
                </a:moveTo>
                <a:cubicBezTo>
                  <a:pt x="18871" y="4427"/>
                  <a:pt x="18874" y="4419"/>
                  <a:pt x="18951" y="4390"/>
                </a:cubicBezTo>
                <a:cubicBezTo>
                  <a:pt x="19007" y="4532"/>
                  <a:pt x="19037" y="4750"/>
                  <a:pt x="18827" y="4812"/>
                </a:cubicBezTo>
                <a:cubicBezTo>
                  <a:pt x="18802" y="4804"/>
                  <a:pt x="18777" y="4795"/>
                  <a:pt x="18752" y="4787"/>
                </a:cubicBezTo>
                <a:cubicBezTo>
                  <a:pt x="18775" y="4651"/>
                  <a:pt x="18840" y="4564"/>
                  <a:pt x="19000" y="4638"/>
                </a:cubicBezTo>
                <a:cubicBezTo>
                  <a:pt x="19017" y="4655"/>
                  <a:pt x="19033" y="4671"/>
                  <a:pt x="19050" y="4688"/>
                </a:cubicBezTo>
              </a:path>
              <a:path w="2581" h="2060">
                <a:moveTo>
                  <a:pt x="19323" y="3646"/>
                </a:moveTo>
                <a:cubicBezTo>
                  <a:pt x="19391" y="3578"/>
                  <a:pt x="19408" y="3556"/>
                  <a:pt x="19472" y="3547"/>
                </a:cubicBezTo>
                <a:cubicBezTo>
                  <a:pt x="19547" y="3699"/>
                  <a:pt x="19541" y="3827"/>
                  <a:pt x="19397" y="3944"/>
                </a:cubicBezTo>
                <a:cubicBezTo>
                  <a:pt x="19381" y="3952"/>
                  <a:pt x="19364" y="3961"/>
                  <a:pt x="19348" y="3969"/>
                </a:cubicBezTo>
                <a:cubicBezTo>
                  <a:pt x="19360" y="3812"/>
                  <a:pt x="19425" y="3804"/>
                  <a:pt x="19571" y="3894"/>
                </a:cubicBezTo>
                <a:cubicBezTo>
                  <a:pt x="19588" y="3911"/>
                  <a:pt x="19604" y="3927"/>
                  <a:pt x="19621" y="3944"/>
                </a:cubicBezTo>
              </a:path>
              <a:path w="2581" h="2060">
                <a:moveTo>
                  <a:pt x="19596" y="4887"/>
                </a:moveTo>
                <a:cubicBezTo>
                  <a:pt x="19633" y="5019"/>
                  <a:pt x="19701" y="4937"/>
                  <a:pt x="19769" y="4862"/>
                </a:cubicBezTo>
              </a:path>
              <a:path w="2581" h="2060">
                <a:moveTo>
                  <a:pt x="19769" y="4688"/>
                </a:moveTo>
                <a:cubicBezTo>
                  <a:pt x="19733" y="4789"/>
                  <a:pt x="19762" y="4878"/>
                  <a:pt x="19769" y="4986"/>
                </a:cubicBezTo>
              </a:path>
              <a:path w="2581" h="2060">
                <a:moveTo>
                  <a:pt x="19546" y="5283"/>
                </a:moveTo>
                <a:cubicBezTo>
                  <a:pt x="19690" y="5204"/>
                  <a:pt x="19814" y="5136"/>
                  <a:pt x="19968" y="5085"/>
                </a:cubicBezTo>
              </a:path>
              <a:path w="2581" h="2060">
                <a:moveTo>
                  <a:pt x="19869" y="5259"/>
                </a:moveTo>
                <a:cubicBezTo>
                  <a:pt x="19869" y="5342"/>
                  <a:pt x="19869" y="5424"/>
                  <a:pt x="19869" y="5507"/>
                </a:cubicBezTo>
              </a:path>
              <a:path w="2581" h="2060">
                <a:moveTo>
                  <a:pt x="20042" y="4266"/>
                </a:moveTo>
                <a:cubicBezTo>
                  <a:pt x="20118" y="4266"/>
                  <a:pt x="20144" y="4266"/>
                  <a:pt x="20191" y="4242"/>
                </a:cubicBezTo>
              </a:path>
              <a:path w="2581" h="2060">
                <a:moveTo>
                  <a:pt x="20117" y="4390"/>
                </a:moveTo>
                <a:cubicBezTo>
                  <a:pt x="20150" y="4374"/>
                  <a:pt x="20183" y="4357"/>
                  <a:pt x="20216" y="4341"/>
                </a:cubicBezTo>
              </a:path>
              <a:path w="2581" h="2060">
                <a:moveTo>
                  <a:pt x="20489" y="3795"/>
                </a:moveTo>
                <a:cubicBezTo>
                  <a:pt x="20609" y="3836"/>
                  <a:pt x="20762" y="3958"/>
                  <a:pt x="20737" y="4118"/>
                </a:cubicBezTo>
                <a:cubicBezTo>
                  <a:pt x="20709" y="4298"/>
                  <a:pt x="20598" y="4316"/>
                  <a:pt x="20464" y="4341"/>
                </a:cubicBezTo>
                <a:cubicBezTo>
                  <a:pt x="20518" y="4249"/>
                  <a:pt x="20622" y="4112"/>
                  <a:pt x="20762" y="4167"/>
                </a:cubicBezTo>
                <a:cubicBezTo>
                  <a:pt x="20808" y="4213"/>
                  <a:pt x="20822" y="4226"/>
                  <a:pt x="20836" y="4266"/>
                </a:cubicBezTo>
              </a:path>
              <a:path w="2581" h="2060">
                <a:moveTo>
                  <a:pt x="20836" y="3448"/>
                </a:moveTo>
                <a:cubicBezTo>
                  <a:pt x="20880" y="3558"/>
                  <a:pt x="20889" y="3587"/>
                  <a:pt x="20935" y="3646"/>
                </a:cubicBezTo>
              </a:path>
              <a:path w="2581" h="2060">
                <a:moveTo>
                  <a:pt x="20886" y="3969"/>
                </a:moveTo>
                <a:cubicBezTo>
                  <a:pt x="20996" y="3960"/>
                  <a:pt x="21056" y="3939"/>
                  <a:pt x="21158" y="3894"/>
                </a:cubicBezTo>
              </a:path>
              <a:path w="2581" h="2060">
                <a:moveTo>
                  <a:pt x="21084" y="4043"/>
                </a:moveTo>
                <a:cubicBezTo>
                  <a:pt x="21211" y="4043"/>
                  <a:pt x="21238" y="4034"/>
                  <a:pt x="21208" y="4167"/>
                </a:cubicBezTo>
                <a:cubicBezTo>
                  <a:pt x="21191" y="4241"/>
                  <a:pt x="21167" y="4294"/>
                  <a:pt x="21158" y="4366"/>
                </a:cubicBezTo>
                <a:cubicBezTo>
                  <a:pt x="21220" y="4335"/>
                  <a:pt x="21273" y="4304"/>
                  <a:pt x="21332" y="42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81160" y="4749840"/>
            <a:ext cx="44640" cy="100080"/>
          </a:xfrm>
          <a:custGeom>
            <a:avLst/>
            <a:gdLst/>
            <a:ahLst/>
            <a:rect l="l" t="t" r="r" b="b"/>
            <a:pathLst>
              <a:path w="126" h="274">
                <a:moveTo>
                  <a:pt x="5804" y="13196"/>
                </a:moveTo>
                <a:cubicBezTo>
                  <a:pt x="5843" y="13263"/>
                  <a:pt x="5872" y="13324"/>
                  <a:pt x="5904" y="13395"/>
                </a:cubicBezTo>
              </a:path>
              <a:path w="126" h="274">
                <a:moveTo>
                  <a:pt x="5854" y="13295"/>
                </a:moveTo>
                <a:cubicBezTo>
                  <a:pt x="5809" y="13385"/>
                  <a:pt x="5796" y="13408"/>
                  <a:pt x="5779" y="134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44840" y="4232160"/>
            <a:ext cx="617400" cy="625680"/>
          </a:xfrm>
          <a:custGeom>
            <a:avLst/>
            <a:gdLst/>
            <a:ahLst/>
            <a:rect l="l" t="t" r="r" b="b"/>
            <a:pathLst>
              <a:path w="1713" h="1738">
                <a:moveTo>
                  <a:pt x="7069" y="12576"/>
                </a:moveTo>
                <a:cubicBezTo>
                  <a:pt x="7160" y="12576"/>
                  <a:pt x="7251" y="12576"/>
                  <a:pt x="7342" y="12576"/>
                </a:cubicBezTo>
              </a:path>
              <a:path w="1713" h="1738">
                <a:moveTo>
                  <a:pt x="7193" y="12849"/>
                </a:moveTo>
                <a:cubicBezTo>
                  <a:pt x="7249" y="12877"/>
                  <a:pt x="7300" y="12874"/>
                  <a:pt x="7367" y="12874"/>
                </a:cubicBezTo>
              </a:path>
              <a:path w="1713" h="1738">
                <a:moveTo>
                  <a:pt x="7987" y="11857"/>
                </a:moveTo>
                <a:cubicBezTo>
                  <a:pt x="7795" y="11857"/>
                  <a:pt x="7795" y="11855"/>
                  <a:pt x="7789" y="12055"/>
                </a:cubicBezTo>
                <a:cubicBezTo>
                  <a:pt x="7789" y="12116"/>
                  <a:pt x="7780" y="12131"/>
                  <a:pt x="7813" y="12154"/>
                </a:cubicBezTo>
                <a:cubicBezTo>
                  <a:pt x="7960" y="12093"/>
                  <a:pt x="8019" y="12069"/>
                  <a:pt x="8161" y="12105"/>
                </a:cubicBezTo>
                <a:cubicBezTo>
                  <a:pt x="8125" y="12214"/>
                  <a:pt x="7964" y="12636"/>
                  <a:pt x="7764" y="12452"/>
                </a:cubicBezTo>
                <a:cubicBezTo>
                  <a:pt x="7756" y="12411"/>
                  <a:pt x="7747" y="12369"/>
                  <a:pt x="7739" y="12328"/>
                </a:cubicBezTo>
              </a:path>
              <a:path w="1713" h="1738">
                <a:moveTo>
                  <a:pt x="8359" y="11807"/>
                </a:moveTo>
                <a:cubicBezTo>
                  <a:pt x="8467" y="11765"/>
                  <a:pt x="8654" y="11748"/>
                  <a:pt x="8533" y="11931"/>
                </a:cubicBezTo>
                <a:cubicBezTo>
                  <a:pt x="8508" y="11956"/>
                  <a:pt x="8483" y="11980"/>
                  <a:pt x="8458" y="12005"/>
                </a:cubicBezTo>
                <a:cubicBezTo>
                  <a:pt x="8537" y="11915"/>
                  <a:pt x="8715" y="11900"/>
                  <a:pt x="8706" y="12080"/>
                </a:cubicBezTo>
                <a:cubicBezTo>
                  <a:pt x="8698" y="12242"/>
                  <a:pt x="8556" y="12305"/>
                  <a:pt x="8434" y="12254"/>
                </a:cubicBezTo>
              </a:path>
              <a:path w="1713" h="1738">
                <a:moveTo>
                  <a:pt x="7739" y="12700"/>
                </a:moveTo>
                <a:cubicBezTo>
                  <a:pt x="8053" y="12663"/>
                  <a:pt x="8342" y="12525"/>
                  <a:pt x="8657" y="12477"/>
                </a:cubicBezTo>
                <a:cubicBezTo>
                  <a:pt x="8698" y="12477"/>
                  <a:pt x="8740" y="12477"/>
                  <a:pt x="8781" y="12477"/>
                </a:cubicBezTo>
              </a:path>
              <a:path w="1713" h="1738">
                <a:moveTo>
                  <a:pt x="8409" y="12774"/>
                </a:moveTo>
                <a:cubicBezTo>
                  <a:pt x="8367" y="12801"/>
                  <a:pt x="8088" y="12925"/>
                  <a:pt x="8086" y="12948"/>
                </a:cubicBezTo>
                <a:cubicBezTo>
                  <a:pt x="8111" y="13046"/>
                  <a:pt x="8119" y="13078"/>
                  <a:pt x="8111" y="13146"/>
                </a:cubicBezTo>
                <a:cubicBezTo>
                  <a:pt x="8299" y="13084"/>
                  <a:pt x="8384" y="13001"/>
                  <a:pt x="8582" y="13047"/>
                </a:cubicBezTo>
                <a:cubicBezTo>
                  <a:pt x="8434" y="13288"/>
                  <a:pt x="8352" y="13352"/>
                  <a:pt x="8111" y="134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4062240"/>
            <a:ext cx="36360" cy="46080"/>
          </a:xfrm>
          <a:custGeom>
            <a:avLst/>
            <a:gdLst/>
            <a:ahLst/>
            <a:rect l="l" t="t" r="r" b="b"/>
            <a:pathLst>
              <a:path w="101" h="125">
                <a:moveTo>
                  <a:pt x="5978" y="11286"/>
                </a:moveTo>
                <a:cubicBezTo>
                  <a:pt x="6000" y="11351"/>
                  <a:pt x="6008" y="11366"/>
                  <a:pt x="6003" y="11410"/>
                </a:cubicBezTo>
              </a:path>
              <a:path w="101" h="125">
                <a:moveTo>
                  <a:pt x="5928" y="11361"/>
                </a:moveTo>
                <a:cubicBezTo>
                  <a:pt x="5975" y="11361"/>
                  <a:pt x="6001" y="11349"/>
                  <a:pt x="6028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00720" y="1455840"/>
            <a:ext cx="357120" cy="785880"/>
          </a:xfrm>
          <a:custGeom>
            <a:avLst/>
            <a:gdLst/>
            <a:ahLst/>
            <a:rect l="l" t="t" r="r" b="b"/>
            <a:pathLst>
              <a:path w="993" h="2184">
                <a:moveTo>
                  <a:pt x="12650" y="4539"/>
                </a:moveTo>
                <a:cubicBezTo>
                  <a:pt x="12639" y="4760"/>
                  <a:pt x="12606" y="4798"/>
                  <a:pt x="12824" y="4688"/>
                </a:cubicBezTo>
              </a:path>
              <a:path w="993" h="2184">
                <a:moveTo>
                  <a:pt x="12849" y="4415"/>
                </a:moveTo>
                <a:cubicBezTo>
                  <a:pt x="12849" y="4589"/>
                  <a:pt x="12849" y="4762"/>
                  <a:pt x="12849" y="4936"/>
                </a:cubicBezTo>
              </a:path>
              <a:path w="993" h="2184">
                <a:moveTo>
                  <a:pt x="13171" y="4366"/>
                </a:moveTo>
                <a:cubicBezTo>
                  <a:pt x="13085" y="4430"/>
                  <a:pt x="13019" y="4475"/>
                  <a:pt x="13097" y="4564"/>
                </a:cubicBezTo>
                <a:cubicBezTo>
                  <a:pt x="13183" y="4663"/>
                  <a:pt x="13223" y="4692"/>
                  <a:pt x="13271" y="4812"/>
                </a:cubicBezTo>
                <a:cubicBezTo>
                  <a:pt x="13132" y="4867"/>
                  <a:pt x="13165" y="4598"/>
                  <a:pt x="13171" y="4514"/>
                </a:cubicBezTo>
                <a:cubicBezTo>
                  <a:pt x="13190" y="4382"/>
                  <a:pt x="13198" y="4366"/>
                  <a:pt x="13196" y="4291"/>
                </a:cubicBezTo>
              </a:path>
              <a:path w="993" h="2184">
                <a:moveTo>
                  <a:pt x="13097" y="5011"/>
                </a:moveTo>
                <a:cubicBezTo>
                  <a:pt x="13164" y="5005"/>
                  <a:pt x="13309" y="4935"/>
                  <a:pt x="13320" y="5060"/>
                </a:cubicBezTo>
                <a:cubicBezTo>
                  <a:pt x="13298" y="5168"/>
                  <a:pt x="13295" y="5195"/>
                  <a:pt x="13271" y="5259"/>
                </a:cubicBezTo>
              </a:path>
              <a:path w="993" h="2184">
                <a:moveTo>
                  <a:pt x="12675" y="5085"/>
                </a:moveTo>
                <a:cubicBezTo>
                  <a:pt x="12685" y="5194"/>
                  <a:pt x="12700" y="5297"/>
                  <a:pt x="12700" y="5407"/>
                </a:cubicBezTo>
              </a:path>
              <a:path w="993" h="2184">
                <a:moveTo>
                  <a:pt x="12551" y="5283"/>
                </a:moveTo>
                <a:cubicBezTo>
                  <a:pt x="12650" y="5235"/>
                  <a:pt x="12748" y="5200"/>
                  <a:pt x="12849" y="5159"/>
                </a:cubicBezTo>
              </a:path>
              <a:path w="993" h="2184">
                <a:moveTo>
                  <a:pt x="12551" y="5606"/>
                </a:moveTo>
                <a:cubicBezTo>
                  <a:pt x="12769" y="5493"/>
                  <a:pt x="12993" y="5431"/>
                  <a:pt x="13246" y="5407"/>
                </a:cubicBezTo>
                <a:cubicBezTo>
                  <a:pt x="13333" y="5399"/>
                  <a:pt x="13408" y="5395"/>
                  <a:pt x="13494" y="5383"/>
                </a:cubicBezTo>
              </a:path>
              <a:path w="993" h="2184">
                <a:moveTo>
                  <a:pt x="13469" y="5556"/>
                </a:moveTo>
                <a:cubicBezTo>
                  <a:pt x="13374" y="5572"/>
                  <a:pt x="13265" y="5590"/>
                  <a:pt x="13246" y="5705"/>
                </a:cubicBezTo>
                <a:cubicBezTo>
                  <a:pt x="13246" y="5788"/>
                  <a:pt x="13246" y="5804"/>
                  <a:pt x="13246" y="5854"/>
                </a:cubicBezTo>
                <a:cubicBezTo>
                  <a:pt x="13346" y="5804"/>
                  <a:pt x="13394" y="5770"/>
                  <a:pt x="13494" y="5779"/>
                </a:cubicBezTo>
                <a:cubicBezTo>
                  <a:pt x="13476" y="5911"/>
                  <a:pt x="13466" y="6108"/>
                  <a:pt x="13295" y="6102"/>
                </a:cubicBezTo>
                <a:cubicBezTo>
                  <a:pt x="13262" y="6094"/>
                  <a:pt x="13229" y="6085"/>
                  <a:pt x="13196" y="6077"/>
                </a:cubicBezTo>
              </a:path>
              <a:path w="993" h="2184">
                <a:moveTo>
                  <a:pt x="12502" y="4043"/>
                </a:moveTo>
                <a:cubicBezTo>
                  <a:pt x="12534" y="4132"/>
                  <a:pt x="12554" y="4223"/>
                  <a:pt x="12576" y="4316"/>
                </a:cubicBezTo>
              </a:path>
              <a:path w="993" h="2184">
                <a:moveTo>
                  <a:pt x="12973" y="5779"/>
                </a:moveTo>
                <a:cubicBezTo>
                  <a:pt x="12905" y="5855"/>
                  <a:pt x="12780" y="5835"/>
                  <a:pt x="12750" y="5879"/>
                </a:cubicBezTo>
                <a:cubicBezTo>
                  <a:pt x="12694" y="5963"/>
                  <a:pt x="12836" y="5986"/>
                  <a:pt x="12874" y="6003"/>
                </a:cubicBezTo>
                <a:cubicBezTo>
                  <a:pt x="12960" y="6040"/>
                  <a:pt x="12997" y="6183"/>
                  <a:pt x="12898" y="6226"/>
                </a:cubicBezTo>
                <a:cubicBezTo>
                  <a:pt x="12857" y="6226"/>
                  <a:pt x="12849" y="6226"/>
                  <a:pt x="12824" y="62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05120" y="2357280"/>
            <a:ext cx="644760" cy="428760"/>
          </a:xfrm>
          <a:custGeom>
            <a:avLst/>
            <a:gdLst/>
            <a:ahLst/>
            <a:rect l="l" t="t" r="r" b="b"/>
            <a:pathLst>
              <a:path w="1787" h="1192">
                <a:moveTo>
                  <a:pt x="10319" y="7169"/>
                </a:moveTo>
                <a:cubicBezTo>
                  <a:pt x="10318" y="7119"/>
                  <a:pt x="10474" y="7100"/>
                  <a:pt x="10567" y="7069"/>
                </a:cubicBezTo>
              </a:path>
              <a:path w="1787" h="1192">
                <a:moveTo>
                  <a:pt x="10393" y="7342"/>
                </a:moveTo>
                <a:cubicBezTo>
                  <a:pt x="10450" y="7326"/>
                  <a:pt x="10510" y="7304"/>
                  <a:pt x="10567" y="7293"/>
                </a:cubicBezTo>
              </a:path>
              <a:path w="1787" h="1192">
                <a:moveTo>
                  <a:pt x="11559" y="6598"/>
                </a:moveTo>
                <a:cubicBezTo>
                  <a:pt x="11463" y="6622"/>
                  <a:pt x="11331" y="6584"/>
                  <a:pt x="11311" y="6697"/>
                </a:cubicBezTo>
                <a:cubicBezTo>
                  <a:pt x="11311" y="6788"/>
                  <a:pt x="11311" y="6796"/>
                  <a:pt x="11311" y="6846"/>
                </a:cubicBezTo>
                <a:cubicBezTo>
                  <a:pt x="11447" y="6819"/>
                  <a:pt x="11487" y="6772"/>
                  <a:pt x="11609" y="6846"/>
                </a:cubicBezTo>
                <a:cubicBezTo>
                  <a:pt x="11581" y="7014"/>
                  <a:pt x="11527" y="7012"/>
                  <a:pt x="11361" y="7020"/>
                </a:cubicBezTo>
                <a:cubicBezTo>
                  <a:pt x="11353" y="7020"/>
                  <a:pt x="11344" y="7020"/>
                  <a:pt x="11336" y="7020"/>
                </a:cubicBezTo>
              </a:path>
              <a:path w="1787" h="1192">
                <a:moveTo>
                  <a:pt x="12055" y="6548"/>
                </a:moveTo>
                <a:cubicBezTo>
                  <a:pt x="11955" y="6611"/>
                  <a:pt x="11803" y="6528"/>
                  <a:pt x="11733" y="6623"/>
                </a:cubicBezTo>
                <a:cubicBezTo>
                  <a:pt x="11686" y="6686"/>
                  <a:pt x="11702" y="6746"/>
                  <a:pt x="11733" y="6796"/>
                </a:cubicBezTo>
                <a:cubicBezTo>
                  <a:pt x="11823" y="6769"/>
                  <a:pt x="11914" y="6745"/>
                  <a:pt x="12005" y="6722"/>
                </a:cubicBezTo>
                <a:cubicBezTo>
                  <a:pt x="12064" y="6830"/>
                  <a:pt x="12136" y="6996"/>
                  <a:pt x="11931" y="7020"/>
                </a:cubicBezTo>
                <a:cubicBezTo>
                  <a:pt x="11839" y="6997"/>
                  <a:pt x="11814" y="6991"/>
                  <a:pt x="11757" y="6970"/>
                </a:cubicBezTo>
              </a:path>
              <a:path w="1787" h="1192">
                <a:moveTo>
                  <a:pt x="11237" y="7193"/>
                </a:moveTo>
                <a:cubicBezTo>
                  <a:pt x="11463" y="7216"/>
                  <a:pt x="11608" y="7186"/>
                  <a:pt x="11832" y="7144"/>
                </a:cubicBezTo>
                <a:cubicBezTo>
                  <a:pt x="11956" y="7123"/>
                  <a:pt x="11980" y="7115"/>
                  <a:pt x="12055" y="7119"/>
                </a:cubicBezTo>
              </a:path>
              <a:path w="1787" h="1192">
                <a:moveTo>
                  <a:pt x="11733" y="7243"/>
                </a:moveTo>
                <a:cubicBezTo>
                  <a:pt x="11608" y="7310"/>
                  <a:pt x="11511" y="7388"/>
                  <a:pt x="11460" y="7516"/>
                </a:cubicBezTo>
                <a:cubicBezTo>
                  <a:pt x="11641" y="7533"/>
                  <a:pt x="11699" y="7545"/>
                  <a:pt x="11782" y="7689"/>
                </a:cubicBezTo>
                <a:cubicBezTo>
                  <a:pt x="11604" y="7825"/>
                  <a:pt x="11671" y="7574"/>
                  <a:pt x="11708" y="7466"/>
                </a:cubicBezTo>
                <a:cubicBezTo>
                  <a:pt x="11765" y="7334"/>
                  <a:pt x="11770" y="7315"/>
                  <a:pt x="11807" y="72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2633760"/>
            <a:ext cx="63360" cy="135000"/>
          </a:xfrm>
          <a:custGeom>
            <a:avLst/>
            <a:gdLst/>
            <a:ahLst/>
            <a:rect l="l" t="t" r="r" b="b"/>
            <a:pathLst>
              <a:path w="175" h="373">
                <a:moveTo>
                  <a:pt x="9103" y="7417"/>
                </a:moveTo>
                <a:cubicBezTo>
                  <a:pt x="9206" y="7453"/>
                  <a:pt x="9261" y="7456"/>
                  <a:pt x="9277" y="7565"/>
                </a:cubicBezTo>
              </a:path>
              <a:path w="175" h="373">
                <a:moveTo>
                  <a:pt x="9203" y="7417"/>
                </a:moveTo>
                <a:cubicBezTo>
                  <a:pt x="9167" y="7518"/>
                  <a:pt x="9142" y="7582"/>
                  <a:pt x="9128" y="7689"/>
                </a:cubicBezTo>
              </a:path>
              <a:path w="175" h="373">
                <a:moveTo>
                  <a:pt x="9227" y="7317"/>
                </a:moveTo>
                <a:cubicBezTo>
                  <a:pt x="9222" y="7377"/>
                  <a:pt x="9214" y="7411"/>
                  <a:pt x="9203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76960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Skill Practice:  Multipl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19320" y="1295280"/>
          <a:ext cx="1295280" cy="89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295280"/>
                    <a:ext cx="129528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952880" y="1295280"/>
          <a:ext cx="1219320" cy="87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1295280"/>
                    <a:ext cx="12193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219320" y="3657600"/>
          <a:ext cx="1066680" cy="806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19320" y="3657600"/>
                    <a:ext cx="106668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4876920" y="3657600"/>
          <a:ext cx="1752480" cy="836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76920" y="3657600"/>
                    <a:ext cx="17524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1366920" y="1901880"/>
            <a:ext cx="54000" cy="71280"/>
          </a:xfrm>
          <a:custGeom>
            <a:avLst/>
            <a:gdLst/>
            <a:ahLst/>
            <a:rect l="l" t="t" r="r" b="b"/>
            <a:pathLst>
              <a:path w="150" h="200">
                <a:moveTo>
                  <a:pt x="3795" y="5333"/>
                </a:moveTo>
                <a:cubicBezTo>
                  <a:pt x="3845" y="5358"/>
                  <a:pt x="3861" y="5366"/>
                  <a:pt x="3870" y="5407"/>
                </a:cubicBezTo>
              </a:path>
              <a:path w="150" h="200">
                <a:moveTo>
                  <a:pt x="3944" y="5283"/>
                </a:moveTo>
                <a:cubicBezTo>
                  <a:pt x="3873" y="5379"/>
                  <a:pt x="3850" y="5409"/>
                  <a:pt x="3820" y="54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84200" y="2340000"/>
            <a:ext cx="277920" cy="490680"/>
          </a:xfrm>
          <a:custGeom>
            <a:avLst/>
            <a:gdLst/>
            <a:ahLst/>
            <a:rect l="l" t="t" r="r" b="b"/>
            <a:pathLst>
              <a:path w="770" h="1365">
                <a:moveTo>
                  <a:pt x="3994" y="6499"/>
                </a:moveTo>
                <a:cubicBezTo>
                  <a:pt x="3994" y="6652"/>
                  <a:pt x="3992" y="6777"/>
                  <a:pt x="3944" y="6921"/>
                </a:cubicBezTo>
              </a:path>
              <a:path w="770" h="1365">
                <a:moveTo>
                  <a:pt x="4366" y="6499"/>
                </a:moveTo>
                <a:cubicBezTo>
                  <a:pt x="4366" y="6631"/>
                  <a:pt x="4366" y="6764"/>
                  <a:pt x="4366" y="6896"/>
                </a:cubicBezTo>
              </a:path>
              <a:path w="770" h="1365">
                <a:moveTo>
                  <a:pt x="3845" y="7119"/>
                </a:moveTo>
                <a:cubicBezTo>
                  <a:pt x="4084" y="7095"/>
                  <a:pt x="4324" y="7076"/>
                  <a:pt x="4564" y="7069"/>
                </a:cubicBezTo>
                <a:cubicBezTo>
                  <a:pt x="4581" y="7069"/>
                  <a:pt x="4597" y="7069"/>
                  <a:pt x="4614" y="7069"/>
                </a:cubicBezTo>
              </a:path>
              <a:path w="770" h="1365">
                <a:moveTo>
                  <a:pt x="4192" y="7392"/>
                </a:moveTo>
                <a:cubicBezTo>
                  <a:pt x="4025" y="7392"/>
                  <a:pt x="4051" y="7441"/>
                  <a:pt x="3994" y="7590"/>
                </a:cubicBezTo>
                <a:cubicBezTo>
                  <a:pt x="3986" y="7607"/>
                  <a:pt x="3977" y="7623"/>
                  <a:pt x="3969" y="7640"/>
                </a:cubicBezTo>
                <a:cubicBezTo>
                  <a:pt x="4031" y="7609"/>
                  <a:pt x="4218" y="7452"/>
                  <a:pt x="4291" y="7565"/>
                </a:cubicBezTo>
                <a:cubicBezTo>
                  <a:pt x="4430" y="7781"/>
                  <a:pt x="4169" y="7838"/>
                  <a:pt x="4043" y="78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28840" y="1330200"/>
            <a:ext cx="63360" cy="71640"/>
          </a:xfrm>
          <a:custGeom>
            <a:avLst/>
            <a:gdLst/>
            <a:ahLst/>
            <a:rect l="l" t="t" r="r" b="b"/>
            <a:pathLst>
              <a:path w="174" h="199">
                <a:moveTo>
                  <a:pt x="4043" y="3696"/>
                </a:moveTo>
                <a:cubicBezTo>
                  <a:pt x="4050" y="3763"/>
                  <a:pt x="4061" y="3827"/>
                  <a:pt x="4068" y="3894"/>
                </a:cubicBezTo>
              </a:path>
              <a:path w="174" h="199">
                <a:moveTo>
                  <a:pt x="3969" y="3770"/>
                </a:moveTo>
                <a:cubicBezTo>
                  <a:pt x="4027" y="3770"/>
                  <a:pt x="4084" y="3770"/>
                  <a:pt x="4142" y="37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68320" y="2098800"/>
            <a:ext cx="1152720" cy="812520"/>
          </a:xfrm>
          <a:custGeom>
            <a:avLst/>
            <a:gdLst/>
            <a:ahLst/>
            <a:rect l="l" t="t" r="r" b="b"/>
            <a:pathLst>
              <a:path w="3201" h="2258">
                <a:moveTo>
                  <a:pt x="4911" y="7094"/>
                </a:moveTo>
                <a:cubicBezTo>
                  <a:pt x="4957" y="7146"/>
                  <a:pt x="4980" y="7181"/>
                  <a:pt x="5011" y="7243"/>
                </a:cubicBezTo>
              </a:path>
              <a:path w="3201" h="2258">
                <a:moveTo>
                  <a:pt x="5011" y="7045"/>
                </a:moveTo>
                <a:cubicBezTo>
                  <a:pt x="4960" y="7117"/>
                  <a:pt x="4945" y="7152"/>
                  <a:pt x="4936" y="7243"/>
                </a:cubicBezTo>
              </a:path>
              <a:path w="3201" h="2258">
                <a:moveTo>
                  <a:pt x="5308" y="6796"/>
                </a:moveTo>
                <a:cubicBezTo>
                  <a:pt x="5291" y="6863"/>
                  <a:pt x="5283" y="6901"/>
                  <a:pt x="5283" y="6970"/>
                </a:cubicBezTo>
                <a:cubicBezTo>
                  <a:pt x="5391" y="6970"/>
                  <a:pt x="5431" y="6965"/>
                  <a:pt x="5482" y="6896"/>
                </a:cubicBezTo>
              </a:path>
              <a:path w="3201" h="2258">
                <a:moveTo>
                  <a:pt x="5507" y="6623"/>
                </a:moveTo>
                <a:cubicBezTo>
                  <a:pt x="5484" y="6790"/>
                  <a:pt x="5464" y="6951"/>
                  <a:pt x="5457" y="7119"/>
                </a:cubicBezTo>
              </a:path>
              <a:path w="3201" h="2258">
                <a:moveTo>
                  <a:pt x="5135" y="7268"/>
                </a:moveTo>
                <a:cubicBezTo>
                  <a:pt x="5298" y="7251"/>
                  <a:pt x="5447" y="7191"/>
                  <a:pt x="5606" y="7169"/>
                </a:cubicBezTo>
              </a:path>
              <a:path w="3201" h="2258">
                <a:moveTo>
                  <a:pt x="5631" y="7441"/>
                </a:moveTo>
                <a:cubicBezTo>
                  <a:pt x="5500" y="7409"/>
                  <a:pt x="5435" y="7401"/>
                  <a:pt x="5383" y="7541"/>
                </a:cubicBezTo>
                <a:cubicBezTo>
                  <a:pt x="5383" y="7549"/>
                  <a:pt x="5383" y="7557"/>
                  <a:pt x="5383" y="7565"/>
                </a:cubicBezTo>
                <a:cubicBezTo>
                  <a:pt x="5418" y="7555"/>
                  <a:pt x="5572" y="7452"/>
                  <a:pt x="5581" y="7491"/>
                </a:cubicBezTo>
                <a:cubicBezTo>
                  <a:pt x="5606" y="7595"/>
                  <a:pt x="5576" y="7713"/>
                  <a:pt x="5556" y="7813"/>
                </a:cubicBezTo>
              </a:path>
              <a:path w="3201" h="2258">
                <a:moveTo>
                  <a:pt x="5854" y="7193"/>
                </a:moveTo>
                <a:cubicBezTo>
                  <a:pt x="5928" y="7169"/>
                  <a:pt x="5953" y="7161"/>
                  <a:pt x="6003" y="7144"/>
                </a:cubicBezTo>
              </a:path>
              <a:path w="3201" h="2258">
                <a:moveTo>
                  <a:pt x="5879" y="7293"/>
                </a:moveTo>
                <a:cubicBezTo>
                  <a:pt x="5940" y="7293"/>
                  <a:pt x="5982" y="7279"/>
                  <a:pt x="6028" y="7243"/>
                </a:cubicBezTo>
              </a:path>
              <a:path w="3201" h="2258">
                <a:moveTo>
                  <a:pt x="6499" y="6375"/>
                </a:moveTo>
                <a:cubicBezTo>
                  <a:pt x="6474" y="6440"/>
                  <a:pt x="6448" y="6537"/>
                  <a:pt x="6573" y="6499"/>
                </a:cubicBezTo>
                <a:cubicBezTo>
                  <a:pt x="6606" y="6482"/>
                  <a:pt x="6639" y="6466"/>
                  <a:pt x="6672" y="6449"/>
                </a:cubicBezTo>
              </a:path>
              <a:path w="3201" h="2258">
                <a:moveTo>
                  <a:pt x="6722" y="6226"/>
                </a:moveTo>
                <a:cubicBezTo>
                  <a:pt x="6700" y="6383"/>
                  <a:pt x="6673" y="6552"/>
                  <a:pt x="6722" y="6697"/>
                </a:cubicBezTo>
              </a:path>
              <a:path w="3201" h="2258">
                <a:moveTo>
                  <a:pt x="6995" y="6152"/>
                </a:moveTo>
                <a:cubicBezTo>
                  <a:pt x="6975" y="6243"/>
                  <a:pt x="6926" y="6348"/>
                  <a:pt x="7069" y="6325"/>
                </a:cubicBezTo>
                <a:cubicBezTo>
                  <a:pt x="7141" y="6301"/>
                  <a:pt x="7164" y="6295"/>
                  <a:pt x="7193" y="6251"/>
                </a:cubicBezTo>
              </a:path>
              <a:path w="3201" h="2258">
                <a:moveTo>
                  <a:pt x="7144" y="6028"/>
                </a:moveTo>
                <a:cubicBezTo>
                  <a:pt x="7144" y="6212"/>
                  <a:pt x="7137" y="6394"/>
                  <a:pt x="7169" y="6573"/>
                </a:cubicBezTo>
              </a:path>
              <a:path w="3201" h="2258">
                <a:moveTo>
                  <a:pt x="6548" y="6945"/>
                </a:moveTo>
                <a:cubicBezTo>
                  <a:pt x="6702" y="6896"/>
                  <a:pt x="6882" y="6893"/>
                  <a:pt x="7045" y="6871"/>
                </a:cubicBezTo>
                <a:cubicBezTo>
                  <a:pt x="7160" y="6855"/>
                  <a:pt x="7254" y="6846"/>
                  <a:pt x="7367" y="6846"/>
                </a:cubicBezTo>
              </a:path>
              <a:path w="3201" h="2258">
                <a:moveTo>
                  <a:pt x="6648" y="7169"/>
                </a:moveTo>
                <a:cubicBezTo>
                  <a:pt x="6566" y="7303"/>
                  <a:pt x="6746" y="7261"/>
                  <a:pt x="6821" y="7218"/>
                </a:cubicBezTo>
                <a:cubicBezTo>
                  <a:pt x="6838" y="7202"/>
                  <a:pt x="6854" y="7185"/>
                  <a:pt x="6871" y="7169"/>
                </a:cubicBezTo>
              </a:path>
              <a:path w="3201" h="2258">
                <a:moveTo>
                  <a:pt x="6821" y="7094"/>
                </a:moveTo>
                <a:cubicBezTo>
                  <a:pt x="6821" y="7226"/>
                  <a:pt x="6821" y="7359"/>
                  <a:pt x="6821" y="7491"/>
                </a:cubicBezTo>
              </a:path>
              <a:path w="3201" h="2258">
                <a:moveTo>
                  <a:pt x="7169" y="7045"/>
                </a:moveTo>
                <a:cubicBezTo>
                  <a:pt x="7065" y="7101"/>
                  <a:pt x="7026" y="7093"/>
                  <a:pt x="6995" y="7218"/>
                </a:cubicBezTo>
                <a:cubicBezTo>
                  <a:pt x="6995" y="7226"/>
                  <a:pt x="6995" y="7235"/>
                  <a:pt x="6995" y="7243"/>
                </a:cubicBezTo>
                <a:cubicBezTo>
                  <a:pt x="7092" y="7224"/>
                  <a:pt x="7323" y="7150"/>
                  <a:pt x="7367" y="7293"/>
                </a:cubicBezTo>
                <a:cubicBezTo>
                  <a:pt x="7404" y="7415"/>
                  <a:pt x="7261" y="7493"/>
                  <a:pt x="7193" y="7541"/>
                </a:cubicBezTo>
              </a:path>
              <a:path w="3201" h="2258">
                <a:moveTo>
                  <a:pt x="6598" y="8037"/>
                </a:moveTo>
                <a:cubicBezTo>
                  <a:pt x="6879" y="8083"/>
                  <a:pt x="7189" y="8071"/>
                  <a:pt x="7466" y="7962"/>
                </a:cubicBezTo>
                <a:cubicBezTo>
                  <a:pt x="7808" y="7827"/>
                  <a:pt x="7970" y="7478"/>
                  <a:pt x="8062" y="7144"/>
                </a:cubicBezTo>
                <a:cubicBezTo>
                  <a:pt x="8166" y="6765"/>
                  <a:pt x="8042" y="6443"/>
                  <a:pt x="7764" y="6176"/>
                </a:cubicBezTo>
                <a:cubicBezTo>
                  <a:pt x="7553" y="5973"/>
                  <a:pt x="7352" y="5901"/>
                  <a:pt x="7069" y="5854"/>
                </a:cubicBezTo>
                <a:cubicBezTo>
                  <a:pt x="6849" y="5818"/>
                  <a:pt x="6650" y="5815"/>
                  <a:pt x="6449" y="5928"/>
                </a:cubicBezTo>
                <a:cubicBezTo>
                  <a:pt x="6268" y="6030"/>
                  <a:pt x="6173" y="6220"/>
                  <a:pt x="6152" y="6424"/>
                </a:cubicBezTo>
                <a:cubicBezTo>
                  <a:pt x="6121" y="6724"/>
                  <a:pt x="6202" y="6975"/>
                  <a:pt x="6325" y="7243"/>
                </a:cubicBezTo>
                <a:cubicBezTo>
                  <a:pt x="6398" y="7403"/>
                  <a:pt x="6542" y="7644"/>
                  <a:pt x="6697" y="7739"/>
                </a:cubicBezTo>
                <a:cubicBezTo>
                  <a:pt x="6730" y="7747"/>
                  <a:pt x="6763" y="7756"/>
                  <a:pt x="6796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15040" y="1224000"/>
            <a:ext cx="1751040" cy="1133280"/>
          </a:xfrm>
          <a:custGeom>
            <a:avLst/>
            <a:gdLst/>
            <a:ahLst/>
            <a:rect l="l" t="t" r="r" b="b"/>
            <a:pathLst>
              <a:path w="4863" h="3151">
                <a:moveTo>
                  <a:pt x="17363" y="3820"/>
                </a:moveTo>
                <a:cubicBezTo>
                  <a:pt x="17435" y="3877"/>
                  <a:pt x="17315" y="3992"/>
                  <a:pt x="17487" y="4043"/>
                </a:cubicBezTo>
                <a:cubicBezTo>
                  <a:pt x="17528" y="4043"/>
                  <a:pt x="17570" y="4043"/>
                  <a:pt x="17611" y="4043"/>
                </a:cubicBezTo>
              </a:path>
              <a:path w="4863" h="3151">
                <a:moveTo>
                  <a:pt x="17636" y="3671"/>
                </a:moveTo>
                <a:cubicBezTo>
                  <a:pt x="17681" y="3834"/>
                  <a:pt x="17681" y="4019"/>
                  <a:pt x="17686" y="4192"/>
                </a:cubicBezTo>
                <a:cubicBezTo>
                  <a:pt x="17686" y="4209"/>
                  <a:pt x="17686" y="4225"/>
                  <a:pt x="17686" y="4242"/>
                </a:cubicBezTo>
              </a:path>
              <a:path w="4863" h="3151">
                <a:moveTo>
                  <a:pt x="18083" y="3646"/>
                </a:moveTo>
                <a:cubicBezTo>
                  <a:pt x="17965" y="3838"/>
                  <a:pt x="17975" y="3956"/>
                  <a:pt x="18033" y="4167"/>
                </a:cubicBezTo>
                <a:cubicBezTo>
                  <a:pt x="18201" y="4139"/>
                  <a:pt x="18431" y="4078"/>
                  <a:pt x="18331" y="3845"/>
                </a:cubicBezTo>
                <a:cubicBezTo>
                  <a:pt x="18252" y="3766"/>
                  <a:pt x="18221" y="3741"/>
                  <a:pt x="18132" y="3770"/>
                </a:cubicBezTo>
              </a:path>
              <a:path w="4863" h="3151">
                <a:moveTo>
                  <a:pt x="17462" y="4490"/>
                </a:moveTo>
                <a:cubicBezTo>
                  <a:pt x="17735" y="4443"/>
                  <a:pt x="18004" y="4404"/>
                  <a:pt x="18281" y="4390"/>
                </a:cubicBezTo>
              </a:path>
              <a:path w="4863" h="3151">
                <a:moveTo>
                  <a:pt x="21183" y="4589"/>
                </a:moveTo>
                <a:cubicBezTo>
                  <a:pt x="21205" y="4739"/>
                  <a:pt x="21227" y="4887"/>
                  <a:pt x="21258" y="5035"/>
                </a:cubicBezTo>
              </a:path>
              <a:path w="4863" h="3151">
                <a:moveTo>
                  <a:pt x="21481" y="4514"/>
                </a:moveTo>
                <a:cubicBezTo>
                  <a:pt x="21412" y="4560"/>
                  <a:pt x="21391" y="4572"/>
                  <a:pt x="21357" y="4614"/>
                </a:cubicBezTo>
                <a:cubicBezTo>
                  <a:pt x="21509" y="4686"/>
                  <a:pt x="21635" y="4696"/>
                  <a:pt x="21729" y="4837"/>
                </a:cubicBezTo>
                <a:cubicBezTo>
                  <a:pt x="21656" y="4910"/>
                  <a:pt x="21633" y="4934"/>
                  <a:pt x="21555" y="4911"/>
                </a:cubicBezTo>
              </a:path>
              <a:path w="4863" h="3151">
                <a:moveTo>
                  <a:pt x="21530" y="4614"/>
                </a:moveTo>
                <a:cubicBezTo>
                  <a:pt x="21620" y="4546"/>
                  <a:pt x="21700" y="4511"/>
                  <a:pt x="21803" y="4465"/>
                </a:cubicBezTo>
              </a:path>
              <a:path w="4863" h="3151">
                <a:moveTo>
                  <a:pt x="21679" y="5085"/>
                </a:moveTo>
                <a:cubicBezTo>
                  <a:pt x="21627" y="5219"/>
                  <a:pt x="21578" y="5345"/>
                  <a:pt x="21605" y="5482"/>
                </a:cubicBezTo>
                <a:cubicBezTo>
                  <a:pt x="21707" y="5476"/>
                  <a:pt x="21924" y="5308"/>
                  <a:pt x="21878" y="5308"/>
                </a:cubicBezTo>
                <a:cubicBezTo>
                  <a:pt x="21785" y="5355"/>
                  <a:pt x="21756" y="5365"/>
                  <a:pt x="21729" y="5432"/>
                </a:cubicBezTo>
              </a:path>
              <a:path w="4863" h="3151">
                <a:moveTo>
                  <a:pt x="21183" y="5779"/>
                </a:moveTo>
                <a:cubicBezTo>
                  <a:pt x="21464" y="5729"/>
                  <a:pt x="21747" y="5709"/>
                  <a:pt x="22027" y="5655"/>
                </a:cubicBezTo>
              </a:path>
              <a:path w="4863" h="3151">
                <a:moveTo>
                  <a:pt x="20762" y="5333"/>
                </a:moveTo>
                <a:cubicBezTo>
                  <a:pt x="20798" y="5415"/>
                  <a:pt x="20831" y="5497"/>
                  <a:pt x="20861" y="5581"/>
                </a:cubicBezTo>
              </a:path>
              <a:path w="4863" h="3151">
                <a:moveTo>
                  <a:pt x="20935" y="5283"/>
                </a:moveTo>
                <a:cubicBezTo>
                  <a:pt x="20863" y="5427"/>
                  <a:pt x="20807" y="5547"/>
                  <a:pt x="20786" y="5705"/>
                </a:cubicBezTo>
              </a:path>
              <a:path w="4863" h="3151">
                <a:moveTo>
                  <a:pt x="21903" y="6003"/>
                </a:moveTo>
                <a:cubicBezTo>
                  <a:pt x="21837" y="6154"/>
                  <a:pt x="21780" y="6235"/>
                  <a:pt x="21803" y="6400"/>
                </a:cubicBezTo>
                <a:cubicBezTo>
                  <a:pt x="21904" y="6423"/>
                  <a:pt x="22262" y="6391"/>
                  <a:pt x="22101" y="6176"/>
                </a:cubicBezTo>
                <a:cubicBezTo>
                  <a:pt x="21989" y="6109"/>
                  <a:pt x="21961" y="6088"/>
                  <a:pt x="21878" y="6077"/>
                </a:cubicBezTo>
              </a:path>
              <a:path w="4863" h="3151">
                <a:moveTo>
                  <a:pt x="20836" y="4043"/>
                </a:moveTo>
                <a:cubicBezTo>
                  <a:pt x="20884" y="4014"/>
                  <a:pt x="21039" y="3979"/>
                  <a:pt x="20935" y="4093"/>
                </a:cubicBezTo>
                <a:cubicBezTo>
                  <a:pt x="20886" y="4118"/>
                  <a:pt x="20869" y="4126"/>
                  <a:pt x="20836" y="4142"/>
                </a:cubicBezTo>
                <a:cubicBezTo>
                  <a:pt x="20969" y="4174"/>
                  <a:pt x="21196" y="4232"/>
                  <a:pt x="20985" y="4390"/>
                </a:cubicBezTo>
                <a:cubicBezTo>
                  <a:pt x="20920" y="4412"/>
                  <a:pt x="20905" y="4420"/>
                  <a:pt x="20861" y="4415"/>
                </a:cubicBezTo>
              </a:path>
              <a:path w="4863" h="3151">
                <a:moveTo>
                  <a:pt x="21406" y="6176"/>
                </a:moveTo>
                <a:cubicBezTo>
                  <a:pt x="21430" y="6057"/>
                  <a:pt x="21441" y="6021"/>
                  <a:pt x="21382" y="5953"/>
                </a:cubicBezTo>
                <a:cubicBezTo>
                  <a:pt x="21193" y="5953"/>
                  <a:pt x="21144" y="6047"/>
                  <a:pt x="21134" y="6226"/>
                </a:cubicBezTo>
                <a:cubicBezTo>
                  <a:pt x="21322" y="6201"/>
                  <a:pt x="21430" y="6005"/>
                  <a:pt x="21456" y="6201"/>
                </a:cubicBezTo>
                <a:cubicBezTo>
                  <a:pt x="21472" y="6322"/>
                  <a:pt x="21445" y="6441"/>
                  <a:pt x="21481" y="6548"/>
                </a:cubicBezTo>
              </a:path>
              <a:path w="4863" h="3151">
                <a:moveTo>
                  <a:pt x="17611" y="5135"/>
                </a:moveTo>
                <a:cubicBezTo>
                  <a:pt x="17577" y="5066"/>
                  <a:pt x="17513" y="4858"/>
                  <a:pt x="17388" y="4936"/>
                </a:cubicBezTo>
                <a:cubicBezTo>
                  <a:pt x="17307" y="5044"/>
                  <a:pt x="17279" y="5088"/>
                  <a:pt x="17264" y="5184"/>
                </a:cubicBezTo>
                <a:cubicBezTo>
                  <a:pt x="17436" y="5215"/>
                  <a:pt x="17498" y="5155"/>
                  <a:pt x="17587" y="5011"/>
                </a:cubicBezTo>
                <a:cubicBezTo>
                  <a:pt x="17567" y="5244"/>
                  <a:pt x="17526" y="5455"/>
                  <a:pt x="17462" y="5680"/>
                </a:cubicBezTo>
                <a:cubicBezTo>
                  <a:pt x="17454" y="5705"/>
                  <a:pt x="17446" y="5730"/>
                  <a:pt x="17438" y="5755"/>
                </a:cubicBezTo>
              </a:path>
              <a:path w="4863" h="3151">
                <a:moveTo>
                  <a:pt x="17835" y="5085"/>
                </a:moveTo>
                <a:cubicBezTo>
                  <a:pt x="17775" y="5264"/>
                  <a:pt x="17749" y="5303"/>
                  <a:pt x="17785" y="5482"/>
                </a:cubicBezTo>
                <a:cubicBezTo>
                  <a:pt x="17990" y="5431"/>
                  <a:pt x="18162" y="5312"/>
                  <a:pt x="17983" y="5085"/>
                </a:cubicBezTo>
                <a:cubicBezTo>
                  <a:pt x="17958" y="5068"/>
                  <a:pt x="17934" y="5052"/>
                  <a:pt x="17909" y="5035"/>
                </a:cubicBezTo>
              </a:path>
              <a:path w="4863" h="3151">
                <a:moveTo>
                  <a:pt x="18331" y="4465"/>
                </a:moveTo>
                <a:cubicBezTo>
                  <a:pt x="18452" y="4465"/>
                  <a:pt x="18560" y="4460"/>
                  <a:pt x="18678" y="4440"/>
                </a:cubicBezTo>
              </a:path>
              <a:path w="4863" h="3151">
                <a:moveTo>
                  <a:pt x="18504" y="4266"/>
                </a:moveTo>
                <a:lnTo>
                  <a:pt x="18504" y="4266"/>
                </a:lnTo>
              </a:path>
              <a:path w="4863" h="3151">
                <a:moveTo>
                  <a:pt x="18479" y="4738"/>
                </a:moveTo>
                <a:lnTo>
                  <a:pt x="18479" y="4738"/>
                </a:lnTo>
              </a:path>
              <a:path w="4863" h="3151">
                <a:moveTo>
                  <a:pt x="18802" y="4142"/>
                </a:moveTo>
                <a:cubicBezTo>
                  <a:pt x="18802" y="4233"/>
                  <a:pt x="18802" y="4275"/>
                  <a:pt x="18802" y="4341"/>
                </a:cubicBezTo>
              </a:path>
              <a:path w="4863" h="3151">
                <a:moveTo>
                  <a:pt x="18951" y="4192"/>
                </a:moveTo>
                <a:cubicBezTo>
                  <a:pt x="18978" y="4289"/>
                  <a:pt x="19130" y="4279"/>
                  <a:pt x="19100" y="4167"/>
                </a:cubicBezTo>
                <a:cubicBezTo>
                  <a:pt x="19083" y="4159"/>
                  <a:pt x="19067" y="4150"/>
                  <a:pt x="19050" y="4142"/>
                </a:cubicBezTo>
              </a:path>
              <a:path w="4863" h="3151">
                <a:moveTo>
                  <a:pt x="18827" y="4713"/>
                </a:moveTo>
                <a:cubicBezTo>
                  <a:pt x="18924" y="4650"/>
                  <a:pt x="19022" y="4593"/>
                  <a:pt x="19124" y="4539"/>
                </a:cubicBezTo>
              </a:path>
              <a:path w="4863" h="3151">
                <a:moveTo>
                  <a:pt x="18802" y="4936"/>
                </a:moveTo>
                <a:cubicBezTo>
                  <a:pt x="18757" y="5070"/>
                  <a:pt x="18747" y="5106"/>
                  <a:pt x="18703" y="5184"/>
                </a:cubicBezTo>
              </a:path>
              <a:path w="4863" h="3151">
                <a:moveTo>
                  <a:pt x="18976" y="4911"/>
                </a:moveTo>
                <a:cubicBezTo>
                  <a:pt x="18948" y="5001"/>
                  <a:pt x="18934" y="5048"/>
                  <a:pt x="18951" y="5135"/>
                </a:cubicBezTo>
                <a:cubicBezTo>
                  <a:pt x="19107" y="5056"/>
                  <a:pt x="19137" y="5048"/>
                  <a:pt x="19075" y="4887"/>
                </a:cubicBezTo>
              </a:path>
              <a:path w="4863" h="3151">
                <a:moveTo>
                  <a:pt x="19323" y="4589"/>
                </a:moveTo>
                <a:cubicBezTo>
                  <a:pt x="19339" y="4589"/>
                  <a:pt x="19356" y="4589"/>
                  <a:pt x="19372" y="4589"/>
                </a:cubicBezTo>
              </a:path>
              <a:path w="4863" h="3151">
                <a:moveTo>
                  <a:pt x="19248" y="4862"/>
                </a:moveTo>
                <a:cubicBezTo>
                  <a:pt x="19340" y="4831"/>
                  <a:pt x="19382" y="4816"/>
                  <a:pt x="19447" y="4787"/>
                </a:cubicBezTo>
              </a:path>
              <a:path w="4863" h="3151">
                <a:moveTo>
                  <a:pt x="19794" y="3969"/>
                </a:moveTo>
                <a:cubicBezTo>
                  <a:pt x="19748" y="4188"/>
                  <a:pt x="19691" y="4144"/>
                  <a:pt x="19893" y="4192"/>
                </a:cubicBezTo>
              </a:path>
              <a:path w="4863" h="3151">
                <a:moveTo>
                  <a:pt x="20092" y="3671"/>
                </a:moveTo>
                <a:cubicBezTo>
                  <a:pt x="20016" y="3961"/>
                  <a:pt x="20002" y="4263"/>
                  <a:pt x="19968" y="4564"/>
                </a:cubicBezTo>
              </a:path>
              <a:path w="4863" h="3151">
                <a:moveTo>
                  <a:pt x="19745" y="4638"/>
                </a:moveTo>
                <a:cubicBezTo>
                  <a:pt x="19890" y="4638"/>
                  <a:pt x="20022" y="4630"/>
                  <a:pt x="20166" y="4614"/>
                </a:cubicBezTo>
              </a:path>
              <a:path w="4863" h="3151">
                <a:moveTo>
                  <a:pt x="20017" y="5035"/>
                </a:moveTo>
                <a:cubicBezTo>
                  <a:pt x="20034" y="4845"/>
                  <a:pt x="19874" y="4928"/>
                  <a:pt x="19769" y="5060"/>
                </a:cubicBezTo>
                <a:cubicBezTo>
                  <a:pt x="19750" y="5121"/>
                  <a:pt x="19731" y="5135"/>
                  <a:pt x="19769" y="5159"/>
                </a:cubicBezTo>
                <a:cubicBezTo>
                  <a:pt x="19914" y="5094"/>
                  <a:pt x="19951" y="5091"/>
                  <a:pt x="20042" y="4961"/>
                </a:cubicBezTo>
                <a:cubicBezTo>
                  <a:pt x="20015" y="5112"/>
                  <a:pt x="19993" y="5253"/>
                  <a:pt x="19993" y="5407"/>
                </a:cubicBezTo>
              </a:path>
              <a:path w="4863" h="3151">
                <a:moveTo>
                  <a:pt x="19422" y="5606"/>
                </a:moveTo>
                <a:cubicBezTo>
                  <a:pt x="19570" y="5796"/>
                  <a:pt x="19707" y="5880"/>
                  <a:pt x="19968" y="5804"/>
                </a:cubicBezTo>
                <a:cubicBezTo>
                  <a:pt x="20270" y="5716"/>
                  <a:pt x="20490" y="5419"/>
                  <a:pt x="20588" y="5135"/>
                </a:cubicBezTo>
                <a:cubicBezTo>
                  <a:pt x="20654" y="4943"/>
                  <a:pt x="20620" y="4685"/>
                  <a:pt x="20588" y="4490"/>
                </a:cubicBezTo>
                <a:cubicBezTo>
                  <a:pt x="20565" y="4347"/>
                  <a:pt x="20542" y="4179"/>
                  <a:pt x="20489" y="4043"/>
                </a:cubicBezTo>
                <a:cubicBezTo>
                  <a:pt x="20445" y="3930"/>
                  <a:pt x="20392" y="3767"/>
                  <a:pt x="20315" y="3671"/>
                </a:cubicBezTo>
                <a:cubicBezTo>
                  <a:pt x="20234" y="3570"/>
                  <a:pt x="20173" y="3510"/>
                  <a:pt x="20067" y="3448"/>
                </a:cubicBezTo>
                <a:cubicBezTo>
                  <a:pt x="19950" y="3380"/>
                  <a:pt x="19854" y="3388"/>
                  <a:pt x="19720" y="3423"/>
                </a:cubicBezTo>
                <a:cubicBezTo>
                  <a:pt x="19592" y="3456"/>
                  <a:pt x="19529" y="3562"/>
                  <a:pt x="19472" y="3671"/>
                </a:cubicBezTo>
                <a:cubicBezTo>
                  <a:pt x="19383" y="3841"/>
                  <a:pt x="19336" y="4002"/>
                  <a:pt x="19323" y="4192"/>
                </a:cubicBezTo>
                <a:cubicBezTo>
                  <a:pt x="19311" y="4361"/>
                  <a:pt x="19344" y="4521"/>
                  <a:pt x="19348" y="4688"/>
                </a:cubicBezTo>
                <a:cubicBezTo>
                  <a:pt x="19351" y="4825"/>
                  <a:pt x="19401" y="4939"/>
                  <a:pt x="19422" y="5060"/>
                </a:cubicBezTo>
                <a:cubicBezTo>
                  <a:pt x="19438" y="5152"/>
                  <a:pt x="19444" y="5267"/>
                  <a:pt x="19447" y="5358"/>
                </a:cubicBezTo>
                <a:cubicBezTo>
                  <a:pt x="19450" y="5451"/>
                  <a:pt x="19488" y="5519"/>
                  <a:pt x="19521" y="56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31920" y="4214880"/>
            <a:ext cx="179280" cy="214200"/>
          </a:xfrm>
          <a:custGeom>
            <a:avLst/>
            <a:gdLst/>
            <a:ahLst/>
            <a:rect l="l" t="t" r="r" b="b"/>
            <a:pathLst>
              <a:path w="497" h="596">
                <a:moveTo>
                  <a:pt x="3423" y="11708"/>
                </a:moveTo>
                <a:cubicBezTo>
                  <a:pt x="3588" y="11708"/>
                  <a:pt x="3754" y="11708"/>
                  <a:pt x="3919" y="11708"/>
                </a:cubicBezTo>
              </a:path>
              <a:path w="497" h="596">
                <a:moveTo>
                  <a:pt x="3671" y="11881"/>
                </a:moveTo>
                <a:cubicBezTo>
                  <a:pt x="3644" y="12021"/>
                  <a:pt x="3611" y="12162"/>
                  <a:pt x="3597" y="123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57280" y="3813120"/>
            <a:ext cx="250920" cy="446040"/>
          </a:xfrm>
          <a:custGeom>
            <a:avLst/>
            <a:gdLst/>
            <a:ahLst/>
            <a:rect l="l" t="t" r="r" b="b"/>
            <a:pathLst>
              <a:path w="696" h="1241">
                <a:moveTo>
                  <a:pt x="6548" y="10691"/>
                </a:moveTo>
                <a:cubicBezTo>
                  <a:pt x="6593" y="10670"/>
                  <a:pt x="6831" y="10576"/>
                  <a:pt x="6747" y="10716"/>
                </a:cubicBezTo>
                <a:cubicBezTo>
                  <a:pt x="6686" y="10797"/>
                  <a:pt x="6681" y="10819"/>
                  <a:pt x="6623" y="10840"/>
                </a:cubicBezTo>
                <a:cubicBezTo>
                  <a:pt x="6782" y="10896"/>
                  <a:pt x="6945" y="10941"/>
                  <a:pt x="6747" y="11088"/>
                </a:cubicBezTo>
                <a:cubicBezTo>
                  <a:pt x="6714" y="11104"/>
                  <a:pt x="6681" y="11121"/>
                  <a:pt x="6648" y="11137"/>
                </a:cubicBezTo>
              </a:path>
              <a:path w="696" h="1241">
                <a:moveTo>
                  <a:pt x="7069" y="10691"/>
                </a:moveTo>
                <a:cubicBezTo>
                  <a:pt x="7034" y="10835"/>
                  <a:pt x="7147" y="10759"/>
                  <a:pt x="7193" y="10889"/>
                </a:cubicBezTo>
                <a:cubicBezTo>
                  <a:pt x="7236" y="11009"/>
                  <a:pt x="7091" y="11014"/>
                  <a:pt x="7020" y="11038"/>
                </a:cubicBezTo>
              </a:path>
              <a:path w="696" h="1241">
                <a:moveTo>
                  <a:pt x="7094" y="10641"/>
                </a:moveTo>
                <a:cubicBezTo>
                  <a:pt x="7144" y="10625"/>
                  <a:pt x="7193" y="10608"/>
                  <a:pt x="7243" y="10592"/>
                </a:cubicBezTo>
              </a:path>
              <a:path w="696" h="1241">
                <a:moveTo>
                  <a:pt x="6548" y="11311"/>
                </a:moveTo>
                <a:cubicBezTo>
                  <a:pt x="6748" y="11297"/>
                  <a:pt x="6943" y="11286"/>
                  <a:pt x="7144" y="11286"/>
                </a:cubicBezTo>
              </a:path>
              <a:path w="696" h="1241">
                <a:moveTo>
                  <a:pt x="6697" y="11460"/>
                </a:moveTo>
                <a:cubicBezTo>
                  <a:pt x="6650" y="11584"/>
                  <a:pt x="6609" y="11705"/>
                  <a:pt x="6573" y="11832"/>
                </a:cubicBezTo>
              </a:path>
              <a:path w="696" h="1241">
                <a:moveTo>
                  <a:pt x="6921" y="11485"/>
                </a:moveTo>
                <a:cubicBezTo>
                  <a:pt x="6983" y="11492"/>
                  <a:pt x="7018" y="11500"/>
                  <a:pt x="7069" y="11534"/>
                </a:cubicBezTo>
                <a:cubicBezTo>
                  <a:pt x="7000" y="11624"/>
                  <a:pt x="6927" y="11702"/>
                  <a:pt x="6846" y="11782"/>
                </a:cubicBezTo>
                <a:cubicBezTo>
                  <a:pt x="6948" y="11833"/>
                  <a:pt x="6985" y="11820"/>
                  <a:pt x="7094" y="118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85920" y="4680000"/>
            <a:ext cx="938160" cy="1071360"/>
          </a:xfrm>
          <a:custGeom>
            <a:avLst/>
            <a:gdLst/>
            <a:ahLst/>
            <a:rect l="l" t="t" r="r" b="b"/>
            <a:pathLst>
              <a:path w="2605" h="2977">
                <a:moveTo>
                  <a:pt x="4614" y="14139"/>
                </a:moveTo>
                <a:cubicBezTo>
                  <a:pt x="4720" y="14093"/>
                  <a:pt x="4862" y="14102"/>
                  <a:pt x="4837" y="14263"/>
                </a:cubicBezTo>
                <a:cubicBezTo>
                  <a:pt x="4793" y="14373"/>
                  <a:pt x="4788" y="14406"/>
                  <a:pt x="4713" y="14436"/>
                </a:cubicBezTo>
                <a:cubicBezTo>
                  <a:pt x="4874" y="14497"/>
                  <a:pt x="5007" y="14599"/>
                  <a:pt x="4787" y="14734"/>
                </a:cubicBezTo>
                <a:cubicBezTo>
                  <a:pt x="4685" y="14760"/>
                  <a:pt x="4650" y="14767"/>
                  <a:pt x="4589" y="14709"/>
                </a:cubicBezTo>
              </a:path>
              <a:path w="2605" h="2977">
                <a:moveTo>
                  <a:pt x="5283" y="14114"/>
                </a:moveTo>
                <a:cubicBezTo>
                  <a:pt x="5138" y="14172"/>
                  <a:pt x="5179" y="14169"/>
                  <a:pt x="5135" y="14337"/>
                </a:cubicBezTo>
                <a:cubicBezTo>
                  <a:pt x="5127" y="14362"/>
                  <a:pt x="5118" y="14387"/>
                  <a:pt x="5110" y="14412"/>
                </a:cubicBezTo>
                <a:cubicBezTo>
                  <a:pt x="5239" y="14362"/>
                  <a:pt x="5413" y="14259"/>
                  <a:pt x="5457" y="14486"/>
                </a:cubicBezTo>
                <a:cubicBezTo>
                  <a:pt x="5495" y="14681"/>
                  <a:pt x="5302" y="14696"/>
                  <a:pt x="5184" y="14734"/>
                </a:cubicBezTo>
              </a:path>
              <a:path w="2605" h="2977">
                <a:moveTo>
                  <a:pt x="4341" y="14982"/>
                </a:moveTo>
                <a:cubicBezTo>
                  <a:pt x="4412" y="14769"/>
                  <a:pt x="4383" y="14533"/>
                  <a:pt x="4341" y="14312"/>
                </a:cubicBezTo>
                <a:cubicBezTo>
                  <a:pt x="4287" y="14029"/>
                  <a:pt x="4225" y="13957"/>
                  <a:pt x="4589" y="13965"/>
                </a:cubicBezTo>
                <a:cubicBezTo>
                  <a:pt x="4979" y="13974"/>
                  <a:pt x="5391" y="14026"/>
                  <a:pt x="5779" y="14064"/>
                </a:cubicBezTo>
                <a:cubicBezTo>
                  <a:pt x="5812" y="14072"/>
                  <a:pt x="5846" y="14081"/>
                  <a:pt x="5879" y="14089"/>
                </a:cubicBezTo>
              </a:path>
              <a:path w="2605" h="2977">
                <a:moveTo>
                  <a:pt x="3671" y="14263"/>
                </a:moveTo>
                <a:cubicBezTo>
                  <a:pt x="3645" y="14466"/>
                  <a:pt x="3614" y="14658"/>
                  <a:pt x="3572" y="14858"/>
                </a:cubicBezTo>
              </a:path>
              <a:path w="2605" h="2977">
                <a:moveTo>
                  <a:pt x="3870" y="14188"/>
                </a:moveTo>
                <a:cubicBezTo>
                  <a:pt x="3911" y="14172"/>
                  <a:pt x="3953" y="14155"/>
                  <a:pt x="3994" y="14139"/>
                </a:cubicBezTo>
                <a:cubicBezTo>
                  <a:pt x="4074" y="14324"/>
                  <a:pt x="4121" y="14544"/>
                  <a:pt x="3919" y="14684"/>
                </a:cubicBezTo>
                <a:cubicBezTo>
                  <a:pt x="3894" y="14684"/>
                  <a:pt x="3870" y="14684"/>
                  <a:pt x="3845" y="14684"/>
                </a:cubicBezTo>
                <a:cubicBezTo>
                  <a:pt x="3909" y="14557"/>
                  <a:pt x="3990" y="14570"/>
                  <a:pt x="4093" y="14660"/>
                </a:cubicBezTo>
              </a:path>
              <a:path w="2605" h="2977">
                <a:moveTo>
                  <a:pt x="5308" y="13345"/>
                </a:moveTo>
                <a:cubicBezTo>
                  <a:pt x="5158" y="13345"/>
                  <a:pt x="5388" y="13305"/>
                  <a:pt x="5432" y="13295"/>
                </a:cubicBezTo>
                <a:cubicBezTo>
                  <a:pt x="5395" y="13578"/>
                  <a:pt x="5329" y="13663"/>
                  <a:pt x="5085" y="13816"/>
                </a:cubicBezTo>
                <a:cubicBezTo>
                  <a:pt x="5124" y="13698"/>
                  <a:pt x="5266" y="13554"/>
                  <a:pt x="5333" y="13767"/>
                </a:cubicBezTo>
                <a:cubicBezTo>
                  <a:pt x="5333" y="13841"/>
                  <a:pt x="5333" y="13850"/>
                  <a:pt x="5333" y="13891"/>
                </a:cubicBezTo>
              </a:path>
              <a:path w="2605" h="2977">
                <a:moveTo>
                  <a:pt x="4762" y="14883"/>
                </a:moveTo>
                <a:cubicBezTo>
                  <a:pt x="4880" y="14859"/>
                  <a:pt x="4888" y="15067"/>
                  <a:pt x="4812" y="15156"/>
                </a:cubicBezTo>
                <a:cubicBezTo>
                  <a:pt x="4722" y="15210"/>
                  <a:pt x="4721" y="15234"/>
                  <a:pt x="4663" y="15230"/>
                </a:cubicBezTo>
                <a:cubicBezTo>
                  <a:pt x="4645" y="15143"/>
                  <a:pt x="4675" y="15054"/>
                  <a:pt x="4812" y="15106"/>
                </a:cubicBezTo>
                <a:cubicBezTo>
                  <a:pt x="4829" y="15123"/>
                  <a:pt x="4845" y="15139"/>
                  <a:pt x="4862" y="15156"/>
                </a:cubicBezTo>
              </a:path>
              <a:path w="2605" h="2977">
                <a:moveTo>
                  <a:pt x="5110" y="14982"/>
                </a:moveTo>
                <a:cubicBezTo>
                  <a:pt x="5148" y="15099"/>
                  <a:pt x="5287" y="15023"/>
                  <a:pt x="5358" y="14932"/>
                </a:cubicBezTo>
                <a:cubicBezTo>
                  <a:pt x="5381" y="14865"/>
                  <a:pt x="5392" y="14847"/>
                  <a:pt x="5358" y="14808"/>
                </a:cubicBezTo>
                <a:cubicBezTo>
                  <a:pt x="5322" y="14961"/>
                  <a:pt x="5313" y="15098"/>
                  <a:pt x="5308" y="15255"/>
                </a:cubicBezTo>
              </a:path>
              <a:path w="2605" h="2977">
                <a:moveTo>
                  <a:pt x="4514" y="15379"/>
                </a:moveTo>
                <a:cubicBezTo>
                  <a:pt x="4806" y="15371"/>
                  <a:pt x="5094" y="15339"/>
                  <a:pt x="5383" y="15379"/>
                </a:cubicBezTo>
              </a:path>
              <a:path w="2605" h="2977">
                <a:moveTo>
                  <a:pt x="4787" y="15726"/>
                </a:moveTo>
                <a:cubicBezTo>
                  <a:pt x="4738" y="15850"/>
                  <a:pt x="4722" y="15892"/>
                  <a:pt x="4688" y="15974"/>
                </a:cubicBezTo>
              </a:path>
              <a:path w="2605" h="2977">
                <a:moveTo>
                  <a:pt x="5110" y="15726"/>
                </a:moveTo>
                <a:cubicBezTo>
                  <a:pt x="5061" y="15848"/>
                  <a:pt x="5045" y="15887"/>
                  <a:pt x="5035" y="15974"/>
                </a:cubicBezTo>
              </a:path>
              <a:path w="2605" h="2977">
                <a:moveTo>
                  <a:pt x="5928" y="12998"/>
                </a:moveTo>
                <a:cubicBezTo>
                  <a:pt x="5885" y="13129"/>
                  <a:pt x="5872" y="13162"/>
                  <a:pt x="5854" y="13246"/>
                </a:cubicBezTo>
              </a:path>
              <a:path w="2605" h="2977">
                <a:moveTo>
                  <a:pt x="6077" y="12998"/>
                </a:moveTo>
                <a:cubicBezTo>
                  <a:pt x="6077" y="13155"/>
                  <a:pt x="6080" y="13198"/>
                  <a:pt x="6052" y="13295"/>
                </a:cubicBezTo>
              </a:path>
              <a:path w="2605" h="2977">
                <a:moveTo>
                  <a:pt x="5755" y="13419"/>
                </a:moveTo>
                <a:cubicBezTo>
                  <a:pt x="5911" y="13450"/>
                  <a:pt x="5985" y="13455"/>
                  <a:pt x="6102" y="13419"/>
                </a:cubicBezTo>
              </a:path>
              <a:path w="2605" h="2977">
                <a:moveTo>
                  <a:pt x="5705" y="13692"/>
                </a:moveTo>
                <a:cubicBezTo>
                  <a:pt x="5697" y="13792"/>
                  <a:pt x="5686" y="13890"/>
                  <a:pt x="5680" y="13990"/>
                </a:cubicBezTo>
              </a:path>
              <a:path w="2605" h="2977">
                <a:moveTo>
                  <a:pt x="5928" y="13667"/>
                </a:moveTo>
                <a:cubicBezTo>
                  <a:pt x="6018" y="13667"/>
                  <a:pt x="6147" y="13667"/>
                  <a:pt x="6028" y="13791"/>
                </a:cubicBezTo>
                <a:cubicBezTo>
                  <a:pt x="5836" y="13991"/>
                  <a:pt x="6017" y="13906"/>
                  <a:pt x="6176" y="138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86240" y="3446640"/>
            <a:ext cx="706680" cy="358560"/>
          </a:xfrm>
          <a:custGeom>
            <a:avLst/>
            <a:gdLst/>
            <a:ahLst/>
            <a:rect l="l" t="t" r="r" b="b"/>
            <a:pathLst>
              <a:path w="1961" h="993">
                <a:moveTo>
                  <a:pt x="14684" y="10542"/>
                </a:moveTo>
                <a:cubicBezTo>
                  <a:pt x="14864" y="10461"/>
                  <a:pt x="15005" y="10329"/>
                  <a:pt x="15180" y="10244"/>
                </a:cubicBezTo>
                <a:cubicBezTo>
                  <a:pt x="15213" y="10236"/>
                  <a:pt x="15247" y="10228"/>
                  <a:pt x="15280" y="10220"/>
                </a:cubicBezTo>
                <a:cubicBezTo>
                  <a:pt x="15304" y="10352"/>
                  <a:pt x="15351" y="10460"/>
                  <a:pt x="15429" y="10567"/>
                </a:cubicBezTo>
              </a:path>
              <a:path w="1961" h="993">
                <a:moveTo>
                  <a:pt x="14808" y="9649"/>
                </a:moveTo>
                <a:cubicBezTo>
                  <a:pt x="14776" y="9746"/>
                  <a:pt x="14764" y="9795"/>
                  <a:pt x="14759" y="9872"/>
                </a:cubicBezTo>
              </a:path>
              <a:path w="1961" h="993">
                <a:moveTo>
                  <a:pt x="15081" y="9599"/>
                </a:moveTo>
                <a:cubicBezTo>
                  <a:pt x="14990" y="9758"/>
                  <a:pt x="14957" y="9799"/>
                  <a:pt x="14982" y="9922"/>
                </a:cubicBezTo>
                <a:cubicBezTo>
                  <a:pt x="15154" y="9930"/>
                  <a:pt x="15434" y="9906"/>
                  <a:pt x="15280" y="9649"/>
                </a:cubicBezTo>
                <a:cubicBezTo>
                  <a:pt x="15255" y="9632"/>
                  <a:pt x="15230" y="9616"/>
                  <a:pt x="15205" y="9599"/>
                </a:cubicBezTo>
              </a:path>
              <a:path w="1961" h="993">
                <a:moveTo>
                  <a:pt x="15627" y="9674"/>
                </a:moveTo>
                <a:cubicBezTo>
                  <a:pt x="15681" y="9782"/>
                  <a:pt x="15705" y="9822"/>
                  <a:pt x="15776" y="9872"/>
                </a:cubicBezTo>
              </a:path>
              <a:path w="1961" h="993">
                <a:moveTo>
                  <a:pt x="15850" y="9624"/>
                </a:moveTo>
                <a:cubicBezTo>
                  <a:pt x="15799" y="9806"/>
                  <a:pt x="15781" y="9871"/>
                  <a:pt x="15751" y="9996"/>
                </a:cubicBezTo>
              </a:path>
              <a:path w="1961" h="993">
                <a:moveTo>
                  <a:pt x="16545" y="9575"/>
                </a:moveTo>
                <a:cubicBezTo>
                  <a:pt x="16486" y="9588"/>
                  <a:pt x="16235" y="9713"/>
                  <a:pt x="16272" y="9798"/>
                </a:cubicBezTo>
                <a:cubicBezTo>
                  <a:pt x="16304" y="9871"/>
                  <a:pt x="16567" y="9914"/>
                  <a:pt x="16644" y="9947"/>
                </a:cubicBezTo>
                <a:cubicBezTo>
                  <a:pt x="16529" y="10050"/>
                  <a:pt x="16500" y="10045"/>
                  <a:pt x="16371" y="10021"/>
                </a:cubicBezTo>
                <a:cubicBezTo>
                  <a:pt x="16422" y="9882"/>
                  <a:pt x="16485" y="9772"/>
                  <a:pt x="16570" y="9649"/>
                </a:cubicBezTo>
              </a:path>
              <a:path w="1961" h="993">
                <a:moveTo>
                  <a:pt x="15850" y="9872"/>
                </a:moveTo>
                <a:cubicBezTo>
                  <a:pt x="15906" y="9928"/>
                  <a:pt x="15950" y="9972"/>
                  <a:pt x="16024" y="99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13720" y="3687840"/>
            <a:ext cx="428400" cy="312840"/>
          </a:xfrm>
          <a:custGeom>
            <a:avLst/>
            <a:gdLst/>
            <a:ahLst/>
            <a:rect l="l" t="t" r="r" b="b"/>
            <a:pathLst>
              <a:path w="1192" h="869">
                <a:moveTo>
                  <a:pt x="19273" y="10244"/>
                </a:moveTo>
                <a:cubicBezTo>
                  <a:pt x="18974" y="10388"/>
                  <a:pt x="18961" y="10383"/>
                  <a:pt x="19199" y="10616"/>
                </a:cubicBezTo>
                <a:cubicBezTo>
                  <a:pt x="19281" y="10699"/>
                  <a:pt x="19331" y="10716"/>
                  <a:pt x="19248" y="10765"/>
                </a:cubicBezTo>
                <a:cubicBezTo>
                  <a:pt x="19207" y="10757"/>
                  <a:pt x="19165" y="10748"/>
                  <a:pt x="19124" y="10740"/>
                </a:cubicBezTo>
                <a:cubicBezTo>
                  <a:pt x="19068" y="10546"/>
                  <a:pt x="19101" y="10466"/>
                  <a:pt x="19248" y="10319"/>
                </a:cubicBezTo>
              </a:path>
              <a:path w="1192" h="869">
                <a:moveTo>
                  <a:pt x="19546" y="10368"/>
                </a:moveTo>
                <a:cubicBezTo>
                  <a:pt x="19480" y="10523"/>
                  <a:pt x="19452" y="10560"/>
                  <a:pt x="19496" y="10666"/>
                </a:cubicBezTo>
                <a:cubicBezTo>
                  <a:pt x="19742" y="10682"/>
                  <a:pt x="19776" y="10594"/>
                  <a:pt x="19819" y="10368"/>
                </a:cubicBezTo>
              </a:path>
              <a:path w="1192" h="869">
                <a:moveTo>
                  <a:pt x="18926" y="11088"/>
                </a:moveTo>
                <a:cubicBezTo>
                  <a:pt x="19283" y="11088"/>
                  <a:pt x="19637" y="11099"/>
                  <a:pt x="19993" y="11112"/>
                </a:cubicBezTo>
                <a:cubicBezTo>
                  <a:pt x="20034" y="11112"/>
                  <a:pt x="20076" y="11112"/>
                  <a:pt x="20117" y="111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88080" y="4098960"/>
            <a:ext cx="482760" cy="231840"/>
          </a:xfrm>
          <a:custGeom>
            <a:avLst/>
            <a:gdLst/>
            <a:ahLst/>
            <a:rect l="l" t="t" r="r" b="b"/>
            <a:pathLst>
              <a:path w="1340" h="646">
                <a:moveTo>
                  <a:pt x="19124" y="11410"/>
                </a:moveTo>
                <a:cubicBezTo>
                  <a:pt x="18976" y="11472"/>
                  <a:pt x="18901" y="11478"/>
                  <a:pt x="18752" y="11460"/>
                </a:cubicBezTo>
                <a:cubicBezTo>
                  <a:pt x="18612" y="11443"/>
                  <a:pt x="18640" y="11562"/>
                  <a:pt x="18628" y="11658"/>
                </a:cubicBezTo>
                <a:cubicBezTo>
                  <a:pt x="18718" y="11673"/>
                  <a:pt x="18898" y="11612"/>
                  <a:pt x="18951" y="11733"/>
                </a:cubicBezTo>
                <a:cubicBezTo>
                  <a:pt x="19070" y="12004"/>
                  <a:pt x="18721" y="12011"/>
                  <a:pt x="18579" y="12005"/>
                </a:cubicBezTo>
              </a:path>
              <a:path w="1340" h="646">
                <a:moveTo>
                  <a:pt x="19323" y="11460"/>
                </a:moveTo>
                <a:cubicBezTo>
                  <a:pt x="19293" y="11537"/>
                  <a:pt x="19260" y="11609"/>
                  <a:pt x="19224" y="11683"/>
                </a:cubicBezTo>
                <a:cubicBezTo>
                  <a:pt x="19335" y="11683"/>
                  <a:pt x="19378" y="11679"/>
                  <a:pt x="19447" y="11633"/>
                </a:cubicBezTo>
              </a:path>
              <a:path w="1340" h="646">
                <a:moveTo>
                  <a:pt x="19521" y="11385"/>
                </a:moveTo>
                <a:cubicBezTo>
                  <a:pt x="19449" y="11560"/>
                  <a:pt x="19377" y="11734"/>
                  <a:pt x="19298" y="11906"/>
                </a:cubicBezTo>
              </a:path>
              <a:path w="1340" h="646">
                <a:moveTo>
                  <a:pt x="19645" y="11534"/>
                </a:moveTo>
                <a:cubicBezTo>
                  <a:pt x="19604" y="11684"/>
                  <a:pt x="19577" y="11780"/>
                  <a:pt x="19596" y="11931"/>
                </a:cubicBezTo>
                <a:cubicBezTo>
                  <a:pt x="19758" y="11877"/>
                  <a:pt x="20033" y="11773"/>
                  <a:pt x="19893" y="11534"/>
                </a:cubicBezTo>
                <a:cubicBezTo>
                  <a:pt x="19860" y="11509"/>
                  <a:pt x="19827" y="11485"/>
                  <a:pt x="19794" y="114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86760" y="3697200"/>
            <a:ext cx="1384200" cy="704880"/>
          </a:xfrm>
          <a:custGeom>
            <a:avLst/>
            <a:gdLst/>
            <a:ahLst/>
            <a:rect l="l" t="t" r="r" b="b"/>
            <a:pathLst>
              <a:path w="3845" h="1961">
                <a:moveTo>
                  <a:pt x="20241" y="11237"/>
                </a:moveTo>
                <a:cubicBezTo>
                  <a:pt x="20357" y="11226"/>
                  <a:pt x="20472" y="11198"/>
                  <a:pt x="20588" y="11187"/>
                </a:cubicBezTo>
              </a:path>
              <a:path w="3845" h="1961">
                <a:moveTo>
                  <a:pt x="20365" y="10939"/>
                </a:moveTo>
                <a:lnTo>
                  <a:pt x="20365" y="10939"/>
                </a:lnTo>
              </a:path>
              <a:path w="3845" h="1961">
                <a:moveTo>
                  <a:pt x="20340" y="11584"/>
                </a:moveTo>
                <a:lnTo>
                  <a:pt x="20340" y="11584"/>
                </a:lnTo>
              </a:path>
              <a:path w="3845" h="1961">
                <a:moveTo>
                  <a:pt x="20662" y="10616"/>
                </a:moveTo>
                <a:cubicBezTo>
                  <a:pt x="20628" y="10723"/>
                  <a:pt x="20610" y="10781"/>
                  <a:pt x="20588" y="10864"/>
                </a:cubicBezTo>
              </a:path>
              <a:path w="3845" h="1961">
                <a:moveTo>
                  <a:pt x="20811" y="10567"/>
                </a:moveTo>
                <a:cubicBezTo>
                  <a:pt x="20788" y="10683"/>
                  <a:pt x="20777" y="10716"/>
                  <a:pt x="20811" y="10790"/>
                </a:cubicBezTo>
                <a:cubicBezTo>
                  <a:pt x="20955" y="10707"/>
                  <a:pt x="20945" y="10714"/>
                  <a:pt x="20935" y="10542"/>
                </a:cubicBezTo>
              </a:path>
              <a:path w="3845" h="1961">
                <a:moveTo>
                  <a:pt x="20786" y="11112"/>
                </a:moveTo>
                <a:cubicBezTo>
                  <a:pt x="20896" y="11086"/>
                  <a:pt x="20939" y="11074"/>
                  <a:pt x="21010" y="11038"/>
                </a:cubicBezTo>
              </a:path>
              <a:path w="3845" h="1961">
                <a:moveTo>
                  <a:pt x="20687" y="11435"/>
                </a:moveTo>
                <a:cubicBezTo>
                  <a:pt x="20663" y="11602"/>
                  <a:pt x="20657" y="11654"/>
                  <a:pt x="20613" y="11757"/>
                </a:cubicBezTo>
              </a:path>
              <a:path w="3845" h="1961">
                <a:moveTo>
                  <a:pt x="20861" y="11485"/>
                </a:moveTo>
                <a:cubicBezTo>
                  <a:pt x="20803" y="11541"/>
                  <a:pt x="20784" y="11568"/>
                  <a:pt x="20786" y="11633"/>
                </a:cubicBezTo>
                <a:cubicBezTo>
                  <a:pt x="20962" y="11634"/>
                  <a:pt x="20961" y="11566"/>
                  <a:pt x="20935" y="11385"/>
                </a:cubicBezTo>
              </a:path>
              <a:path w="3845" h="1961">
                <a:moveTo>
                  <a:pt x="21208" y="11162"/>
                </a:moveTo>
                <a:cubicBezTo>
                  <a:pt x="21233" y="11162"/>
                  <a:pt x="21257" y="11162"/>
                  <a:pt x="21282" y="11162"/>
                </a:cubicBezTo>
              </a:path>
              <a:path w="3845" h="1961">
                <a:moveTo>
                  <a:pt x="21158" y="11311"/>
                </a:moveTo>
                <a:cubicBezTo>
                  <a:pt x="21191" y="11303"/>
                  <a:pt x="21225" y="11294"/>
                  <a:pt x="21258" y="11286"/>
                </a:cubicBezTo>
              </a:path>
              <a:path w="3845" h="1961">
                <a:moveTo>
                  <a:pt x="21828" y="10319"/>
                </a:moveTo>
                <a:cubicBezTo>
                  <a:pt x="21646" y="10354"/>
                  <a:pt x="21620" y="10357"/>
                  <a:pt x="21530" y="10517"/>
                </a:cubicBezTo>
                <a:cubicBezTo>
                  <a:pt x="21583" y="10576"/>
                  <a:pt x="21917" y="10816"/>
                  <a:pt x="21754" y="10889"/>
                </a:cubicBezTo>
                <a:cubicBezTo>
                  <a:pt x="21517" y="10995"/>
                  <a:pt x="21835" y="10520"/>
                  <a:pt x="21853" y="10492"/>
                </a:cubicBezTo>
              </a:path>
              <a:path w="3845" h="1961">
                <a:moveTo>
                  <a:pt x="21630" y="11112"/>
                </a:moveTo>
                <a:cubicBezTo>
                  <a:pt x="21757" y="11112"/>
                  <a:pt x="21853" y="11102"/>
                  <a:pt x="21977" y="11088"/>
                </a:cubicBezTo>
              </a:path>
              <a:path w="3845" h="1961">
                <a:moveTo>
                  <a:pt x="21555" y="11336"/>
                </a:moveTo>
                <a:cubicBezTo>
                  <a:pt x="21530" y="11410"/>
                  <a:pt x="21522" y="11435"/>
                  <a:pt x="21506" y="11485"/>
                </a:cubicBezTo>
                <a:cubicBezTo>
                  <a:pt x="21610" y="11537"/>
                  <a:pt x="21833" y="11603"/>
                  <a:pt x="21679" y="11757"/>
                </a:cubicBezTo>
                <a:cubicBezTo>
                  <a:pt x="21646" y="11774"/>
                  <a:pt x="21613" y="11790"/>
                  <a:pt x="21580" y="11807"/>
                </a:cubicBezTo>
              </a:path>
              <a:path w="3845" h="1961">
                <a:moveTo>
                  <a:pt x="21580" y="11336"/>
                </a:moveTo>
                <a:cubicBezTo>
                  <a:pt x="21621" y="11336"/>
                  <a:pt x="21663" y="11336"/>
                  <a:pt x="21704" y="11336"/>
                </a:cubicBezTo>
              </a:path>
              <a:path w="3845" h="1961">
                <a:moveTo>
                  <a:pt x="21853" y="11336"/>
                </a:moveTo>
                <a:cubicBezTo>
                  <a:pt x="21822" y="11511"/>
                  <a:pt x="21801" y="11534"/>
                  <a:pt x="21977" y="11559"/>
                </a:cubicBezTo>
              </a:path>
              <a:path w="3845" h="1961">
                <a:moveTo>
                  <a:pt x="22101" y="11311"/>
                </a:moveTo>
                <a:cubicBezTo>
                  <a:pt x="22064" y="11460"/>
                  <a:pt x="22034" y="11607"/>
                  <a:pt x="22002" y="11757"/>
                </a:cubicBezTo>
              </a:path>
              <a:path w="3845" h="1961">
                <a:moveTo>
                  <a:pt x="22175" y="10939"/>
                </a:moveTo>
                <a:cubicBezTo>
                  <a:pt x="22250" y="10939"/>
                  <a:pt x="22324" y="10939"/>
                  <a:pt x="22399" y="10939"/>
                </a:cubicBezTo>
              </a:path>
              <a:path w="3845" h="1961">
                <a:moveTo>
                  <a:pt x="22299" y="10815"/>
                </a:moveTo>
                <a:lnTo>
                  <a:pt x="22299" y="10815"/>
                </a:lnTo>
              </a:path>
              <a:path w="3845" h="1961">
                <a:moveTo>
                  <a:pt x="22324" y="11112"/>
                </a:moveTo>
                <a:lnTo>
                  <a:pt x="22324" y="11112"/>
                </a:lnTo>
              </a:path>
              <a:path w="3845" h="1961">
                <a:moveTo>
                  <a:pt x="22572" y="10666"/>
                </a:moveTo>
                <a:cubicBezTo>
                  <a:pt x="22598" y="10758"/>
                  <a:pt x="22596" y="10734"/>
                  <a:pt x="22696" y="10716"/>
                </a:cubicBezTo>
              </a:path>
              <a:path w="3845" h="1961">
                <a:moveTo>
                  <a:pt x="22671" y="10517"/>
                </a:moveTo>
                <a:cubicBezTo>
                  <a:pt x="22660" y="10659"/>
                  <a:pt x="22647" y="10796"/>
                  <a:pt x="22647" y="10939"/>
                </a:cubicBezTo>
              </a:path>
              <a:path w="3845" h="1961">
                <a:moveTo>
                  <a:pt x="22622" y="11187"/>
                </a:moveTo>
                <a:cubicBezTo>
                  <a:pt x="22674" y="11134"/>
                  <a:pt x="22694" y="11135"/>
                  <a:pt x="22771" y="11112"/>
                </a:cubicBezTo>
              </a:path>
              <a:path w="3845" h="1961">
                <a:moveTo>
                  <a:pt x="22473" y="10666"/>
                </a:moveTo>
                <a:cubicBezTo>
                  <a:pt x="22497" y="10582"/>
                  <a:pt x="22566" y="10546"/>
                  <a:pt x="22597" y="10666"/>
                </a:cubicBezTo>
                <a:cubicBezTo>
                  <a:pt x="22615" y="10734"/>
                  <a:pt x="22584" y="10809"/>
                  <a:pt x="22547" y="10864"/>
                </a:cubicBezTo>
                <a:cubicBezTo>
                  <a:pt x="22539" y="10872"/>
                  <a:pt x="22531" y="10881"/>
                  <a:pt x="22523" y="10889"/>
                </a:cubicBezTo>
                <a:cubicBezTo>
                  <a:pt x="22605" y="10889"/>
                  <a:pt x="22694" y="10888"/>
                  <a:pt x="22771" y="10864"/>
                </a:cubicBezTo>
                <a:cubicBezTo>
                  <a:pt x="22811" y="10844"/>
                  <a:pt x="22818" y="10836"/>
                  <a:pt x="22845" y="10840"/>
                </a:cubicBezTo>
              </a:path>
              <a:path w="3845" h="1961">
                <a:moveTo>
                  <a:pt x="22622" y="11460"/>
                </a:moveTo>
                <a:cubicBezTo>
                  <a:pt x="22671" y="11435"/>
                  <a:pt x="22688" y="11426"/>
                  <a:pt x="22721" y="11410"/>
                </a:cubicBezTo>
                <a:cubicBezTo>
                  <a:pt x="22746" y="11536"/>
                  <a:pt x="22648" y="11595"/>
                  <a:pt x="22647" y="11708"/>
                </a:cubicBezTo>
                <a:cubicBezTo>
                  <a:pt x="22647" y="11726"/>
                  <a:pt x="22770" y="11673"/>
                  <a:pt x="22796" y="11658"/>
                </a:cubicBezTo>
              </a:path>
              <a:path w="3845" h="1961">
                <a:moveTo>
                  <a:pt x="23019" y="11187"/>
                </a:moveTo>
                <a:cubicBezTo>
                  <a:pt x="23035" y="11179"/>
                  <a:pt x="23052" y="11170"/>
                  <a:pt x="23068" y="11162"/>
                </a:cubicBezTo>
              </a:path>
              <a:path w="3845" h="1961">
                <a:moveTo>
                  <a:pt x="23019" y="11286"/>
                </a:moveTo>
                <a:cubicBezTo>
                  <a:pt x="23063" y="11286"/>
                  <a:pt x="23077" y="11289"/>
                  <a:pt x="23093" y="11261"/>
                </a:cubicBezTo>
              </a:path>
              <a:path w="3845" h="1961">
                <a:moveTo>
                  <a:pt x="23292" y="10641"/>
                </a:moveTo>
                <a:cubicBezTo>
                  <a:pt x="23271" y="10725"/>
                  <a:pt x="23269" y="10744"/>
                  <a:pt x="23242" y="10790"/>
                </a:cubicBezTo>
                <a:cubicBezTo>
                  <a:pt x="23308" y="10803"/>
                  <a:pt x="23342" y="10801"/>
                  <a:pt x="23416" y="10790"/>
                </a:cubicBezTo>
              </a:path>
              <a:path w="3845" h="1961">
                <a:moveTo>
                  <a:pt x="23416" y="10592"/>
                </a:moveTo>
                <a:cubicBezTo>
                  <a:pt x="23393" y="10749"/>
                  <a:pt x="23377" y="10905"/>
                  <a:pt x="23366" y="11063"/>
                </a:cubicBezTo>
              </a:path>
              <a:path w="3845" h="1961">
                <a:moveTo>
                  <a:pt x="23316" y="11286"/>
                </a:moveTo>
                <a:cubicBezTo>
                  <a:pt x="23366" y="11253"/>
                  <a:pt x="23429" y="11218"/>
                  <a:pt x="23490" y="11212"/>
                </a:cubicBezTo>
                <a:cubicBezTo>
                  <a:pt x="23523" y="11212"/>
                  <a:pt x="23539" y="11212"/>
                  <a:pt x="23564" y="11212"/>
                </a:cubicBezTo>
              </a:path>
              <a:path w="3845" h="1961">
                <a:moveTo>
                  <a:pt x="23192" y="11609"/>
                </a:moveTo>
                <a:cubicBezTo>
                  <a:pt x="23234" y="11567"/>
                  <a:pt x="23242" y="11559"/>
                  <a:pt x="23267" y="11534"/>
                </a:cubicBezTo>
                <a:cubicBezTo>
                  <a:pt x="23276" y="11708"/>
                  <a:pt x="23270" y="11755"/>
                  <a:pt x="23118" y="11857"/>
                </a:cubicBezTo>
                <a:cubicBezTo>
                  <a:pt x="23203" y="11857"/>
                  <a:pt x="23238" y="11824"/>
                  <a:pt x="23316" y="11807"/>
                </a:cubicBezTo>
                <a:cubicBezTo>
                  <a:pt x="23333" y="11807"/>
                  <a:pt x="23349" y="11807"/>
                  <a:pt x="23366" y="11807"/>
                </a:cubicBezTo>
              </a:path>
              <a:path w="3845" h="1961">
                <a:moveTo>
                  <a:pt x="23465" y="11534"/>
                </a:moveTo>
                <a:cubicBezTo>
                  <a:pt x="23512" y="11450"/>
                  <a:pt x="23516" y="11455"/>
                  <a:pt x="23614" y="11435"/>
                </a:cubicBezTo>
                <a:cubicBezTo>
                  <a:pt x="23638" y="11537"/>
                  <a:pt x="23639" y="11626"/>
                  <a:pt x="23639" y="11733"/>
                </a:cubicBezTo>
              </a:path>
              <a:path w="3845" h="1961">
                <a:moveTo>
                  <a:pt x="23788" y="10716"/>
                </a:moveTo>
                <a:cubicBezTo>
                  <a:pt x="23788" y="10653"/>
                  <a:pt x="23820" y="10608"/>
                  <a:pt x="23788" y="10542"/>
                </a:cubicBezTo>
                <a:cubicBezTo>
                  <a:pt x="23763" y="10489"/>
                  <a:pt x="23707" y="10385"/>
                  <a:pt x="23664" y="10344"/>
                </a:cubicBezTo>
                <a:cubicBezTo>
                  <a:pt x="23607" y="10290"/>
                  <a:pt x="23581" y="10308"/>
                  <a:pt x="23515" y="10294"/>
                </a:cubicBezTo>
                <a:cubicBezTo>
                  <a:pt x="23454" y="10281"/>
                  <a:pt x="23404" y="10272"/>
                  <a:pt x="23341" y="10269"/>
                </a:cubicBezTo>
                <a:cubicBezTo>
                  <a:pt x="23293" y="10267"/>
                  <a:pt x="23155" y="10263"/>
                  <a:pt x="23118" y="10294"/>
                </a:cubicBezTo>
                <a:cubicBezTo>
                  <a:pt x="23067" y="10337"/>
                  <a:pt x="23059" y="10436"/>
                  <a:pt x="23044" y="10492"/>
                </a:cubicBezTo>
                <a:cubicBezTo>
                  <a:pt x="23023" y="10573"/>
                  <a:pt x="23007" y="10660"/>
                  <a:pt x="22994" y="10740"/>
                </a:cubicBezTo>
                <a:cubicBezTo>
                  <a:pt x="22962" y="10933"/>
                  <a:pt x="23039" y="11157"/>
                  <a:pt x="23019" y="11336"/>
                </a:cubicBezTo>
                <a:cubicBezTo>
                  <a:pt x="23015" y="11375"/>
                  <a:pt x="23005" y="11470"/>
                  <a:pt x="22994" y="11509"/>
                </a:cubicBezTo>
                <a:cubicBezTo>
                  <a:pt x="22968" y="11601"/>
                  <a:pt x="23002" y="11678"/>
                  <a:pt x="22994" y="11757"/>
                </a:cubicBezTo>
                <a:cubicBezTo>
                  <a:pt x="22987" y="11823"/>
                  <a:pt x="22993" y="11907"/>
                  <a:pt x="23019" y="11981"/>
                </a:cubicBezTo>
                <a:cubicBezTo>
                  <a:pt x="23043" y="12049"/>
                  <a:pt x="23080" y="12134"/>
                  <a:pt x="23143" y="12179"/>
                </a:cubicBezTo>
                <a:cubicBezTo>
                  <a:pt x="23239" y="12248"/>
                  <a:pt x="23362" y="12229"/>
                  <a:pt x="23465" y="12204"/>
                </a:cubicBezTo>
                <a:cubicBezTo>
                  <a:pt x="23602" y="12170"/>
                  <a:pt x="23798" y="12131"/>
                  <a:pt x="23912" y="12055"/>
                </a:cubicBezTo>
                <a:cubicBezTo>
                  <a:pt x="24024" y="11980"/>
                  <a:pt x="24071" y="11835"/>
                  <a:pt x="24085" y="11708"/>
                </a:cubicBezTo>
                <a:cubicBezTo>
                  <a:pt x="24097" y="11602"/>
                  <a:pt x="24076" y="11443"/>
                  <a:pt x="24061" y="11336"/>
                </a:cubicBezTo>
                <a:cubicBezTo>
                  <a:pt x="24052" y="11273"/>
                  <a:pt x="24013" y="11145"/>
                  <a:pt x="23986" y="11088"/>
                </a:cubicBezTo>
                <a:cubicBezTo>
                  <a:pt x="23958" y="11028"/>
                  <a:pt x="23933" y="10976"/>
                  <a:pt x="23912" y="10914"/>
                </a:cubicBezTo>
                <a:cubicBezTo>
                  <a:pt x="23891" y="10851"/>
                  <a:pt x="23866" y="10808"/>
                  <a:pt x="23862" y="10740"/>
                </a:cubicBezTo>
                <a:cubicBezTo>
                  <a:pt x="23859" y="10694"/>
                  <a:pt x="23849" y="10659"/>
                  <a:pt x="23837" y="106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24320" y="4446720"/>
            <a:ext cx="293760" cy="366480"/>
          </a:xfrm>
          <a:custGeom>
            <a:avLst/>
            <a:gdLst/>
            <a:ahLst/>
            <a:rect l="l" t="t" r="r" b="b"/>
            <a:pathLst>
              <a:path w="819" h="1018">
                <a:moveTo>
                  <a:pt x="14560" y="12353"/>
                </a:moveTo>
                <a:cubicBezTo>
                  <a:pt x="14685" y="12450"/>
                  <a:pt x="14812" y="12547"/>
                  <a:pt x="14932" y="12650"/>
                </a:cubicBezTo>
                <a:cubicBezTo>
                  <a:pt x="15014" y="12558"/>
                  <a:pt x="15071" y="12487"/>
                  <a:pt x="15131" y="12378"/>
                </a:cubicBezTo>
              </a:path>
              <a:path w="819" h="1018">
                <a:moveTo>
                  <a:pt x="14560" y="12973"/>
                </a:moveTo>
                <a:cubicBezTo>
                  <a:pt x="14637" y="12965"/>
                  <a:pt x="14799" y="12899"/>
                  <a:pt x="14759" y="13047"/>
                </a:cubicBezTo>
                <a:cubicBezTo>
                  <a:pt x="14736" y="13134"/>
                  <a:pt x="14589" y="13204"/>
                  <a:pt x="14684" y="13146"/>
                </a:cubicBezTo>
                <a:cubicBezTo>
                  <a:pt x="14774" y="13146"/>
                  <a:pt x="14800" y="13139"/>
                  <a:pt x="14833" y="13196"/>
                </a:cubicBezTo>
                <a:cubicBezTo>
                  <a:pt x="14787" y="13368"/>
                  <a:pt x="14680" y="13337"/>
                  <a:pt x="14511" y="13320"/>
                </a:cubicBezTo>
              </a:path>
              <a:path w="819" h="1018">
                <a:moveTo>
                  <a:pt x="15032" y="12973"/>
                </a:moveTo>
                <a:cubicBezTo>
                  <a:pt x="15008" y="13092"/>
                  <a:pt x="14989" y="13200"/>
                  <a:pt x="14982" y="13320"/>
                </a:cubicBezTo>
                <a:cubicBezTo>
                  <a:pt x="15116" y="13368"/>
                  <a:pt x="15290" y="13367"/>
                  <a:pt x="15329" y="13171"/>
                </a:cubicBezTo>
                <a:cubicBezTo>
                  <a:pt x="15346" y="13087"/>
                  <a:pt x="15214" y="13183"/>
                  <a:pt x="15156" y="132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87840" y="4510080"/>
            <a:ext cx="706320" cy="1616040"/>
          </a:xfrm>
          <a:custGeom>
            <a:avLst/>
            <a:gdLst/>
            <a:ahLst/>
            <a:rect l="l" t="t" r="r" b="b"/>
            <a:pathLst>
              <a:path w="1961" h="4491">
                <a:moveTo>
                  <a:pt x="11137" y="13122"/>
                </a:moveTo>
                <a:cubicBezTo>
                  <a:pt x="11231" y="13103"/>
                  <a:pt x="11251" y="13073"/>
                  <a:pt x="11286" y="13122"/>
                </a:cubicBezTo>
                <a:cubicBezTo>
                  <a:pt x="11270" y="13220"/>
                  <a:pt x="11255" y="13244"/>
                  <a:pt x="11187" y="13320"/>
                </a:cubicBezTo>
                <a:cubicBezTo>
                  <a:pt x="11325" y="13361"/>
                  <a:pt x="11448" y="13477"/>
                  <a:pt x="11286" y="13618"/>
                </a:cubicBezTo>
                <a:cubicBezTo>
                  <a:pt x="11179" y="13660"/>
                  <a:pt x="11155" y="13682"/>
                  <a:pt x="11088" y="13643"/>
                </a:cubicBezTo>
              </a:path>
              <a:path w="1961" h="4491">
                <a:moveTo>
                  <a:pt x="11559" y="13171"/>
                </a:moveTo>
                <a:cubicBezTo>
                  <a:pt x="11559" y="13289"/>
                  <a:pt x="11509" y="13504"/>
                  <a:pt x="11609" y="13593"/>
                </a:cubicBezTo>
                <a:cubicBezTo>
                  <a:pt x="11753" y="13720"/>
                  <a:pt x="11867" y="13526"/>
                  <a:pt x="11857" y="13419"/>
                </a:cubicBezTo>
                <a:cubicBezTo>
                  <a:pt x="11776" y="13459"/>
                  <a:pt x="11738" y="13494"/>
                  <a:pt x="11708" y="13568"/>
                </a:cubicBezTo>
              </a:path>
              <a:path w="1961" h="4491">
                <a:moveTo>
                  <a:pt x="10592" y="13742"/>
                </a:moveTo>
                <a:cubicBezTo>
                  <a:pt x="10641" y="13891"/>
                  <a:pt x="10657" y="13940"/>
                  <a:pt x="10691" y="14039"/>
                </a:cubicBezTo>
              </a:path>
              <a:path w="1961" h="4491">
                <a:moveTo>
                  <a:pt x="10765" y="13742"/>
                </a:moveTo>
                <a:cubicBezTo>
                  <a:pt x="10658" y="13877"/>
                  <a:pt x="10618" y="13930"/>
                  <a:pt x="10567" y="14039"/>
                </a:cubicBezTo>
              </a:path>
              <a:path w="1961" h="4491">
                <a:moveTo>
                  <a:pt x="11311" y="13915"/>
                </a:moveTo>
                <a:cubicBezTo>
                  <a:pt x="11284" y="14047"/>
                  <a:pt x="11275" y="14096"/>
                  <a:pt x="11261" y="14188"/>
                </a:cubicBezTo>
              </a:path>
              <a:path w="1961" h="4491">
                <a:moveTo>
                  <a:pt x="11733" y="13816"/>
                </a:moveTo>
                <a:cubicBezTo>
                  <a:pt x="11621" y="13853"/>
                  <a:pt x="11616" y="13846"/>
                  <a:pt x="11559" y="13940"/>
                </a:cubicBezTo>
                <a:cubicBezTo>
                  <a:pt x="11602" y="14069"/>
                  <a:pt x="11727" y="13897"/>
                  <a:pt x="11832" y="13990"/>
                </a:cubicBezTo>
                <a:cubicBezTo>
                  <a:pt x="12032" y="14167"/>
                  <a:pt x="11742" y="14297"/>
                  <a:pt x="11584" y="14238"/>
                </a:cubicBezTo>
                <a:cubicBezTo>
                  <a:pt x="11551" y="14213"/>
                  <a:pt x="11518" y="14188"/>
                  <a:pt x="11485" y="14163"/>
                </a:cubicBezTo>
              </a:path>
              <a:path w="1961" h="4491">
                <a:moveTo>
                  <a:pt x="10592" y="14511"/>
                </a:moveTo>
                <a:cubicBezTo>
                  <a:pt x="11061" y="14437"/>
                  <a:pt x="11553" y="14357"/>
                  <a:pt x="12030" y="14412"/>
                </a:cubicBezTo>
                <a:cubicBezTo>
                  <a:pt x="12080" y="14428"/>
                  <a:pt x="12129" y="14445"/>
                  <a:pt x="12179" y="14461"/>
                </a:cubicBezTo>
              </a:path>
              <a:path w="1961" h="4491">
                <a:moveTo>
                  <a:pt x="11857" y="14635"/>
                </a:moveTo>
                <a:cubicBezTo>
                  <a:pt x="11729" y="14820"/>
                  <a:pt x="11638" y="14897"/>
                  <a:pt x="11708" y="15106"/>
                </a:cubicBezTo>
                <a:cubicBezTo>
                  <a:pt x="11870" y="15052"/>
                  <a:pt x="12216" y="14912"/>
                  <a:pt x="11981" y="14684"/>
                </a:cubicBezTo>
                <a:cubicBezTo>
                  <a:pt x="11940" y="14668"/>
                  <a:pt x="11898" y="14651"/>
                  <a:pt x="11857" y="14635"/>
                </a:cubicBezTo>
              </a:path>
              <a:path w="1961" h="4491">
                <a:moveTo>
                  <a:pt x="10889" y="12526"/>
                </a:moveTo>
                <a:cubicBezTo>
                  <a:pt x="10947" y="12526"/>
                  <a:pt x="11005" y="12526"/>
                  <a:pt x="11063" y="12526"/>
                </a:cubicBezTo>
                <a:cubicBezTo>
                  <a:pt x="10967" y="12719"/>
                  <a:pt x="11052" y="12564"/>
                  <a:pt x="11088" y="12750"/>
                </a:cubicBezTo>
                <a:cubicBezTo>
                  <a:pt x="11106" y="12844"/>
                  <a:pt x="10994" y="12873"/>
                  <a:pt x="10939" y="12898"/>
                </a:cubicBezTo>
              </a:path>
              <a:path w="1961" h="4491">
                <a:moveTo>
                  <a:pt x="10666" y="14759"/>
                </a:moveTo>
                <a:cubicBezTo>
                  <a:pt x="10666" y="14908"/>
                  <a:pt x="10662" y="15038"/>
                  <a:pt x="10691" y="15180"/>
                </a:cubicBezTo>
              </a:path>
              <a:path w="1961" h="4491">
                <a:moveTo>
                  <a:pt x="11237" y="14734"/>
                </a:moveTo>
                <a:cubicBezTo>
                  <a:pt x="11112" y="14790"/>
                  <a:pt x="11040" y="14838"/>
                  <a:pt x="11162" y="14957"/>
                </a:cubicBezTo>
                <a:cubicBezTo>
                  <a:pt x="11248" y="15022"/>
                  <a:pt x="11281" y="15030"/>
                  <a:pt x="11261" y="15106"/>
                </a:cubicBezTo>
                <a:cubicBezTo>
                  <a:pt x="11115" y="15022"/>
                  <a:pt x="11229" y="14894"/>
                  <a:pt x="11286" y="14759"/>
                </a:cubicBezTo>
                <a:cubicBezTo>
                  <a:pt x="11294" y="14734"/>
                  <a:pt x="11303" y="14709"/>
                  <a:pt x="11311" y="14684"/>
                </a:cubicBezTo>
              </a:path>
              <a:path w="1961" h="4491">
                <a:moveTo>
                  <a:pt x="11857" y="15429"/>
                </a:moveTo>
                <a:cubicBezTo>
                  <a:pt x="11680" y="15488"/>
                  <a:pt x="11644" y="15619"/>
                  <a:pt x="11609" y="15801"/>
                </a:cubicBezTo>
                <a:cubicBezTo>
                  <a:pt x="11822" y="15770"/>
                  <a:pt x="11864" y="15726"/>
                  <a:pt x="11906" y="15528"/>
                </a:cubicBezTo>
              </a:path>
              <a:path w="1961" h="4491">
                <a:moveTo>
                  <a:pt x="11162" y="15528"/>
                </a:moveTo>
                <a:cubicBezTo>
                  <a:pt x="11144" y="15654"/>
                  <a:pt x="11038" y="15845"/>
                  <a:pt x="11088" y="15974"/>
                </a:cubicBezTo>
                <a:cubicBezTo>
                  <a:pt x="11104" y="15982"/>
                  <a:pt x="11121" y="15991"/>
                  <a:pt x="11137" y="15999"/>
                </a:cubicBezTo>
                <a:cubicBezTo>
                  <a:pt x="11212" y="15984"/>
                  <a:pt x="11490" y="15861"/>
                  <a:pt x="11336" y="15726"/>
                </a:cubicBezTo>
                <a:cubicBezTo>
                  <a:pt x="11234" y="15637"/>
                  <a:pt x="11177" y="15863"/>
                  <a:pt x="11162" y="15900"/>
                </a:cubicBezTo>
              </a:path>
              <a:path w="1961" h="4491">
                <a:moveTo>
                  <a:pt x="10542" y="15528"/>
                </a:moveTo>
                <a:cubicBezTo>
                  <a:pt x="10697" y="15483"/>
                  <a:pt x="10922" y="15395"/>
                  <a:pt x="10765" y="15627"/>
                </a:cubicBezTo>
                <a:cubicBezTo>
                  <a:pt x="10740" y="15660"/>
                  <a:pt x="10716" y="15693"/>
                  <a:pt x="10691" y="15726"/>
                </a:cubicBezTo>
                <a:cubicBezTo>
                  <a:pt x="10674" y="15734"/>
                  <a:pt x="10658" y="15743"/>
                  <a:pt x="10641" y="15751"/>
                </a:cubicBezTo>
                <a:cubicBezTo>
                  <a:pt x="10768" y="15688"/>
                  <a:pt x="11018" y="15755"/>
                  <a:pt x="10815" y="15925"/>
                </a:cubicBezTo>
                <a:cubicBezTo>
                  <a:pt x="10679" y="15993"/>
                  <a:pt x="10643" y="16017"/>
                  <a:pt x="10542" y="15999"/>
                </a:cubicBezTo>
              </a:path>
              <a:path w="1961" h="4491">
                <a:moveTo>
                  <a:pt x="10393" y="16247"/>
                </a:moveTo>
                <a:cubicBezTo>
                  <a:pt x="10904" y="16170"/>
                  <a:pt x="11417" y="16110"/>
                  <a:pt x="11931" y="16049"/>
                </a:cubicBezTo>
                <a:cubicBezTo>
                  <a:pt x="12096" y="16030"/>
                  <a:pt x="12112" y="16022"/>
                  <a:pt x="12204" y="16024"/>
                </a:cubicBezTo>
              </a:path>
              <a:path w="1961" h="4491">
                <a:moveTo>
                  <a:pt x="11981" y="16247"/>
                </a:moveTo>
                <a:cubicBezTo>
                  <a:pt x="11896" y="16379"/>
                  <a:pt x="11753" y="16544"/>
                  <a:pt x="11708" y="16694"/>
                </a:cubicBezTo>
                <a:cubicBezTo>
                  <a:pt x="11708" y="16727"/>
                  <a:pt x="11708" y="16760"/>
                  <a:pt x="11708" y="16793"/>
                </a:cubicBezTo>
                <a:cubicBezTo>
                  <a:pt x="11886" y="16771"/>
                  <a:pt x="12041" y="16718"/>
                  <a:pt x="12005" y="16495"/>
                </a:cubicBezTo>
                <a:cubicBezTo>
                  <a:pt x="11989" y="16470"/>
                  <a:pt x="11972" y="16446"/>
                  <a:pt x="11956" y="16421"/>
                </a:cubicBezTo>
              </a:path>
              <a:path w="1961" h="4491">
                <a:moveTo>
                  <a:pt x="11261" y="16520"/>
                </a:moveTo>
                <a:cubicBezTo>
                  <a:pt x="11196" y="16628"/>
                  <a:pt x="11182" y="16654"/>
                  <a:pt x="11137" y="16718"/>
                </a:cubicBezTo>
                <a:cubicBezTo>
                  <a:pt x="11299" y="16727"/>
                  <a:pt x="11344" y="16705"/>
                  <a:pt x="11485" y="16619"/>
                </a:cubicBezTo>
              </a:path>
              <a:path w="1961" h="4491">
                <a:moveTo>
                  <a:pt x="11460" y="16346"/>
                </a:moveTo>
                <a:cubicBezTo>
                  <a:pt x="11408" y="16535"/>
                  <a:pt x="11335" y="16723"/>
                  <a:pt x="11311" y="16917"/>
                </a:cubicBezTo>
              </a:path>
              <a:path w="1961" h="4491">
                <a:moveTo>
                  <a:pt x="10244" y="14486"/>
                </a:moveTo>
                <a:cubicBezTo>
                  <a:pt x="10244" y="14577"/>
                  <a:pt x="10244" y="14618"/>
                  <a:pt x="10244" y="14684"/>
                </a:cubicBezTo>
              </a:path>
              <a:path w="1961" h="4491">
                <a:moveTo>
                  <a:pt x="10716" y="16520"/>
                </a:moveTo>
                <a:cubicBezTo>
                  <a:pt x="10669" y="16500"/>
                  <a:pt x="10597" y="16473"/>
                  <a:pt x="10567" y="16545"/>
                </a:cubicBezTo>
                <a:cubicBezTo>
                  <a:pt x="10544" y="16600"/>
                  <a:pt x="10527" y="16684"/>
                  <a:pt x="10517" y="16743"/>
                </a:cubicBezTo>
                <a:cubicBezTo>
                  <a:pt x="10630" y="16768"/>
                  <a:pt x="10785" y="16630"/>
                  <a:pt x="10889" y="16718"/>
                </a:cubicBezTo>
                <a:cubicBezTo>
                  <a:pt x="11090" y="16887"/>
                  <a:pt x="10653" y="17005"/>
                  <a:pt x="10592" y="170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24120" y="4125960"/>
            <a:ext cx="17640" cy="9360"/>
          </a:xfrm>
          <a:custGeom>
            <a:avLst/>
            <a:gdLst/>
            <a:ahLst/>
            <a:rect l="l" t="t" r="r" b="b"/>
            <a:pathLst>
              <a:path w="51" h="26">
                <a:moveTo>
                  <a:pt x="7565" y="11485"/>
                </a:moveTo>
                <a:cubicBezTo>
                  <a:pt x="7582" y="11477"/>
                  <a:pt x="7598" y="11468"/>
                  <a:pt x="7615" y="114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5040" y="4187880"/>
            <a:ext cx="36720" cy="9360"/>
          </a:xfrm>
          <a:custGeom>
            <a:avLst/>
            <a:gdLst/>
            <a:ahLst/>
            <a:rect l="l" t="t" r="r" b="b"/>
            <a:pathLst>
              <a:path w="100" h="26">
                <a:moveTo>
                  <a:pt x="7516" y="11658"/>
                </a:moveTo>
                <a:cubicBezTo>
                  <a:pt x="7549" y="11650"/>
                  <a:pt x="7582" y="11641"/>
                  <a:pt x="7615" y="116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20960" y="3929040"/>
            <a:ext cx="304920" cy="376200"/>
          </a:xfrm>
          <a:custGeom>
            <a:avLst/>
            <a:gdLst/>
            <a:ahLst/>
            <a:rect l="l" t="t" r="r" b="b"/>
            <a:pathLst>
              <a:path w="845" h="1043">
                <a:moveTo>
                  <a:pt x="8111" y="11088"/>
                </a:moveTo>
                <a:cubicBezTo>
                  <a:pt x="8204" y="10957"/>
                  <a:pt x="8261" y="10890"/>
                  <a:pt x="8409" y="10964"/>
                </a:cubicBezTo>
                <a:cubicBezTo>
                  <a:pt x="8409" y="11288"/>
                  <a:pt x="8231" y="11453"/>
                  <a:pt x="8037" y="11708"/>
                </a:cubicBezTo>
                <a:cubicBezTo>
                  <a:pt x="7934" y="11852"/>
                  <a:pt x="7918" y="11885"/>
                  <a:pt x="7838" y="11956"/>
                </a:cubicBezTo>
                <a:cubicBezTo>
                  <a:pt x="7894" y="11917"/>
                  <a:pt x="8082" y="11702"/>
                  <a:pt x="8136" y="11708"/>
                </a:cubicBezTo>
                <a:cubicBezTo>
                  <a:pt x="8316" y="11726"/>
                  <a:pt x="8386" y="11937"/>
                  <a:pt x="8607" y="11832"/>
                </a:cubicBezTo>
                <a:cubicBezTo>
                  <a:pt x="8632" y="11807"/>
                  <a:pt x="8657" y="11782"/>
                  <a:pt x="8682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70160" y="3884760"/>
            <a:ext cx="1800" cy="54000"/>
          </a:xfrm>
          <a:custGeom>
            <a:avLst/>
            <a:gdLst/>
            <a:ahLst/>
            <a:rect l="l" t="t" r="r" b="b"/>
            <a:pathLst>
              <a:path w="1" h="150">
                <a:moveTo>
                  <a:pt x="8806" y="10790"/>
                </a:moveTo>
                <a:cubicBezTo>
                  <a:pt x="8806" y="10840"/>
                  <a:pt x="8806" y="10889"/>
                  <a:pt x="8806" y="109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32080" y="3821040"/>
            <a:ext cx="9720" cy="90720"/>
          </a:xfrm>
          <a:custGeom>
            <a:avLst/>
            <a:gdLst/>
            <a:ahLst/>
            <a:rect l="l" t="t" r="r" b="b"/>
            <a:pathLst>
              <a:path w="26" h="249">
                <a:moveTo>
                  <a:pt x="9004" y="10616"/>
                </a:moveTo>
                <a:cubicBezTo>
                  <a:pt x="8975" y="10731"/>
                  <a:pt x="8967" y="10779"/>
                  <a:pt x="8979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33800" y="4044960"/>
            <a:ext cx="189000" cy="46080"/>
          </a:xfrm>
          <a:custGeom>
            <a:avLst/>
            <a:gdLst/>
            <a:ahLst/>
            <a:rect l="l" t="t" r="r" b="b"/>
            <a:pathLst>
              <a:path w="522" h="125">
                <a:moveTo>
                  <a:pt x="8706" y="11361"/>
                </a:moveTo>
                <a:cubicBezTo>
                  <a:pt x="8879" y="11318"/>
                  <a:pt x="9053" y="11282"/>
                  <a:pt x="9227" y="112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70160" y="4179960"/>
            <a:ext cx="9720" cy="142920"/>
          </a:xfrm>
          <a:custGeom>
            <a:avLst/>
            <a:gdLst/>
            <a:ahLst/>
            <a:rect l="l" t="t" r="r" b="b"/>
            <a:pathLst>
              <a:path w="25" h="397">
                <a:moveTo>
                  <a:pt x="8830" y="11609"/>
                </a:moveTo>
                <a:cubicBezTo>
                  <a:pt x="8810" y="11743"/>
                  <a:pt x="8806" y="11869"/>
                  <a:pt x="8806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1800" y="4179960"/>
            <a:ext cx="133200" cy="115920"/>
          </a:xfrm>
          <a:custGeom>
            <a:avLst/>
            <a:gdLst/>
            <a:ahLst/>
            <a:rect l="l" t="t" r="r" b="b"/>
            <a:pathLst>
              <a:path w="373" h="323">
                <a:moveTo>
                  <a:pt x="9029" y="11633"/>
                </a:moveTo>
                <a:cubicBezTo>
                  <a:pt x="9110" y="11607"/>
                  <a:pt x="9142" y="11599"/>
                  <a:pt x="9203" y="11609"/>
                </a:cubicBezTo>
                <a:cubicBezTo>
                  <a:pt x="9182" y="11753"/>
                  <a:pt x="9108" y="11786"/>
                  <a:pt x="9004" y="11881"/>
                </a:cubicBezTo>
                <a:cubicBezTo>
                  <a:pt x="9121" y="11910"/>
                  <a:pt x="9251" y="11917"/>
                  <a:pt x="9376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76680" y="3633840"/>
            <a:ext cx="866520" cy="804960"/>
          </a:xfrm>
          <a:custGeom>
            <a:avLst/>
            <a:gdLst/>
            <a:ahLst/>
            <a:rect l="l" t="t" r="r" b="b"/>
            <a:pathLst>
              <a:path w="2407" h="2233">
                <a:moveTo>
                  <a:pt x="8086" y="12303"/>
                </a:moveTo>
                <a:cubicBezTo>
                  <a:pt x="8530" y="12334"/>
                  <a:pt x="9016" y="12353"/>
                  <a:pt x="9451" y="12229"/>
                </a:cubicBezTo>
                <a:cubicBezTo>
                  <a:pt x="9903" y="12100"/>
                  <a:pt x="10108" y="11787"/>
                  <a:pt x="10120" y="11336"/>
                </a:cubicBezTo>
                <a:cubicBezTo>
                  <a:pt x="10131" y="10932"/>
                  <a:pt x="10009" y="10666"/>
                  <a:pt x="9699" y="10418"/>
                </a:cubicBezTo>
                <a:cubicBezTo>
                  <a:pt x="9418" y="10194"/>
                  <a:pt x="9042" y="10096"/>
                  <a:pt x="8682" y="10096"/>
                </a:cubicBezTo>
                <a:cubicBezTo>
                  <a:pt x="8404" y="10096"/>
                  <a:pt x="8123" y="10270"/>
                  <a:pt x="7938" y="10468"/>
                </a:cubicBezTo>
                <a:cubicBezTo>
                  <a:pt x="7742" y="10678"/>
                  <a:pt x="7691" y="11035"/>
                  <a:pt x="7714" y="11311"/>
                </a:cubicBezTo>
                <a:cubicBezTo>
                  <a:pt x="7734" y="11554"/>
                  <a:pt x="7766" y="11872"/>
                  <a:pt x="7962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Homework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W pg. 91  problems 1-11 odd on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0-11-01T17:56:09Z</dcterms:modified>
  <cp:revision>26</cp:revision>
  <dc:subject/>
  <dc:title>Unit 1 – Variables and Equations </dc:title>
</cp:coreProperties>
</file>